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03D-7F23-43CC-8DE3-A6074448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C7B-6F74-40A9-92DF-1DF01C0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4D2-2B98-4472-9F0B-22929E95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E4D-2054-42B7-B10B-3D68C4F6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12F-5347-4EDD-8BF9-4F9A546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27E-0A12-4F42-BBD7-56B75E6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04E-71D3-4DF1-9BB6-0417E54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853-B65D-4A81-B897-1887A6E4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B45-AF30-45F2-B40A-E23B54E9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C81-A4D8-4725-972F-630CE09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A3D-FFE5-4B88-A01F-6E834D7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B2B-3F44-4A08-915E-4DB9C93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 blank content slide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E3AE-F77F-4839-A827-FBBC83DE5FD1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 </a:t>
            </a: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 presentation b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kua Ofori-Asum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UC 2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men World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How will it be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CT@WORK Initiative is being situated within a coordinated approach comprising a number of inter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tting to Zero@Work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 No. 200 on HIV and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International Labour Stand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exists in complex relationships with poverty, inequality, discrimination and il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ers -  and their families, workplaces and communities that depend on them are - bearing the brunt of th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2590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rden is on the most vulnerable people in society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 is no longer a death sentence and PLHIV can expect to live long healthy and productive l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ly diagnosis is key and VCT is the gateway for access t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274680"/>
            <a:ext cx="6248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Rounded MT Bold"/>
              </a:rPr>
              <a:t>Union action contains a clear message: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rinciples, experience, networks and mass membership of trade unions are a shared resource and a potentially powerful tool in society’s search for new fronts, bold initiatives and effective action in response to the mitigation of the impact of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75d1"/>
                </a:solidFill>
                <a:latin typeface="Arial Rounded MT Bold"/>
              </a:rPr>
              <a:t>(</a:t>
            </a:r>
            <a:r>
              <a:rPr b="1" i="1" lang="en-US" sz="2000" spc="-1" strike="noStrike">
                <a:solidFill>
                  <a:srgbClr val="7575d1"/>
                </a:solidFill>
                <a:latin typeface="Arial"/>
              </a:rPr>
              <a:t>Global reach: how trade unions are responding to AIDS - Case studies of union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Rounded MT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ro new infections, zero discrimin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zero AIDS-related death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rt at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«Zéro nouvelle infection. Zéro discrimination. Zéro décès lié au sida. La réalisation de ce triple objectif </a:t>
            </a:r>
            <a:r>
              <a:rPr b="1" lang="fr-CH" sz="2800" spc="-1" strike="noStrike">
                <a:solidFill>
                  <a:srgbClr val="c00000"/>
                </a:solidFill>
                <a:latin typeface="Arial"/>
              </a:rPr>
              <a:t>commence sur le lieu de travail</a:t>
            </a: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.»</a:t>
            </a: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ran Burrow, General Secretary - International Trade Union Confederation (ITU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.....and </a:t>
            </a:r>
            <a:r>
              <a:rPr b="1" lang="en-GB" sz="5400" spc="-1" strike="noStrike">
                <a:solidFill>
                  <a:srgbClr val="c00000"/>
                </a:solidFill>
                <a:latin typeface="Microsoft New Tai Lue"/>
                <a:ea typeface="Microsoft New Tai Lue"/>
              </a:rPr>
              <a:t>YOU</a:t>
            </a: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 can make it happen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at is 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570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nched by the ILO and UNAIDS in June 2013 at the 10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es to achieving the global target of 15 million by 2015 (2011 Political Declaration on HIV and 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WHAT ARE THE OBJECTI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omot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IV testing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abl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ve million women and men work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(their spouses and community members) to know their status by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facilitat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cess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iretroviral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reatm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ART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women and men workers, (their spouses and community members) who test positive and are eligible for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Low levels of HIV testing (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NAIDS Repor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7.0 million people are currently eligible, but are not receiving 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jority do not know their HIV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Increased availability of treat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is no longer a death sen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treatments today are both effective and easier to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The unique contribution of the world of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orld of work constitutes the largest population of people living with HIV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the UN agency mandated to address world of work issues, the ILO’s comparative advantage is its ability to reach millions of workers in both the formal and informal econom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 more conducive legal and policy environment tha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s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partite HIV and AIDS national/sectoral workplac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legislation an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the capacity of labour judges, magistrates, parliamentarians, labour factory inspectors and other world of work actor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aking HIV testing IN and THROUGH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.e. a considerable amount of HTC will still take place within healthcare set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74680"/>
            <a:ext cx="6172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ere and When will the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Initiative be implem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wo-phase approach will be taken to operationalize the VCT@WORK Initiative at the country level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irst phase will b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 few countries where there is already political buy-in and expressed commitment to the initiative (Brazil, Ghana, India, Indonesia, Nigeria and South Af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Where and W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hasis will be placed on UNAIDS High Impact Countries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O and its partners will undertake a global mapping exercise to identify on-go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effort will be made to support VCT initiatives that the ILO‘s constituents could associate themselv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00000"/>
                </a:solidFill>
                <a:latin typeface="Arial"/>
              </a:rPr>
              <a:t>How should the VCT tests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itiative is not a one-size-fits-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C conducted as part of an integrated health and wellness test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pproaches: CICT – VCT, PICT, HIV Self-Testing, Couples Testing and Multi-disease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Which principles must be adhered to</a:t>
            </a:r>
            <a:r>
              <a:rPr b="1" lang="en-GB" sz="4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ey principles for HIV Testing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se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c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 to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1:03:28Z</dcterms:created>
  <dc:creator>ILO HIV</dc:creator>
  <dc:description/>
  <dc:language>en-US</dc:language>
  <cp:lastModifiedBy>Ofori-Asumadu</cp:lastModifiedBy>
  <dcterms:modified xsi:type="dcterms:W3CDTF">2013-11-19T19:48:40Z</dcterms:modified>
  <cp:revision>21</cp:revision>
  <dc:subject/>
  <dc:title>THE VCT@WORK INITIATIVE</dc:title>
</cp:coreProperties>
</file>