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5823-8371-4486-801A-08290B2B3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ED89-DC56-4823-BBD6-37A345D81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2A56-BE3E-4739-9117-BDED48C98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2A47-8C6F-4B29-8B51-CBC976877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8B0F-DCC5-45F2-945E-526CEEACF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2E39-F0AA-4F3E-9559-63D453F92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ABB3-1107-41DB-917D-28A77FEFC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A958-C8C7-4CE1-A253-A96794910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9C1D-BCAE-426D-82A9-794B877DB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971D-985F-4ACB-8E69-A755DDE9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47F7-41D1-42CC-BBE0-11095476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BBE2-EDD5-4CE4-B011-865525EF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PP blank content slide"/>
          <p:cNvPicPr/>
          <p:nvPr/>
        </p:nvPicPr>
        <p:blipFill>
          <a:blip r:embed="rId2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D87CC-A667-4200-BF01-FEECA46B759C}" type="slidenum">
              <a:rPr b="0" lang="fr-CH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772400" cy="207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0000"/>
                </a:solidFill>
                <a:latin typeface="Arial"/>
              </a:rPr>
              <a:t>THE VCT</a:t>
            </a:r>
            <a:r>
              <a:rPr b="1" i="1" lang="en-GB" sz="4000" spc="-1" strike="noStrike">
                <a:solidFill>
                  <a:srgbClr val="c00000"/>
                </a:solidFill>
                <a:latin typeface="Arial"/>
              </a:rPr>
              <a:t>@</a:t>
            </a:r>
            <a:r>
              <a:rPr b="1" i="1" lang="en-GB" sz="4000" spc="-1" strike="noStrike">
                <a:solidFill>
                  <a:srgbClr val="000000"/>
                </a:solidFill>
                <a:latin typeface="Arial"/>
              </a:rPr>
              <a:t>WORK INITIATIVE </a:t>
            </a:r>
            <a:br>
              <a:rPr sz="4000"/>
            </a:br>
            <a:r>
              <a:rPr b="1" i="1" lang="en-GB" sz="4000" spc="-1" strike="noStrike">
                <a:solidFill>
                  <a:srgbClr val="000000"/>
                </a:solidFill>
                <a:latin typeface="Arial"/>
              </a:rPr>
              <a:t>a presentation b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04560" y="388620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kua Ofori-Asuma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TUC 2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Women World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90560" y="2743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c00000"/>
                </a:solidFill>
                <a:latin typeface="Arial"/>
              </a:rPr>
              <a:t>How will it be differ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VCT@WORK Initiative is being situated within a coordinated approach comprising a number of interven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Getting to Zero@Work Campa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ommendation No. 200 on HIV and A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 International Labour Standar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8580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Arial"/>
              </a:rPr>
              <a:t>Why do Trade Union need to do anything about VCT</a:t>
            </a:r>
            <a:r>
              <a:rPr b="1" lang="en-GB" sz="4400" spc="-1" strike="noStrike">
                <a:solidFill>
                  <a:srgbClr val="ff0000"/>
                </a:solidFill>
                <a:latin typeface="Arial"/>
              </a:rPr>
              <a:t>@</a:t>
            </a:r>
            <a:r>
              <a:rPr b="1" lang="en-GB" sz="4400" spc="-1" strike="noStrike">
                <a:solidFill>
                  <a:srgbClr val="333399"/>
                </a:solidFill>
                <a:latin typeface="Arial"/>
              </a:rPr>
              <a:t>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28240" y="23623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Becau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V exists in complex relationships with poverty, inequality, discrimination and illite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kers -  and their families, workplaces and communities that depend on them are - bearing the brunt of the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8580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Arial"/>
              </a:rPr>
              <a:t>Why do Trade Union need to do anything about VCT</a:t>
            </a:r>
            <a:r>
              <a:rPr b="1" lang="en-GB" sz="4400" spc="-1" strike="noStrike">
                <a:solidFill>
                  <a:srgbClr val="ff0000"/>
                </a:solidFill>
                <a:latin typeface="Arial"/>
              </a:rPr>
              <a:t>@</a:t>
            </a:r>
            <a:r>
              <a:rPr b="1" lang="en-GB" sz="4400" spc="-1" strike="noStrike">
                <a:solidFill>
                  <a:srgbClr val="333399"/>
                </a:solidFill>
                <a:latin typeface="Arial"/>
              </a:rPr>
              <a:t>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28240" y="259056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urden is on the most vulnerable people in society: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om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children and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IV is no longer a death sentence and PLHIV can expect to live long healthy and productive l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rly diagnosis is key and VCT is the gateway for access to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95120" y="274680"/>
            <a:ext cx="624852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Rounded MT Bold"/>
              </a:rPr>
              <a:t>Union action contains a clear message:</a:t>
            </a: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0" y="1904760"/>
            <a:ext cx="9144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he principles, experience, networks and mass membership of trade unions are a shared resource and a potentially powerful tool in society’s search for new fronts, bold initiatives and effective action in response to the mitigation of the impact of H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575d1"/>
                </a:solidFill>
                <a:latin typeface="Arial Rounded MT Bold"/>
              </a:rPr>
              <a:t>(</a:t>
            </a:r>
            <a:r>
              <a:rPr b="1" i="1" lang="en-US" sz="2000" spc="-1" strike="noStrike">
                <a:solidFill>
                  <a:srgbClr val="7575d1"/>
                </a:solidFill>
                <a:latin typeface="Arial"/>
              </a:rPr>
              <a:t>Global reach: how trade unions are responding to AIDS - Case studies of union a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rial Rounded MT Bold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ero new infections, zero discriminatio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zero AIDS-related deaths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tart at work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c00000"/>
                </a:solidFill>
                <a:latin typeface="Arial"/>
              </a:rPr>
              <a:t>«Zéro nouvelle infection. Zéro discrimination. Zéro décès lié au sida. La réalisation de ce triple objectif </a:t>
            </a:r>
            <a:r>
              <a:rPr b="1" lang="fr-CH" sz="2800" spc="-1" strike="noStrike">
                <a:solidFill>
                  <a:srgbClr val="c00000"/>
                </a:solidFill>
                <a:latin typeface="Arial"/>
              </a:rPr>
              <a:t>commence sur le lieu de travail</a:t>
            </a:r>
            <a:r>
              <a:rPr b="0" lang="fr-CH" sz="2800" spc="-1" strike="noStrike">
                <a:solidFill>
                  <a:srgbClr val="c00000"/>
                </a:solidFill>
                <a:latin typeface="Arial"/>
              </a:rPr>
              <a:t>.»</a:t>
            </a:r>
            <a:r>
              <a:rPr b="1" lang="en-GB" sz="2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Sharan Burrow, General Secretary - International Trade Union Confederation (ITU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16002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Microsoft New Tai Lue"/>
                <a:ea typeface="Microsoft New Tai Lue"/>
              </a:rPr>
              <a:t>.....and </a:t>
            </a:r>
            <a:r>
              <a:rPr b="1" lang="en-GB" sz="5400" spc="-1" strike="noStrike">
                <a:solidFill>
                  <a:srgbClr val="c00000"/>
                </a:solidFill>
                <a:latin typeface="Microsoft New Tai Lue"/>
                <a:ea typeface="Microsoft New Tai Lue"/>
              </a:rPr>
              <a:t>YOU</a:t>
            </a:r>
            <a:r>
              <a:rPr b="1" lang="en-GB" sz="5400" spc="-1" strike="noStrike">
                <a:solidFill>
                  <a:srgbClr val="000000"/>
                </a:solidFill>
                <a:latin typeface="Microsoft New Tai Lue"/>
                <a:ea typeface="Microsoft New Tai Lue"/>
              </a:rPr>
              <a:t> can make it happen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1" lang="en-GB" sz="5400" spc="-1" strike="noStrike">
                <a:solidFill>
                  <a:srgbClr val="000000"/>
                </a:solidFill>
                <a:latin typeface="comic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520" y="2743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0000"/>
                </a:solidFill>
                <a:latin typeface="Arial"/>
              </a:rPr>
              <a:t>What is the VCT</a:t>
            </a:r>
            <a:r>
              <a:rPr b="1" i="1" lang="en-GB" sz="4000" spc="-1" strike="noStrike">
                <a:solidFill>
                  <a:srgbClr val="c00000"/>
                </a:solidFill>
                <a:latin typeface="Arial"/>
              </a:rPr>
              <a:t>@</a:t>
            </a:r>
            <a:r>
              <a:rPr b="1" i="1" lang="en-GB" sz="4000" spc="-1" strike="noStrike">
                <a:solidFill>
                  <a:srgbClr val="000000"/>
                </a:solidFill>
                <a:latin typeface="Arial"/>
              </a:rPr>
              <a:t>WORK Initiat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205704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unched by the ILO and UNAIDS in June 2013 at the 102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ributes to achieving the global target of 15 million by 2015 (2011 Political Declaration on HIV and AI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76720" y="274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00000"/>
                </a:solidFill>
                <a:latin typeface="Arial"/>
              </a:rPr>
              <a:t>WHAT ARE THE OBJECTIV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094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promote 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HIV testing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enable 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five million women and men worker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(their spouses and community members) to know their status by 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facilitate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access to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ntiretroviral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treatment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(ART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or women and men workers, (their spouses and community members) who test positive and are eligible for 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6668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Arial"/>
              </a:rPr>
              <a:t>Why the </a:t>
            </a:r>
            <a:r>
              <a:rPr b="1" i="1" lang="en-GB" sz="4400" spc="-1" strike="noStrike">
                <a:solidFill>
                  <a:srgbClr val="000000"/>
                </a:solidFill>
                <a:latin typeface="Arial"/>
              </a:rPr>
              <a:t>VCT</a:t>
            </a:r>
            <a:r>
              <a:rPr b="1" i="1" lang="en-GB" sz="4400" spc="-1" strike="noStrike">
                <a:solidFill>
                  <a:srgbClr val="c00000"/>
                </a:solidFill>
                <a:latin typeface="Arial"/>
              </a:rPr>
              <a:t>@</a:t>
            </a:r>
            <a:r>
              <a:rPr b="1" i="1" lang="en-GB" sz="4400" spc="-1" strike="noStrike">
                <a:solidFill>
                  <a:srgbClr val="000000"/>
                </a:solidFill>
                <a:latin typeface="Arial"/>
              </a:rPr>
              <a:t>WORK </a:t>
            </a:r>
            <a:r>
              <a:rPr b="1" i="1" lang="en-GB" sz="4400" spc="-1" strike="noStrike">
                <a:solidFill>
                  <a:srgbClr val="000000"/>
                </a:solidFill>
                <a:latin typeface="Arial"/>
              </a:rPr>
              <a:t>Initiati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0" y="19051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500" spc="-1" strike="noStrike">
                <a:solidFill>
                  <a:srgbClr val="000000"/>
                </a:solidFill>
                <a:latin typeface="Arial"/>
              </a:rPr>
              <a:t>Low levels of HIV testing (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UNAIDS Report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bout 7.0 million people are currently eligible, but are not receiving treat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majority do not know their HIV stat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500" spc="-1" strike="noStrike">
                <a:solidFill>
                  <a:srgbClr val="000000"/>
                </a:solidFill>
                <a:latin typeface="Arial"/>
              </a:rPr>
              <a:t>Increased availability of treatm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IV is no longer a death sent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IV treatments today are both effective and easier to ta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500" spc="-1" strike="noStrike">
                <a:solidFill>
                  <a:srgbClr val="000000"/>
                </a:solidFill>
                <a:latin typeface="Arial"/>
              </a:rPr>
              <a:t>The unique contribution of the world of wor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world of work constitutes the largest population of people living with HIV glob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s the UN agency mandated to address world of work issues, the ILO’s comparative advantage is its ability to reach millions of workers in both the formal and informal economi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Arial"/>
              </a:rPr>
              <a:t>Why the </a:t>
            </a:r>
            <a:r>
              <a:rPr b="1" i="1" lang="en-GB" sz="4400" spc="-1" strike="noStrike">
                <a:solidFill>
                  <a:srgbClr val="000000"/>
                </a:solidFill>
                <a:latin typeface="Arial"/>
              </a:rPr>
              <a:t>VCT</a:t>
            </a:r>
            <a:r>
              <a:rPr b="1" i="1" lang="en-GB" sz="4400" spc="-1" strike="noStrike">
                <a:solidFill>
                  <a:srgbClr val="c00000"/>
                </a:solidFill>
                <a:latin typeface="Arial"/>
              </a:rPr>
              <a:t>@</a:t>
            </a:r>
            <a:r>
              <a:rPr b="1" i="1" lang="en-GB" sz="4400" spc="-1" strike="noStrike">
                <a:solidFill>
                  <a:srgbClr val="000000"/>
                </a:solidFill>
                <a:latin typeface="Arial"/>
              </a:rPr>
              <a:t>WORK </a:t>
            </a:r>
            <a:r>
              <a:rPr b="1" i="1" lang="en-GB" sz="4400" spc="-1" strike="noStrike">
                <a:solidFill>
                  <a:srgbClr val="000000"/>
                </a:solidFill>
                <a:latin typeface="Arial"/>
              </a:rPr>
              <a:t>Initiati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A more conducive legal and policy environment that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ilds up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ipartite HIV and AIDS national/sectoral workplace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our legislation and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ilding the capacity of labour judges, magistrates, parliamentarians, labour factory inspectors and other world of work actors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Taking HIV testing IN and THROUGH the work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.e. a considerable amount of HTC will still take place within healthcare settin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74680"/>
            <a:ext cx="61722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0000"/>
                </a:solidFill>
                <a:latin typeface="Arial"/>
              </a:rPr>
              <a:t>Where and When will the </a:t>
            </a:r>
            <a:r>
              <a:rPr b="1" i="1" lang="en-GB" sz="4000" spc="-1" strike="noStrike">
                <a:solidFill>
                  <a:srgbClr val="000000"/>
                </a:solidFill>
                <a:latin typeface="Arial"/>
              </a:rPr>
              <a:t>VCT</a:t>
            </a:r>
            <a:r>
              <a:rPr b="1" i="1" lang="en-GB" sz="4000" spc="-1" strike="noStrike">
                <a:solidFill>
                  <a:srgbClr val="c00000"/>
                </a:solidFill>
                <a:latin typeface="Arial"/>
              </a:rPr>
              <a:t>@</a:t>
            </a:r>
            <a:r>
              <a:rPr b="1" i="1" lang="en-GB" sz="4000" spc="-1" strike="noStrike">
                <a:solidFill>
                  <a:srgbClr val="000000"/>
                </a:solidFill>
                <a:latin typeface="Arial"/>
              </a:rPr>
              <a:t>WORK </a:t>
            </a:r>
            <a:r>
              <a:rPr b="1" i="1" lang="en-GB" sz="4000" spc="-1" strike="noStrike">
                <a:solidFill>
                  <a:srgbClr val="000000"/>
                </a:solidFill>
                <a:latin typeface="Arial"/>
              </a:rPr>
              <a:t>Initiative be implemen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3352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two-phase approach will be taken to operationalize the VCT@WORK Initiative at the country level 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first phase will be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a few countries where there is already political buy-in and expressed commitment to the initiative (Brazil, Ghana, India, Indonesia, Nigeria and South Afric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086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c00000"/>
                </a:solidFill>
                <a:latin typeface="Arial"/>
              </a:rPr>
              <a:t>Where and Wh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phasis will be placed on UNAIDS High Impact Countriesi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LO and its partners will undertake a global mapping exercise to identify on-going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ery effort will be made to support VCT initiatives that the ILO‘s constituents could associate themselve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971440" y="0"/>
            <a:ext cx="5715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c00000"/>
                </a:solidFill>
                <a:latin typeface="Arial"/>
              </a:rPr>
              <a:t>How should the VCT tests be carried 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0" y="20570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initiative is not a one-size-fits-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C conducted as part of an integrated health and wellness testing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nd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fferent approaches: CICT – VCT, PICT, HIV Self-Testing, Couples Testing and Multi-disease campa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28640" y="274320"/>
            <a:ext cx="52578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c00000"/>
                </a:solidFill>
                <a:latin typeface="Arial"/>
              </a:rPr>
              <a:t>Which principles must be adhered to</a:t>
            </a:r>
            <a:r>
              <a:rPr b="1" lang="en-GB" sz="4000" spc="-1" strike="noStrike">
                <a:solidFill>
                  <a:srgbClr val="c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key principles for HIV Testing ar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s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fidentiality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unselling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venience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nection to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3T11:03:28Z</dcterms:created>
  <dc:creator>ILO HIV</dc:creator>
  <dc:description/>
  <dc:language>en-US</dc:language>
  <cp:lastModifiedBy>Ofori-Asumadu</cp:lastModifiedBy>
  <dcterms:modified xsi:type="dcterms:W3CDTF">2013-11-19T19:48:40Z</dcterms:modified>
  <cp:revision>21</cp:revision>
  <dc:subject/>
  <dc:title>THE VCT@WORK INITIATIVE</dc:title>
</cp:coreProperties>
</file>