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B77-357E-4A7B-972B-9E632D26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2FE-5027-4C83-A53B-562883E1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D2C-94D2-404B-9905-3D357D28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E20-D7FC-466F-85BA-04D955B9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E83-EF27-4158-A66A-FE856D6C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3D5-ABAD-4E35-91CC-0C8C2A16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9F7-3B43-4C0A-8A22-6CF2E95A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749-4183-4A8D-8DA4-A24565C3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2DA-3040-4635-8CD4-63CE1B8D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472-DCF4-4195-889C-BA41E9E8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121-68BB-4342-AB62-FA082812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7ED-7C43-4A69-8936-BE922B45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 blank content slide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5985-703C-4008-95FA-AD30A3864E2C}" type="slidenum">
              <a:rPr b="0" lang="fr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THE VCT</a:t>
            </a: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ORK INITIATIVE </a:t>
            </a: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 presentation b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kua Ofori-Asum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UC 2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Women World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How will it be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CT@WORK Initiative is being situated within a coordinated approach comprising a number of inter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tting to Zero@Work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 No. 200 on HIV and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International Labour Stand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8580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hy do Trade Union need to do anything about VCT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240" y="23623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V exists in complex relationships with poverty, inequality, discrimination and il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ers -  and their families, workplaces and communities that depend on them are - bearing the brunt of the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8580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hy do Trade Union need to do anything about VCT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240" y="2590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rden is on the most vulnerable people in society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 an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V is no longer a death sentence and PLHIV can expect to live long healthy and productive l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ly diagnosis is key and VCT is the gateway for access to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274680"/>
            <a:ext cx="6248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Rounded MT Bold"/>
              </a:rPr>
              <a:t>Union action contains a clear message: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9047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principles, experience, networks and mass membership of trade unions are a shared resource and a potentially powerful tool in society’s search for new fronts, bold initiatives and effective action in response to the mitigation of the impact of 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75d1"/>
                </a:solidFill>
                <a:latin typeface="Arial Rounded MT Bold"/>
              </a:rPr>
              <a:t>(</a:t>
            </a:r>
            <a:r>
              <a:rPr b="1" i="1" lang="en-US" sz="2000" spc="-1" strike="noStrike">
                <a:solidFill>
                  <a:srgbClr val="7575d1"/>
                </a:solidFill>
                <a:latin typeface="Arial"/>
              </a:rPr>
              <a:t>Global reach: how trade unions are responding to AIDS - Case studies of union 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Rounded MT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ero new infections, zero discrimin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zero AIDS-related death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rt at wor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c00000"/>
                </a:solidFill>
                <a:latin typeface="Arial"/>
              </a:rPr>
              <a:t>«Zéro nouvelle infection. Zéro discrimination. Zéro décès lié au sida. La réalisation de ce triple objectif </a:t>
            </a:r>
            <a:r>
              <a:rPr b="1" lang="fr-CH" sz="2800" spc="-1" strike="noStrike">
                <a:solidFill>
                  <a:srgbClr val="c00000"/>
                </a:solidFill>
                <a:latin typeface="Arial"/>
              </a:rPr>
              <a:t>commence sur le lieu de travail</a:t>
            </a:r>
            <a:r>
              <a:rPr b="0" lang="fr-CH" sz="2800" spc="-1" strike="noStrike">
                <a:solidFill>
                  <a:srgbClr val="c00000"/>
                </a:solidFill>
                <a:latin typeface="Arial"/>
              </a:rPr>
              <a:t>.»</a:t>
            </a:r>
            <a:r>
              <a:rPr b="1" lang="en-GB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aran Burrow, General Secretary - International Trade Union Confederation (ITU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Microsoft New Tai Lue"/>
                <a:ea typeface="Microsoft New Tai Lue"/>
              </a:rPr>
              <a:t>.....and </a:t>
            </a:r>
            <a:r>
              <a:rPr b="1" lang="en-GB" sz="5400" spc="-1" strike="noStrike">
                <a:solidFill>
                  <a:srgbClr val="c00000"/>
                </a:solidFill>
                <a:latin typeface="Microsoft New Tai Lue"/>
                <a:ea typeface="Microsoft New Tai Lue"/>
              </a:rPr>
              <a:t>YOU</a:t>
            </a:r>
            <a:r>
              <a:rPr b="1" lang="en-GB" sz="5400" spc="-1" strike="noStrike">
                <a:solidFill>
                  <a:srgbClr val="000000"/>
                </a:solidFill>
                <a:latin typeface="Microsoft New Tai Lue"/>
                <a:ea typeface="Microsoft New Tai Lue"/>
              </a:rPr>
              <a:t> can make it happen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hat is the VCT</a:t>
            </a: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ORK Initi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0570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unched by the ILO and UNAIDS in June 2013 at the 10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ibutes to achieving the global target of 15 million by 2015 (2011 Political Declaration on HIV and A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WHAT ARE THE OBJECTIV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promote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HIV testing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able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ve million women and men work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(their spouses and community members) to know their status by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facilitat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cess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tiretroviral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reatme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ART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women and men workers, (their spouses and community members) who test positive and are eligible for 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hy the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VCT</a:t>
            </a:r>
            <a:r>
              <a:rPr b="1" i="1" lang="en-GB" sz="44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Initi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Low levels of HIV testing (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UNAIDS Repor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out 7.0 million people are currently eligible, but are not receiving trea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ajority do not know their HIV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Increased availability of treat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V is no longer a death sen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V treatments today are both effective and easier to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The unique contribution of the world of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world of work constitutes the largest population of people living with HIV glob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the UN agency mandated to address world of work issues, the ILO’s comparative advantage is its ability to reach millions of workers in both the formal and informal econom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hy the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VCT</a:t>
            </a:r>
            <a:r>
              <a:rPr b="1" i="1" lang="en-GB" sz="44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Initi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 more conducive legal and policy environment tha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s up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partite HIV and AIDS national/sectoral workplac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ur legislation and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the capacity of labour judges, magistrates, parliamentarians, labour factory inspectors and other world of work actor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Taking HIV testing IN and THROUGH the work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.e. a considerable amount of HTC will still take place within healthcare sett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74680"/>
            <a:ext cx="6172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here and When will the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VCT</a:t>
            </a: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Initiative be implemen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two-phase approach will be taken to operationalize the VCT@WORK Initiative at the country level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first phase will b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 few countries where there is already political buy-in and expressed commitment to the initiative (Brazil, Ghana, India, Indonesia, Nigeria and South Afr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00000"/>
                </a:solidFill>
                <a:latin typeface="Arial"/>
              </a:rPr>
              <a:t>Where and W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hasis will be placed on UNAIDS High Impact Countries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O and its partners will undertake a global mapping exercise to identify on-go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effort will be made to support VCT initiatives that the ILO‘s constituents could associate themselv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00000"/>
                </a:solidFill>
                <a:latin typeface="Arial"/>
              </a:rPr>
              <a:t>How should the VCT tests be carrie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itiative is not a one-size-fits-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C conducted as part of an integrated health and wellness test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pproaches: CICT – VCT, PICT, HIV Self-Testing, Couples Testing and Multi-disease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Which principles must be adhered to</a:t>
            </a:r>
            <a:r>
              <a:rPr b="1" lang="en-GB" sz="4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ey principles for HIV Testing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dentiali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sell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c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nection to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1:03:28Z</dcterms:created>
  <dc:creator>ILO HIV</dc:creator>
  <dc:description/>
  <dc:language>en-US</dc:language>
  <cp:lastModifiedBy>Ofori-Asumadu</cp:lastModifiedBy>
  <dcterms:modified xsi:type="dcterms:W3CDTF">2013-11-19T19:48:40Z</dcterms:modified>
  <cp:revision>21</cp:revision>
  <dc:subject/>
  <dc:title>THE VCT@WORK INITIATIVE</dc:title>
</cp:coreProperties>
</file>