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06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52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06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52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Aft>
                <a:spcPts val="19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21840" y="53640"/>
            <a:ext cx="79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Aft>
                <a:spcPts val="19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Aft>
                <a:spcPts val="19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06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52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564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06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52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Aft>
                <a:spcPts val="19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21840" y="53640"/>
            <a:ext cx="79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Aft>
                <a:spcPts val="19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06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5200" y="155736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5564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06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5200" y="3921480"/>
            <a:ext cx="2480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21840" y="53640"/>
            <a:ext cx="792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Aft>
                <a:spcPts val="19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92148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557360"/>
            <a:ext cx="375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921480"/>
            <a:ext cx="770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baggrund til ppt"/>
          <p:cNvPicPr/>
          <p:nvPr/>
        </p:nvPicPr>
        <p:blipFill>
          <a:blip r:embed="rId2"/>
          <a:stretch/>
        </p:blipFill>
        <p:spPr>
          <a:xfrm>
            <a:off x="-108000" y="-142920"/>
            <a:ext cx="9326520" cy="1268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aggrund-bund til ppt"/>
          <p:cNvPicPr/>
          <p:nvPr/>
        </p:nvPicPr>
        <p:blipFill>
          <a:blip r:embed="rId3"/>
          <a:srcRect l="0" t="18612" r="0" b="0"/>
          <a:stretch/>
        </p:blipFill>
        <p:spPr>
          <a:xfrm>
            <a:off x="-90360" y="6308640"/>
            <a:ext cx="9326520" cy="6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Click to edit the outline text forma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con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Thir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3" marL="16002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our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4" marL="20574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if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5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ix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6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ven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221840" y="6408360"/>
            <a:ext cx="770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6280a7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gobaggrund til ppt"/>
          <p:cNvPicPr/>
          <p:nvPr/>
        </p:nvPicPr>
        <p:blipFill>
          <a:blip r:embed="rId2"/>
          <a:stretch/>
        </p:blipFill>
        <p:spPr>
          <a:xfrm>
            <a:off x="-108000" y="-142920"/>
            <a:ext cx="9326520" cy="126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baggrund-bund til ppt"/>
          <p:cNvPicPr/>
          <p:nvPr/>
        </p:nvPicPr>
        <p:blipFill>
          <a:blip r:embed="rId3"/>
          <a:srcRect l="0" t="18612" r="0" b="0"/>
          <a:stretch/>
        </p:blipFill>
        <p:spPr>
          <a:xfrm>
            <a:off x="-90360" y="6308640"/>
            <a:ext cx="9326520" cy="625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Click to edit the outline text forma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con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Thir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3" marL="16002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our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4" marL="20574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if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5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ix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6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ven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221840" y="6408360"/>
            <a:ext cx="770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6280a7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gobaggrund til ppt"/>
          <p:cNvPicPr/>
          <p:nvPr/>
        </p:nvPicPr>
        <p:blipFill>
          <a:blip r:embed="rId2"/>
          <a:stretch/>
        </p:blipFill>
        <p:spPr>
          <a:xfrm>
            <a:off x="-112680" y="-190440"/>
            <a:ext cx="9350280" cy="711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Click to edit the outline text forma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con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Third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3" marL="16002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our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4" marL="2057400" indent="-2286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if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5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ix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6" marL="2057400" indent="-228600">
              <a:lnSpc>
                <a:spcPct val="80000"/>
              </a:lnSpc>
              <a:spcAft>
                <a:spcPts val="1939"/>
              </a:spcAft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Seventh Outline Level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3"/>
          </p:nvPr>
        </p:nvSpPr>
        <p:spPr>
          <a:xfrm>
            <a:off x="1221840" y="6408360"/>
            <a:ext cx="770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6280a7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2200" y="3068280"/>
            <a:ext cx="69501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Gill Sans MT"/>
              </a:rPr>
              <a:t>A post-2015 development framework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86920" y="5013360"/>
            <a:ext cx="73105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19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ill Sans MT"/>
              </a:rPr>
              <a:t>Lars Engberg-Pedersen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 MT"/>
              </a:rPr>
              <a:t>Senior researcher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The strength of the MDG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Focus on poverty reduction and well-being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A limited set of simple goal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Focus on outcome, not inpu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Focus on objectives, not mean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Goals supplied with indicators enabling annual monitoring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Good time frame, not too long, not too shor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27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Gill Sans MT"/>
              </a:rPr>
              <a:t>The weaknesses of the MDG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100" spc="-1" strike="noStrike">
                <a:solidFill>
                  <a:srgbClr val="003768"/>
                </a:solidFill>
                <a:latin typeface="Gill Sans MT"/>
              </a:rPr>
              <a:t>Too much focus on developing countries, too little on rich countrie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100" spc="-1" strike="noStrike">
                <a:solidFill>
                  <a:srgbClr val="003768"/>
                </a:solidFill>
                <a:latin typeface="Gill Sans MT"/>
              </a:rPr>
              <a:t>Too strong focus on social aspects of life, too little on employment and production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100" spc="-1" strike="noStrike">
                <a:solidFill>
                  <a:srgbClr val="003768"/>
                </a:solidFill>
                <a:latin typeface="Gill Sans MT"/>
              </a:rPr>
              <a:t>Too little concern with the political dimensions of poverty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100" spc="-1" strike="noStrike">
                <a:solidFill>
                  <a:srgbClr val="003768"/>
                </a:solidFill>
                <a:latin typeface="Gill Sans MT"/>
              </a:rPr>
              <a:t>Too little concern with inequality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100" spc="-1" strike="noStrike">
                <a:solidFill>
                  <a:srgbClr val="003768"/>
                </a:solidFill>
                <a:latin typeface="Gill Sans MT"/>
              </a:rPr>
              <a:t>Irrelevant in many country context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30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Gill Sans MT"/>
              </a:rPr>
              <a:t>Current global change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6407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Poverty is increasingly a result of international processes (climate change, rising food and fuel prices, financial crisis…)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A chaotic ‘aid architecture’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Heterogeneous development paths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75% of the world’s poor live in middle income countries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Changes in the balance of global power due to rising ‘emerging economies’, economic crisis, aging populations in rich countries, etc.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  <a:p>
            <a:pPr marL="322200" indent="-322200">
              <a:lnSpc>
                <a:spcPct val="70000"/>
              </a:lnSpc>
              <a:spcAft>
                <a:spcPts val="174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Aid resources are dwarfed by other financial flows (FDI, remittances, philanthropy, illicit capital flows, etc.)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ffffff"/>
                </a:solidFill>
                <a:latin typeface="Gill Sans MT"/>
              </a:rPr>
              <a:t>Current contentious issues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Inequality or ‘getting to zero’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Climate change and development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Global or universal goal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Ends and/or mean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Financing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768"/>
                </a:solidFill>
                <a:latin typeface="Gill Sans MT"/>
              </a:rPr>
              <a:t>A changing world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36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Gill Sans MT"/>
              </a:rPr>
              <a:t>Inequality in the post-2015 framework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Gender equality – probably ye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Social protection floors – ye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Measurement of progress among the poorest – yes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Aft>
                <a:spcPts val="1939"/>
              </a:spcAft>
              <a:buClr>
                <a:srgbClr val="0037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3768"/>
                </a:solidFill>
                <a:latin typeface="Gill Sans MT"/>
              </a:rPr>
              <a:t>Stand-alone goal on reduced inequality – not likely</a:t>
            </a:r>
            <a:endParaRPr b="0" lang="en-US" sz="3100" spc="-1" strike="noStrike">
              <a:solidFill>
                <a:srgbClr val="003768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Aft>
                <a:spcPts val="1749"/>
              </a:spcAft>
              <a:buClr>
                <a:srgbClr val="003768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8"/>
                </a:solidFill>
                <a:latin typeface="Gill Sans MT"/>
              </a:rPr>
              <a:t>A possibility is to use the Palma ratio dividing the income of the top 10% with the income of the bottom 40%</a:t>
            </a:r>
            <a:endParaRPr b="0" lang="en-US" sz="2800" spc="-1" strike="noStrike">
              <a:solidFill>
                <a:srgbClr val="003768"/>
              </a:solidFill>
              <a:latin typeface="Gill Sans MT"/>
            </a:endParaRPr>
          </a:p>
        </p:txBody>
      </p:sp>
      <p:sp>
        <p:nvSpPr>
          <p:cNvPr id="139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1840" y="53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ffffff"/>
                </a:solidFill>
                <a:latin typeface="Gill Sans MT"/>
              </a:rPr>
              <a:t>Possible goal: Halving the Palma ratio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71640" y="1628640"/>
          <a:ext cx="7388280" cy="4410360"/>
        </p:xfrm>
        <a:graphic>
          <a:graphicData uri="http://schemas.openxmlformats.org/drawingml/2006/table">
            <a:tbl>
              <a:tblPr/>
              <a:tblGrid>
                <a:gridCol w="2462040"/>
                <a:gridCol w="2462400"/>
                <a:gridCol w="2463840"/>
              </a:tblGrid>
              <a:tr h="466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lma rat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lma ratio 2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olivia (20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8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9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azil (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lgaria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rkina Faso (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8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hina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nmark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ance (19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rmany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hana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5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apan (19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laysia (20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6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herlands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 Africa (20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nzania (20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6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ted Kingdom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ted States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b6dcdf"/>
                      </a:solidFill>
                    </a:lnL>
                    <a:lnR w="4320">
                      <a:solidFill>
                        <a:srgbClr val="b6dcdf"/>
                      </a:solidFill>
                    </a:lnR>
                    <a:lnT w="4320">
                      <a:solidFill>
                        <a:srgbClr val="b6dcdf"/>
                      </a:solidFill>
                    </a:lnT>
                    <a:lnB w="4320">
                      <a:solidFill>
                        <a:srgbClr val="b6dcd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dsholder til sidefod 3"/>
          <p:cNvSpPr/>
          <p:nvPr/>
        </p:nvSpPr>
        <p:spPr>
          <a:xfrm>
            <a:off x="1222200" y="6408720"/>
            <a:ext cx="770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80a7"/>
                </a:solidFill>
                <a:latin typeface="Gill Sans MT"/>
              </a:rPr>
              <a:t>DIIS ∙ DANISH INSTITUTE FOR INTERN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9:56:44Z</dcterms:created>
  <dc:creator>Anine Kristensen</dc:creator>
  <dc:description/>
  <dc:language>en-US</dc:language>
  <cp:lastModifiedBy>Marion Levillain</cp:lastModifiedBy>
  <dcterms:modified xsi:type="dcterms:W3CDTF">2013-04-23T13:02:51Z</dcterms:modified>
  <cp:revision>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4D557BE9D8354F832DC5AEA33A1B8A</vt:lpwstr>
  </property>
  <property fmtid="{D5CDD505-2E9C-101B-9397-08002B2CF9AE}" pid="3" name="IsMyDocuments">
    <vt:lpwstr>1</vt:lpwstr>
  </property>
</Properties>
</file>