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F02B-0BF5-43C8-994F-CA0F82A9C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ness in international development has become a key concern among all actors, including CSOs, in the last decade (numerous tools and initiatives, but no common language or sector-wide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ultiple measures of effectiveness: organisational effectiveness, efficiency, impact (aid vs. development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provides a very narrow and technical interpretation of effectiveness that is targeted at reducing transaction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is not applicable to CSOs, because CSOs are not only providers of aid, but play multiple roles, including engaging in advocacy and governance processes to promote democratic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principles cannot be easily reconciled with nature of CSOs: harmonisation vs. diversity, alignment vs. autonomy, government ownership vs. country ownership, accountability – accountability to whom and for what?, results – which resu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1B4D-97CD-46AA-8ABB-F1D075259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Forum has a rights-based approach to development: helping people claim their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is not a technical exercise for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involves a diversity of development actors, including grassroots organisations, NGOs, churches, trade unions, governments, international partner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 that CSOs have an added value in specif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y work very close with grassroots communities and the people that they serve and represent. The effectiveness of CSOs depends therefore on the extent to which they succeed in promoting and amplifying the voices of poor and marginalised people. Considerations of accountability and partnership are crucial when discussing CSO development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CSOs work to help people claim their rights through empowerment and capacity building. Therefore, they need to measure their effectiveness by indicators of social change and impacts (i.e. women’s rights and gender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l and external factors are mutually reinforc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n from Open Forum funding propos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SOs have initiated many initiatives: </a:t>
            </a:r>
            <a:r>
              <a:rPr b="0" lang="en-GB" sz="1200" spc="-1" strike="noStrike">
                <a:solidFill>
                  <a:srgbClr val="000000"/>
                </a:solidFill>
                <a:latin typeface="Arial"/>
              </a:rPr>
              <a:t>Initiatives include a wide range of self-regulatory mechanisms including charters, codes of conduct, codes of ethics, certification schemes, evaluation methodologies to promote downwards accountability etc. Initiatives are led by individual organisations (ActionAid’s Accountability, Learning and Planning System), platforms and networks (Code of conduct of the Canadian Council for International Cooperation) or globally by alliances (Civicus Accountability Charter). The effectiveness of the respective enforcement mechanisms and the focus and scope of CSO initiatives vary significantly (see “NGO self-regulation: enforcing and balancing accountability”, Robert Lloyd and Lucy de las Casas, available online: www.oneworldtrust.org). Other than the humanitarian CSO sector (Sphere and Humanitarian Accountability Partnership) or governments and donors (Paris Declaration), development CSOs have however not yet defined their effectiveness as a stakehold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to respond to Paris Declaration: </a:t>
            </a:r>
            <a:r>
              <a:rPr b="0" lang="en-GB" sz="1200" spc="-1" strike="noStrike">
                <a:solidFill>
                  <a:srgbClr val="000000"/>
                </a:solidFill>
                <a:latin typeface="Arial"/>
              </a:rPr>
              <a:t>CSOs have concluded that the Paris Declaration is not applicable to them, because it does not reflect the roles and priorities of CSOs in development. The Declaration focuses on efficient aid delivery and management of official development aid, whereas CSOs have multiple roles such as service provision, project implementation, awareness raising, development education, holding governments to account, forging social values for solidarity etc. CSOs now need to define their effectiveness framework that takes into account these divers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nging aid architecture: </a:t>
            </a:r>
            <a:r>
              <a:rPr b="0" lang="en-GB" sz="1200" spc="-1" strike="noStrike">
                <a:solidFill>
                  <a:srgbClr val="000000"/>
                </a:solidFill>
                <a:latin typeface="Arial"/>
              </a:rPr>
              <a:t>After the heydays of structural adjustment and rolling back the state, the key role of government authorities in providing social services, security and other public goods has been re-acknowledged. The Paris Declaration and the increased use of budget support is a clear manifestation of this. This has repercussions on the role of CSOs in development, in particular of Northern NGOs that are, up to now, heavily engaged in project implementation and service provision in the So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ortium members: </a:t>
            </a:r>
            <a:r>
              <a:rPr b="0" lang="en-GB" sz="1200" spc="-1" strike="noStrike">
                <a:solidFill>
                  <a:srgbClr val="000000"/>
                </a:solidFill>
                <a:latin typeface="Arial"/>
              </a:rPr>
              <a:t>All African Conference of Churches, Asia Pacific Research Network, Civicus, European NGO Confederation for Relief and Development, InterAction, Latin American Association of Development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FG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rica:</a:t>
            </a:r>
            <a:r>
              <a:rPr b="0" lang="en-GB" sz="1200" spc="-1" strike="noStrike">
                <a:solidFill>
                  <a:srgbClr val="000000"/>
                </a:solidFill>
                <a:latin typeface="Arial"/>
              </a:rPr>
              <a:t> </a:t>
            </a:r>
            <a:r>
              <a:rPr b="0" lang="en-US" sz="1200" spc="-1" strike="noStrike">
                <a:solidFill>
                  <a:srgbClr val="000000"/>
                </a:solidFill>
                <a:latin typeface="Arial"/>
              </a:rPr>
              <a:t>Federation of NGO Platforms of Mali (FECONG), </a:t>
            </a:r>
            <a:r>
              <a:rPr b="0" lang="en-GB" sz="1200" spc="-1" strike="noStrike">
                <a:solidFill>
                  <a:srgbClr val="000000"/>
                </a:solidFill>
                <a:latin typeface="Arial"/>
              </a:rPr>
              <a:t>Forum and Network on Debt and Development (AFRODAD)</a:t>
            </a:r>
            <a:r>
              <a:rPr b="0" lang="en-GB" sz="1200" spc="-1" strike="noStrike" u="sng">
                <a:solidFill>
                  <a:srgbClr val="000000"/>
                </a:solidFill>
                <a:uFillTx/>
                <a:latin typeface="Arial"/>
              </a:rPr>
              <a:t>, </a:t>
            </a:r>
            <a:r>
              <a:rPr b="0" lang="en-GB" sz="1200" spc="-1" strike="noStrike">
                <a:solidFill>
                  <a:srgbClr val="000000"/>
                </a:solidFill>
                <a:latin typeface="Arial"/>
              </a:rPr>
              <a:t>Civil Society for Poverty Reduction (CSPR), </a:t>
            </a:r>
            <a:r>
              <a:rPr b="0" lang="en-US" sz="1200" spc="-1" strike="noStrike">
                <a:solidFill>
                  <a:srgbClr val="000000"/>
                </a:solidFill>
                <a:latin typeface="Arial"/>
              </a:rPr>
              <a:t>Network of National NGO Platforms of Western and Central Africa (REPA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 </a:t>
            </a:r>
            <a:r>
              <a:rPr b="0" lang="en-GB" sz="1200" spc="-1" strike="noStrike">
                <a:solidFill>
                  <a:srgbClr val="000000"/>
                </a:solidFill>
                <a:latin typeface="Arial"/>
              </a:rPr>
              <a:t>South Asian Network for Social and Agricultural Development (SANSAD), IBON International (IBON), Asia Pacific Research Network (APRN), People’s Coalition on Food Sovereignty (PC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rope: </a:t>
            </a:r>
            <a:r>
              <a:rPr b="0" lang="en-GB" sz="1200" spc="-1" strike="noStrike">
                <a:solidFill>
                  <a:srgbClr val="000000"/>
                </a:solidFill>
                <a:latin typeface="Arial"/>
              </a:rPr>
              <a:t>European NGO Confederation for Relief and Development (CONCORD), Nordic+ Group, European Union Presidency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in America and the Caribbean: </a:t>
            </a:r>
            <a:r>
              <a:rPr b="0" lang="es-CL" sz="1200" spc="-1" strike="noStrike">
                <a:solidFill>
                  <a:srgbClr val="000000"/>
                </a:solidFill>
                <a:latin typeface="Arial"/>
              </a:rPr>
              <a:t>Latin American Association of Development Organisations (ALOP), Unión Nacional de Instituciones para el Trabajo de Acción Social Bolivia (UNITAS), Coordinadora Civil de Nicaragua (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ddle East and North Africa: </a:t>
            </a:r>
            <a:r>
              <a:rPr b="0" lang="en-GB" sz="1200" spc="-1" strike="noStrike">
                <a:solidFill>
                  <a:srgbClr val="000000"/>
                </a:solidFill>
                <a:latin typeface="Arial"/>
              </a:rPr>
              <a:t>Arab NGOs Network for Development (AN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rth America: </a:t>
            </a:r>
            <a:r>
              <a:rPr b="0" lang="en-GB" sz="1200" spc="-1" strike="noStrike">
                <a:solidFill>
                  <a:srgbClr val="000000"/>
                </a:solidFill>
                <a:latin typeface="Arial"/>
              </a:rPr>
              <a:t>InterAction - American Council for Voluntary International Action, Canadian Council for International Cooperation (CCIC)</a:t>
            </a:r>
            <a:r>
              <a:rPr b="0"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cfic: </a:t>
            </a:r>
            <a:r>
              <a:rPr b="0" lang="en-GB" sz="1200" spc="-1" strike="noStrike">
                <a:solidFill>
                  <a:srgbClr val="000000"/>
                </a:solidFill>
                <a:latin typeface="Arial"/>
              </a:rPr>
              <a:t>Australian Council for International Development (ACF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CSO Networks: </a:t>
            </a:r>
            <a:r>
              <a:rPr b="0" lang="en-GB" sz="1200" spc="-1" strike="noStrike">
                <a:solidFill>
                  <a:srgbClr val="000000"/>
                </a:solidFill>
                <a:latin typeface="Arial"/>
              </a:rPr>
              <a:t>Plan International, Care International, International Trade Union Confederation (ITUC), Action by Churches Together (ACT), Caritas Internationalis/International Cooperation for Development and Solidarity (CIDSE), Civicus - World Alliance for Citizen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s Organisations: </a:t>
            </a:r>
            <a:r>
              <a:rPr b="0" lang="en-GB" sz="1200" spc="-1" strike="noStrike">
                <a:solidFill>
                  <a:srgbClr val="000000"/>
                </a:solidFill>
                <a:latin typeface="Arial"/>
              </a:rPr>
              <a:t>Asia Pacific Forum on Women, Law and Development (APFW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62A41-124E-410B-9C5B-575408B09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84C72-563D-44F9-B772-84D2C9D45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90700-59DA-4EAD-A36B-0960F1218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C4D11-918D-4BEC-927C-37C8DB977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52C9F-CDC6-4F35-A9C7-1CE101E2B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98FA7-454D-4C18-97C0-5B79E49AE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7F8D5-D66F-4081-B7ED-243667B65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3EB62-3F22-485A-B333-C7B77C184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D0C4-DE16-4FFA-8180-F3B93BF20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88BF8-A6E9-4C8F-8B6E-B38012616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3EDD-6C83-475A-BCB5-3BD75358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F2B4-E740-405F-9B5D-720FB368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7F698-5C30-49F9-A759-64CE3656F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9F897-3609-40ED-AE08-35534AEBC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15CE1-8498-403C-9C84-67D43194B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3BC10-0E5D-4F23-ACD1-BA45758B9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D831C-5DE6-4DB2-926E-3D7E19B95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D4536-17E1-4DE8-AFB0-B95F1F638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A1FA4-4E46-41F0-85FB-94CB08C3A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8382CD-B82A-494A-B6A0-9FCBBDA5D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F1612-E917-4271-AAC6-BB843F09A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4C15A-03E5-4F5B-A8EF-4A3EF80E8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8D3B6-717D-4CF6-B6AA-D3597168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0C8AD-0BB8-4F99-9EDA-407D37ACA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5C414-DA1D-4BA4-AD2C-6CD8A8739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66B11-7310-43FF-AC11-59F62B3CF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4A10C-A7D4-4C04-A48B-0EE0BCB18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C30EF7-8C41-4675-89FC-DC8AED1D1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E6726-8E69-41B0-8748-057F07CECB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CCFDF0-737A-403C-8854-3B9BB83B1D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4EB45-B978-4C62-B14C-AB2A87DCF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8FF12-4119-4A5A-9FA7-B27FDC29C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416FA4-54E3-4DDB-BD79-B7D75B526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9D9D-4BD7-4997-9AB0-5DB632E8D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6BF036-85A4-44D7-935C-551DA267C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4EAB6-8D1A-45A7-8BE2-0352EC846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12A99-E6AF-48A9-91C3-B634673D5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81704-646C-4323-AFC1-DD05234EF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5DE31-4486-41B2-90E0-AC1260B44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7029C-4B6E-4BE5-8063-2AC4D2989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1232E-8643-47F4-9FBE-B0E984DF5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FE08D2-A9DB-43A4-9A95-8A6A529D7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9F5121-CAA0-4EC9-8A6A-08EF509FE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DCC95-8BD3-4CF0-BF34-157B0F8C5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EB72-ADE8-42BF-AFA0-028986597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FE4A7-4DCC-43E3-A47B-46441873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E749-9CAE-49D6-B54B-642473440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487C2-2150-4378-9648-FC14824BC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FA55-E3DF-4BD6-A7E9-FE613D663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7BFD-724C-42C3-86A7-3FF0EBCF7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2" descr="LOGO OSC"/>
          <p:cNvPicPr/>
          <p:nvPr/>
        </p:nvPicPr>
        <p:blipFill>
          <a:blip r:embed="rId2"/>
          <a:srcRect l="10404" t="10232" r="7586" b="75229"/>
          <a:stretch/>
        </p:blipFill>
        <p:spPr>
          <a:xfrm>
            <a:off x="0" y="357120"/>
            <a:ext cx="4286160" cy="760320"/>
          </a:xfrm>
          <a:prstGeom prst="rect">
            <a:avLst/>
          </a:prstGeom>
          <a:ln w="0">
            <a:noFill/>
          </a:ln>
        </p:spPr>
      </p:pic>
      <p:sp>
        <p:nvSpPr>
          <p:cNvPr id="9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9779-F716-448F-83F9-C7C5A6A74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2" descr="LOGO OSC"/>
          <p:cNvPicPr/>
          <p:nvPr/>
        </p:nvPicPr>
        <p:blipFill>
          <a:blip r:embed="rId2"/>
          <a:stretch/>
        </p:blipFill>
        <p:spPr>
          <a:xfrm>
            <a:off x="0" y="214200"/>
            <a:ext cx="4786200" cy="841320"/>
          </a:xfrm>
          <a:prstGeom prst="rect">
            <a:avLst/>
          </a:prstGeom>
          <a:ln w="0">
            <a:noFill/>
          </a:ln>
        </p:spPr>
      </p:pic>
      <p:sp>
        <p:nvSpPr>
          <p:cNvPr id="13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2620-9702-4B68-852F-EB08B7CB5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6" descr="LOGO OSC"/>
          <p:cNvPicPr/>
          <p:nvPr/>
        </p:nvPicPr>
        <p:blipFill>
          <a:blip r:embed="rId1"/>
          <a:stretch/>
        </p:blipFill>
        <p:spPr>
          <a:xfrm>
            <a:off x="971640" y="2349360"/>
            <a:ext cx="7200720" cy="1424160"/>
          </a:xfrm>
          <a:prstGeom prst="rect">
            <a:avLst/>
          </a:prstGeom>
          <a:ln w="0">
            <a:noFill/>
          </a:ln>
        </p:spPr>
      </p:pic>
      <p:sp>
        <p:nvSpPr>
          <p:cNvPr id="186" name=""/>
          <p:cNvSpPr/>
          <p:nvPr/>
        </p:nvSpPr>
        <p:spPr>
          <a:xfrm>
            <a:off x="2484360" y="4941720"/>
            <a:ext cx="6191280" cy="1144800"/>
          </a:xfrm>
          <a:prstGeom prst="rect">
            <a:avLst/>
          </a:prstGeom>
          <a:noFill/>
          <a:ln w="0">
            <a:noFill/>
          </a:ln>
        </p:spPr>
        <p:style>
          <a:lnRef idx="0"/>
          <a:fillRef idx="0"/>
          <a:effectRef idx="0"/>
          <a:fontRef idx="minor"/>
        </p:style>
        <p:txBody>
          <a:bodyPr lIns="90000" rIns="90000" tIns="46800" bIns="46800" anchor="t">
            <a:spAutoFit/>
          </a:bodyPr>
          <a:p>
            <a:pPr algn="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resentation at the European Seminar on CSO Development Effectiveness, Vienna, 10 and 11 March 201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980640"/>
            <a:ext cx="7416720" cy="855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Tahoma"/>
              </a:rPr>
              <a:t>Your participation is crucial!</a:t>
            </a:r>
            <a:endParaRPr b="0" lang="en-US" sz="4000" spc="-1" strike="noStrike">
              <a:solidFill>
                <a:srgbClr val="000000"/>
              </a:solidFill>
              <a:latin typeface="Arial"/>
            </a:endParaRPr>
          </a:p>
        </p:txBody>
      </p:sp>
      <p:sp>
        <p:nvSpPr>
          <p:cNvPr id="220" name="PlaceHolder 2"/>
          <p:cNvSpPr>
            <a:spLocks noGrp="1"/>
          </p:cNvSpPr>
          <p:nvPr>
            <p:ph/>
          </p:nvPr>
        </p:nvSpPr>
        <p:spPr>
          <a:xfrm>
            <a:off x="250920" y="1916280"/>
            <a:ext cx="8642160" cy="5047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700" spc="-1" strike="noStrike">
                <a:solidFill>
                  <a:srgbClr val="000000"/>
                </a:solidFill>
                <a:latin typeface="Tahoma"/>
              </a:rPr>
              <a:t>How you can engage in the process:</a:t>
            </a:r>
            <a:endParaRPr b="0" lang="en-US" sz="2700" spc="-1" strike="noStrike">
              <a:solidFill>
                <a:srgbClr val="000000"/>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1" name="Text Box 4"/>
          <p:cNvSpPr/>
          <p:nvPr/>
        </p:nvSpPr>
        <p:spPr>
          <a:xfrm>
            <a:off x="324000" y="2421000"/>
            <a:ext cx="3600360" cy="40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0000"/>
                </a:solidFill>
                <a:latin typeface="Tahoma"/>
              </a:rPr>
              <a:t>Platform/network level:</a:t>
            </a:r>
            <a:endParaRPr b="0" lang="en-US" sz="1500" spc="-1" strike="noStrike">
              <a:solidFill>
                <a:srgbClr val="000000"/>
              </a:solidFill>
              <a:latin typeface="Arial"/>
            </a:endParaRPr>
          </a:p>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0" lang="fr-BE" sz="1600" spc="-1" strike="noStrike">
                <a:solidFill>
                  <a:srgbClr val="000000"/>
                </a:solidFill>
                <a:latin typeface="Tahoma"/>
              </a:rPr>
              <a:t> </a:t>
            </a:r>
            <a:r>
              <a:rPr b="0" lang="en-GB" sz="1600" spc="-1" strike="noStrike">
                <a:solidFill>
                  <a:srgbClr val="000000"/>
                </a:solidFill>
                <a:latin typeface="Tahoma"/>
              </a:rPr>
              <a:t>Reach out to your constituency and launch internal discussions on the principles guiding CSO development effectiveness (tools are available on www.cso-effectiveness.org)</a:t>
            </a:r>
            <a:endParaRPr b="0" lang="en-US" sz="1600" spc="-1" strike="noStrike">
              <a:solidFill>
                <a:srgbClr val="000000"/>
              </a:solidFill>
              <a:latin typeface="Arial"/>
            </a:endParaRPr>
          </a:p>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Contact and inform the organisation in charge of your region about your interest in the process. Clarify with them your needs and the level of (financial and other) support that is available (visit www.cso-effectiveness.org for contact details)</a:t>
            </a:r>
            <a:endParaRPr b="0" lang="en-US" sz="1600" spc="-1" strike="noStrike">
              <a:solidFill>
                <a:srgbClr val="000000"/>
              </a:solidFill>
              <a:latin typeface="Arial"/>
            </a:endParaRPr>
          </a:p>
        </p:txBody>
      </p:sp>
      <p:sp>
        <p:nvSpPr>
          <p:cNvPr id="222" name="Text Box 5"/>
          <p:cNvSpPr/>
          <p:nvPr/>
        </p:nvSpPr>
        <p:spPr>
          <a:xfrm>
            <a:off x="4500720" y="2421000"/>
            <a:ext cx="4608360" cy="389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dividual CSO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Make sure your platform/network is involved in the proces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Start discussions on CSO development effectiveness with your colleagues and across departments (policy, programming, manag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Donors/govern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Inform your colleagues and peers about the 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Participate in multi-stakeholder dialogues of the Open Fo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Support CSOs in organising consultations within the Open Forum framewor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50920" y="1915920"/>
            <a:ext cx="8686800" cy="4530600"/>
          </a:xfrm>
          <a:prstGeom prst="rect">
            <a:avLst/>
          </a:prstGeom>
          <a:noFill/>
          <a:ln w="0">
            <a:noFill/>
          </a:ln>
        </p:spPr>
        <p:txBody>
          <a:bodyPr anchor="t">
            <a:norm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ahoma"/>
              </a:rPr>
              <a:t>www.cso-effectiveness.org</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ahoma"/>
              </a:rPr>
              <a:t>cso-eff@concordeurope.org</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4" name="Text Box 8"/>
          <p:cNvSpPr/>
          <p:nvPr/>
        </p:nvSpPr>
        <p:spPr>
          <a:xfrm>
            <a:off x="3276720" y="1052640"/>
            <a:ext cx="5616360" cy="62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0000"/>
                </a:solidFill>
                <a:latin typeface="Tahoma"/>
              </a:rPr>
              <a:t>More information</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ris Declaration on Aid Effectiveness</a:t>
            </a:r>
            <a:endParaRPr b="0" lang="en-US" sz="3000" spc="-1" strike="noStrike">
              <a:solidFill>
                <a:srgbClr val="000000"/>
              </a:solidFill>
              <a:latin typeface="Arial"/>
            </a:endParaRPr>
          </a:p>
        </p:txBody>
      </p:sp>
      <p:sp>
        <p:nvSpPr>
          <p:cNvPr id="188"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gned by donors and governments in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s out five principles: harmonisation, alignment, ownership, mutual accountability, managing for resu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is Declaration is an important agreement to improve management of bilateral aid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Os in the Open Forum argue that (a) there is a need for a more holistic agreement and that (b) the Paris Declaration is not directly applicable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1347480"/>
            <a:ext cx="7417080" cy="56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What is the Open Forum?</a:t>
            </a:r>
            <a:br>
              <a:rPr sz="3000"/>
            </a:br>
            <a:endParaRPr b="0" lang="en-US" sz="3000" spc="-1" strike="noStrike">
              <a:solidFill>
                <a:srgbClr val="000000"/>
              </a:solidFill>
              <a:latin typeface="Arial"/>
            </a:endParaRPr>
          </a:p>
        </p:txBody>
      </p:sp>
      <p:sp>
        <p:nvSpPr>
          <p:cNvPr id="190" name="PlaceHolder 2"/>
          <p:cNvSpPr>
            <a:spLocks noGrp="1"/>
          </p:cNvSpPr>
          <p:nvPr>
            <p:ph/>
          </p:nvPr>
        </p:nvSpPr>
        <p:spPr>
          <a:xfrm>
            <a:off x="250920" y="1915920"/>
            <a:ext cx="8642160" cy="46083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global CSO-led initiative to promote an effectiveness framework specifically for CSOs (development effectiveness not aid effectivenes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eries of consultations and multi-stakeholder dialogues around the glob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d by a Global Facilitation Group of 25 member organisatio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CORD is one of the GFG members and acts as global Secretari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overnments and international donors are key partners (i.e. multi-stakeholder working group at OECD DA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CSO Development Effectiveness?</a:t>
            </a:r>
            <a:endParaRPr b="0" lang="en-US" sz="2800" spc="-1" strike="noStrike">
              <a:solidFill>
                <a:srgbClr val="000000"/>
              </a:solidFill>
              <a:latin typeface="Arial"/>
            </a:endParaRPr>
          </a:p>
        </p:txBody>
      </p:sp>
      <p:sp>
        <p:nvSpPr>
          <p:cNvPr id="192"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Development effectiveness is promoting sustainable positive change, within a democratic framework, that addresses the causes as well as the symptoms of poverty, inequality and marginalisation, through the diversity and complementarity of instruments, policies and actor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the Open Forum Toolk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280" y="836280"/>
            <a:ext cx="741708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0000"/>
                </a:solidFill>
                <a:latin typeface="Arial"/>
              </a:rPr>
              <a:t>What defines</a:t>
            </a:r>
            <a:br>
              <a:rPr sz="3000"/>
            </a:br>
            <a:r>
              <a:rPr b="1" lang="fr-BE" sz="3000" spc="-1" strike="noStrike">
                <a:solidFill>
                  <a:srgbClr val="000000"/>
                </a:solidFill>
                <a:latin typeface="Arial"/>
              </a:rPr>
              <a:t>CSO development effectiveness?</a:t>
            </a:r>
            <a:endParaRPr b="0" lang="en-US" sz="3000" spc="-1" strike="noStrike">
              <a:solidFill>
                <a:srgbClr val="000000"/>
              </a:solidFill>
              <a:latin typeface="Arial"/>
            </a:endParaRPr>
          </a:p>
        </p:txBody>
      </p:sp>
      <p:sp>
        <p:nvSpPr>
          <p:cNvPr id="194"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factors </a:t>
            </a:r>
            <a:r>
              <a:rPr b="0" lang="en-GB" sz="2000" spc="-1" strike="noStrike">
                <a:solidFill>
                  <a:srgbClr val="000000"/>
                </a:solidFill>
                <a:latin typeface="Arial"/>
              </a:rPr>
              <a:t>that are shaped by CSOs themselves:</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South CSO partnershi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l governance and manage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nitoring and evaluation methodolog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ountability mechanis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ganisational capacit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ective structures (coordination and exchange through platforms and network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rnal factors </a:t>
            </a:r>
            <a:r>
              <a:rPr b="0" lang="en-GB" sz="2000" spc="-1" strike="noStrike">
                <a:solidFill>
                  <a:srgbClr val="000000"/>
                </a:solidFill>
                <a:latin typeface="Arial"/>
              </a:rPr>
              <a:t>that are shaped by governments and other stakeholders and make up the enabling or disabling environment in which CSOs operate:</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all regulatory and political frame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ffective enforcement of human rights standard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nding for CSOs and regulations attached to i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ce for policy dialogu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sms to promote philanthrop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ree objectives</a:t>
            </a:r>
            <a:endParaRPr b="0" lang="en-US" sz="4400" spc="-1" strike="noStrike">
              <a:solidFill>
                <a:srgbClr val="000000"/>
              </a:solidFill>
              <a:latin typeface="Arial"/>
            </a:endParaRPr>
          </a:p>
        </p:txBody>
      </p:sp>
      <p:sp>
        <p:nvSpPr>
          <p:cNvPr id="196"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obust and appropriate global framework for CSO development effective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promote and facilitate a learning environment on CSO development effective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e in a multi-stakeholder dialogue with governments and donors to build understanding and support for an enabling environment for C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0000"/>
                </a:solidFill>
                <a:latin typeface="Arial"/>
              </a:rPr>
              <a:t>Context</a:t>
            </a:r>
            <a:endParaRPr b="0" lang="en-US" sz="3500" spc="-1" strike="noStrike">
              <a:solidFill>
                <a:srgbClr val="000000"/>
              </a:solidFill>
              <a:latin typeface="Arial"/>
            </a:endParaRPr>
          </a:p>
        </p:txBody>
      </p:sp>
      <p:sp>
        <p:nvSpPr>
          <p:cNvPr id="198"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O have started many initiatives to define and promote their effectiveness, but have not yet defined their effectiveness collectively as a stakeholder grou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Os have acknowledged that the changing aid architecture provides challenges to their effectiveness and that there are issues to their effectiven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mp-down on civil society in many countries despite commitments in the Accra Agenda for Ac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A global consultative process</a:t>
            </a:r>
            <a:endParaRPr b="0" lang="en-US" sz="3500" spc="-1" strike="noStrike">
              <a:solidFill>
                <a:srgbClr val="000000"/>
              </a:solidFill>
              <a:latin typeface="Arial"/>
            </a:endParaRPr>
          </a:p>
        </p:txBody>
      </p:sp>
      <p:grpSp>
        <p:nvGrpSpPr>
          <p:cNvPr id="200" name=""/>
          <p:cNvGrpSpPr/>
          <p:nvPr/>
        </p:nvGrpSpPr>
        <p:grpSpPr>
          <a:xfrm>
            <a:off x="1128240" y="1827000"/>
            <a:ext cx="7886880" cy="4343400"/>
            <a:chOff x="1128240" y="1827000"/>
            <a:chExt cx="7886880" cy="4343400"/>
          </a:xfrm>
        </p:grpSpPr>
        <p:sp>
          <p:nvSpPr>
            <p:cNvPr id="201" name=""/>
            <p:cNvSpPr/>
            <p:nvPr/>
          </p:nvSpPr>
          <p:spPr>
            <a:xfrm>
              <a:off x="1128240" y="182700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09</a:t>
              </a:r>
              <a:endParaRPr b="0" lang="en-US" sz="3000" spc="-1" strike="noStrike">
                <a:solidFill>
                  <a:srgbClr val="000000"/>
                </a:solidFill>
                <a:latin typeface="Arial"/>
              </a:endParaRPr>
            </a:p>
          </p:txBody>
        </p:sp>
        <p:sp>
          <p:nvSpPr>
            <p:cNvPr id="202" name=""/>
            <p:cNvSpPr/>
            <p:nvPr/>
          </p:nvSpPr>
          <p:spPr>
            <a:xfrm>
              <a:off x="1128240" y="319860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10</a:t>
              </a:r>
              <a:endParaRPr b="0" lang="en-US" sz="3000" spc="-1" strike="noStrike">
                <a:solidFill>
                  <a:srgbClr val="000000"/>
                </a:solidFill>
                <a:latin typeface="Arial"/>
              </a:endParaRPr>
            </a:p>
          </p:txBody>
        </p:sp>
        <p:sp>
          <p:nvSpPr>
            <p:cNvPr id="203" name=""/>
            <p:cNvSpPr/>
            <p:nvPr/>
          </p:nvSpPr>
          <p:spPr>
            <a:xfrm>
              <a:off x="1128240" y="445608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11</a:t>
              </a:r>
              <a:endParaRPr b="0" lang="en-US" sz="3000" spc="-1" strike="noStrike">
                <a:solidFill>
                  <a:srgbClr val="000000"/>
                </a:solidFill>
                <a:latin typeface="Arial"/>
              </a:endParaRPr>
            </a:p>
          </p:txBody>
        </p:sp>
        <p:sp>
          <p:nvSpPr>
            <p:cNvPr id="204" name=""/>
            <p:cNvSpPr/>
            <p:nvPr/>
          </p:nvSpPr>
          <p:spPr>
            <a:xfrm>
              <a:off x="2614320" y="3313080"/>
              <a:ext cx="25142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First Global </a:t>
              </a:r>
              <a:r>
                <a:rPr b="0" lang="en-US" sz="1200" spc="-1" strike="noStrike">
                  <a:solidFill>
                    <a:srgbClr val="000000"/>
                  </a:solidFill>
                  <a:latin typeface="Arial Black"/>
                </a:rPr>
                <a:t>Assembl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2614320" y="4570560"/>
              <a:ext cx="2400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Second Global </a:t>
              </a:r>
              <a:r>
                <a:rPr b="0" lang="en-US" sz="1200" spc="-1" strike="noStrike">
                  <a:solidFill>
                    <a:srgbClr val="000000"/>
                  </a:solidFill>
                  <a:latin typeface="Arial Black"/>
                </a:rPr>
                <a:t>Assembly</a:t>
              </a:r>
              <a:endParaRPr b="0" lang="en-US" sz="1200" spc="-1" strike="noStrike">
                <a:solidFill>
                  <a:srgbClr val="000000"/>
                </a:solidFill>
                <a:latin typeface="Arial"/>
              </a:endParaRPr>
            </a:p>
          </p:txBody>
        </p:sp>
        <p:sp>
          <p:nvSpPr>
            <p:cNvPr id="206" name=""/>
            <p:cNvSpPr/>
            <p:nvPr/>
          </p:nvSpPr>
          <p:spPr>
            <a:xfrm>
              <a:off x="2728800" y="1941480"/>
              <a:ext cx="2400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Start of the </a:t>
              </a:r>
              <a:r>
                <a:rPr b="0" lang="en-US" sz="1200" spc="-1" strike="noStrike">
                  <a:solidFill>
                    <a:srgbClr val="000000"/>
                  </a:solidFill>
                  <a:latin typeface="Arial Black"/>
                </a:rPr>
                <a:t>process</a:t>
              </a:r>
              <a:endParaRPr b="0" lang="en-US" sz="1200" spc="-1" strike="noStrike">
                <a:solidFill>
                  <a:srgbClr val="000000"/>
                </a:solidFill>
                <a:latin typeface="Arial"/>
              </a:endParaRPr>
            </a:p>
          </p:txBody>
        </p:sp>
        <p:sp>
          <p:nvSpPr>
            <p:cNvPr id="207" name=""/>
            <p:cNvSpPr/>
            <p:nvPr/>
          </p:nvSpPr>
          <p:spPr>
            <a:xfrm>
              <a:off x="1357200" y="5827680"/>
              <a:ext cx="48006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4th High-Level Forum on Aid Effectiveness</a:t>
              </a:r>
              <a:endParaRPr b="0" lang="en-US" sz="1200" spc="-1" strike="noStrike">
                <a:solidFill>
                  <a:srgbClr val="000000"/>
                </a:solidFill>
                <a:latin typeface="Arial"/>
              </a:endParaRPr>
            </a:p>
          </p:txBody>
        </p:sp>
        <p:sp>
          <p:nvSpPr>
            <p:cNvPr id="208" name=""/>
            <p:cNvSpPr/>
            <p:nvPr/>
          </p:nvSpPr>
          <p:spPr>
            <a:xfrm>
              <a:off x="4443120" y="2513160"/>
              <a:ext cx="365760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ntry-level and thematic consultations to define a CSO development effectiveness frame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olitical dialogue and outreach at all levels</a:t>
              </a:r>
              <a:endParaRPr b="0" lang="en-US" sz="1000" spc="-1" strike="noStrike">
                <a:solidFill>
                  <a:srgbClr val="000000"/>
                </a:solidFill>
                <a:latin typeface="Arial"/>
              </a:endParaRPr>
            </a:p>
          </p:txBody>
        </p:sp>
        <p:sp>
          <p:nvSpPr>
            <p:cNvPr id="209" name=""/>
            <p:cNvSpPr/>
            <p:nvPr/>
          </p:nvSpPr>
          <p:spPr>
            <a:xfrm>
              <a:off x="2271600" y="3541680"/>
              <a:ext cx="33145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start consensus-building on the CSO development effectiveness framework</a:t>
              </a:r>
              <a:endParaRPr b="0" lang="en-US" sz="1000" spc="-1" strike="noStrike">
                <a:solidFill>
                  <a:srgbClr val="000000"/>
                </a:solidFill>
                <a:latin typeface="Arial"/>
              </a:endParaRPr>
            </a:p>
          </p:txBody>
        </p:sp>
        <p:sp>
          <p:nvSpPr>
            <p:cNvPr id="210" name=""/>
            <p:cNvSpPr/>
            <p:nvPr/>
          </p:nvSpPr>
          <p:spPr>
            <a:xfrm>
              <a:off x="4443120" y="3884760"/>
              <a:ext cx="457200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271600" y="4799160"/>
              <a:ext cx="3200400" cy="457200"/>
            </a:xfrm>
            <a:prstGeom prst="rect">
              <a:avLst/>
            </a:prstGeom>
            <a:solidFill>
              <a:srgbClr val="ffffff">
                <a:alpha val="42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tock-taking and evaluation of the process; CSOs mobilise for the 4th High-Level Forum</a:t>
              </a:r>
              <a:endParaRPr b="0" lang="en-US" sz="1000" spc="-1" strike="noStrike">
                <a:solidFill>
                  <a:srgbClr val="000000"/>
                </a:solidFill>
                <a:latin typeface="Arial"/>
              </a:endParaRPr>
            </a:p>
          </p:txBody>
        </p:sp>
        <p:sp>
          <p:nvSpPr>
            <p:cNvPr id="212" name=""/>
            <p:cNvSpPr/>
            <p:nvPr/>
          </p:nvSpPr>
          <p:spPr>
            <a:xfrm>
              <a:off x="2614320" y="2170080"/>
              <a:ext cx="27432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gional preparatory workshops to initiate and trigger process</a:t>
              </a:r>
              <a:endParaRPr b="0" lang="en-US" sz="1000" spc="-1" strike="noStrike">
                <a:solidFill>
                  <a:srgbClr val="000000"/>
                </a:solidFill>
                <a:latin typeface="Arial"/>
              </a:endParaRPr>
            </a:p>
          </p:txBody>
        </p:sp>
        <p:sp>
          <p:nvSpPr>
            <p:cNvPr id="213" name=""/>
            <p:cNvSpPr/>
            <p:nvPr/>
          </p:nvSpPr>
          <p:spPr>
            <a:xfrm>
              <a:off x="3528720" y="262728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528720" y="399888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528720" y="525636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4498920" y="4040280"/>
            <a:ext cx="3168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urther consensus-building and mobilistation for the HLF-I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7280" y="1060200"/>
            <a:ext cx="7417080" cy="855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0000"/>
                </a:solidFill>
                <a:latin typeface="Tahoma"/>
              </a:rPr>
              <a:t>Who is behind the Open Forum?</a:t>
            </a:r>
            <a:endParaRPr b="0" lang="en-US" sz="3000" spc="-1" strike="noStrike">
              <a:solidFill>
                <a:srgbClr val="000000"/>
              </a:solidFill>
              <a:latin typeface="Arial"/>
            </a:endParaRPr>
          </a:p>
        </p:txBody>
      </p:sp>
      <p:sp>
        <p:nvSpPr>
          <p:cNvPr id="218" name="PlaceHolder 2"/>
          <p:cNvSpPr>
            <a:spLocks noGrp="1"/>
          </p:cNvSpPr>
          <p:nvPr>
            <p:ph/>
          </p:nvPr>
        </p:nvSpPr>
        <p:spPr>
          <a:xfrm>
            <a:off x="250920" y="1844280"/>
            <a:ext cx="864216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ahoma"/>
              </a:rPr>
              <a:t>Global Facilitation Grou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25 member organisations from all world reg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Provides political leadership, representation and overall guidance for the Open Foru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Engages in political dialogue at the international level with the Working Party on Aid Effectiveness (OECD DAC) and UN bodies and instit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Two Co-Chairs represent the GFG</a:t>
            </a:r>
            <a:endParaRPr b="0" lang="en-US" sz="20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ahoma"/>
              </a:rPr>
              <a:t>Consortium of supporting organis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6 CSOs, each one in charge of a specific world reg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In charge of outreach, communication, administration, fund raising and technical assistance to implement consultation process and political dialogu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9:18:26Z</dcterms:created>
  <dc:creator>avogt</dc:creator>
  <dc:description/>
  <dc:language>en-US</dc:language>
  <cp:lastModifiedBy>cso-eff</cp:lastModifiedBy>
  <dcterms:modified xsi:type="dcterms:W3CDTF">2010-03-04T13:54:13Z</dcterms:modified>
  <cp:revision>163</cp:revision>
  <dc:subject/>
  <dc:title>Slide 1</dc:title>
</cp:coreProperties>
</file>