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A0DCA-DAEC-4D6C-813B-D1B85559A897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31BCA-5799-4F87-B3E1-6896DA84F5FE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wler (1997, p. 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s ONGs del sur deberían poder participar en los ciclos de políticas publicas de sus países pero antes deben asegurar la capacidad de representar a sus comunidades y posteriormente su capacidad de influencia y/lobby en los ciclos políticos de su paí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F79-9D68-4191-9283-D975BCCC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E27-2287-48E9-A4E7-CB1C785F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B4B-DFDE-40E5-8C88-943B5DA0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C8D-99BD-4E40-8A57-E0F2A9AE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0F2C-F597-4428-A0C5-7982AD25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8DC5-F12C-4532-9813-4DF8EF0F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C45A-E4E7-4DF5-B0B5-16E0D1A1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14CF-2FB8-4CF6-825C-A6189E6C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7B43-5FD3-4373-B2FF-E9E6AD9C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1680" cy="66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878A-F4E9-4349-AA07-A3800A06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1A23-F96F-456E-B1E0-D2093DCB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13E-97A8-4635-8957-8C4C7A5C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1EDD-0221-4E12-B092-0942B27E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C9ED-9299-41C8-A3ED-DF0D6891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4394-FA62-45F7-9637-B4B63C94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30D3-6495-4C94-8184-C2654A36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4F6B-F85F-4349-82D0-F834D531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FD7BA-A869-4510-B7F6-878D930B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0B34-4148-4592-8DB2-1B5E587F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04C4-229C-4ADE-8DEF-AD4683DC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9C89F-0D43-4776-B7EA-E86CC66E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1F4B1-DF1A-4541-B7AE-51A0754D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971-8822-4099-B812-8F2D7943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1680" cy="66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24E1F-331F-411A-9F61-14A3CEA1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32048-5C31-4F75-A0D4-E6206007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3D707-0967-4967-A0A1-7ABA7FEE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79D5D-9C78-4420-B660-D1BCFC4C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390B6-0351-484E-B1AB-55831F36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D677A-AB47-4E62-A79C-45B74CEA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3AA6-527A-4D0F-A126-590272B4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FA1-516F-4BAA-8A6D-CBD48C28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DE1E-FE5C-4460-A237-BC1BB250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1680" cy="66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AF8-BC2C-482F-8115-099672DA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7E6-C790-4D1F-AB3F-611860F5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D81-5227-4C7A-99C4-E44C6936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061-F73B-48CB-911D-0DD1588F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7669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359160" y="6244920"/>
            <a:ext cx="46404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8097840" y="6244920"/>
            <a:ext cx="5810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9B840-9718-4964-94B2-256C69CE750F}" type="slidenum">
              <a: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9C70E7C-6633-4FFF-A1AA-44C8CDD5721B}" type="slidenum"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999C5F4-3938-498A-A27E-8EF961C8BEB2}" type="slidenum"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7960" indent="0" algn="ctr">
              <a:lnSpc>
                <a:spcPct val="73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A CRISIS MUNDIAL Y LA EFICACIA DE LA AYUD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73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A EFECTIVIDAD DE LA PROGRAMACION DE LAS POLITICAS  DE DESARROLLO ESPAÑOLAS CON RESPECTO A LA SOCIEDAD CIV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osa Elca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rectora de Cooperación Sectorial y Multilat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gencia Española de Cooperación Internacional para el Desarro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arzo 201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47F-30EB-49B5-B0F3-A9C4C0734B1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76040"/>
            <a:ext cx="8229600" cy="13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RETOS SOC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jorar su implicación en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ueva Arquitectur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 la Ayu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ulsar la Complementariedad y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visión de Tare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con otros donan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jorar de la  coordinación entre los distintos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ctores españo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timización del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provechamiento del conocimient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y experiencia de actores españo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umento de las Alianzas con el 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sector priv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11D-48DF-47F6-88C7-98BC5E2859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Arial"/>
              </a:rPr>
              <a:t>PROGRAMACION DE LAS POLITICAS DE DESARROLLO ESPAÑOLAS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ey de Cooperación Intern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nes Directores cuatrie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CI ( planes anual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rategias sectoria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rcos de Asoci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ECID: contratos de gestión, programación operativa, diagnósticos, planes de actuación, conven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20A-C9E4-4CCA-BA34-6E324FE361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DATOS AOD ESPAÑOLA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468440" y="1600200"/>
          <a:ext cx="619920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8440" y="1600200"/>
                    <a:ext cx="61992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5D1-8DAC-4CF5-8DEB-E2C832375B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Arial"/>
              </a:rPr>
              <a:t>LA EFECTIVIDAD DE LA PROGRAMACION DE LAS POLITICAS  DE DESARROLLO ESPAÑOLAS CON RESPECTO A LA SOCIEDAD CIVI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21052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1600200" indent="-228600">
              <a:lnSpc>
                <a:spcPct val="83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volución en los últimos  10 año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Nuevo Rol de las SOC en la ayuda al desarrol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ogramación de las Políticas de Desarrollo españo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5FC-DE70-4DBD-AB10-19411341ED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VOLUCIÓN ÚLTIMOS 10 AÑ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90’s :Enfoques Derechos para el Desarro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0 : Cumbre OD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2 : C. Monterr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3 : C. Roma ( Armonización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3: C. Marrakech (Gestión por Resultado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5: Declaración de Par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7: Código conducta UE (Complement y Division trabaj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8: Agenda de Acción para Acc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8: Ottawa (SC y Eficacia de la Ayud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5F8-155E-41D1-B686-E420AC59FE1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PLAN DIRECTOR 2009-20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reciente integración  de la sociedad civil en la agenda de coordinación y eficacia de la ayu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articipacion de la sociedad civil como actor clave en la transparencia y rendición de cuentas a nivel local, nacional e internaci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incipio de apropiacion democratica y loc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71A-C4D4-408C-9ABA-DBC1E0B8E1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PLAN DIRECTOR 2009-2012 Sectores de intervenc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ferencia expresa en objetivos generales a SOC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obernabilidad Democratica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:politicas publicas para la cohesión social, fortalecimeinto de la 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ducacion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: fortalecimiento de las organizaciones de la SC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recimiento economico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spacios de dialgo y actuacion conjun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onstruccion de Paz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952-4F1D-4368-990A-658EF54A9F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as SOC en la eficacia de la Ayuda. Tip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OC ejecutora/ implementadora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cción directa con personal expatriado que consigue resultados inmediatos y verific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7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OC gerencialista. P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ta de servicios ante un Estado ineficaz. Actualmente se debate como mejorar su eficacia, la gestión por resultados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7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OC facilitadora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sesora y apoya a la sociedad civil organizada y no  (ONGD sur) en su impulso hacia el cambio y progreso soc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7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OC de incidencia/ posicionamiento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activa respecto a la construcción de la arquitectura de la ayu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1C3-EEEA-4EF1-9217-599A6E6694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l papel de la SOC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6908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CU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contextos de crisis, donde los espacios humanitarios son muy limitados y existe un alto riesgo para ONGs, actores lo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ESTA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tiliza indicadores de desempeño propios del paí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inea sus Convenios y Proyectos con los “tiempos” de los ciclos del país recep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armoniza con otras acciones en el pa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yuda Programátic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ondos Multilater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as ON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6F7-4ED1-4F93-84A2-A952E5E11D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l papel de la SOC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168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ACILITA en el pais so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ompaña las intervenciones institucionales en la zona rural y/o poblaciones excluidas de las intervenciones institucionales, pero  apoyando también a las ONGs del SUR en l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presentación de los intereses de sus comunidade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leva su voz a la nueva arquitectura (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ene capacidad para Influir en los ciclos de gobierno a través de su participación en los distintos grupos de trabajo locales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Refuerza y lidera los procesos de asociacionismo de la SC del S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7C8-EBAD-4B73-9534-9477C4DAA8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l papel de la SO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168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 INCID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funde información y contribuye a generar un estado de opinión en el país de trabajo, junto con sus socios locales, y sobre todo en el país de se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ticipa en el debate y se posiciona respecto a la eficacia de la ayuda en el ámbito nacional e internacional en los países donantes y en el ámbito inter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6E0-DFA5-427E-B03D-8D4DC71CD7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CorralesR</dc:creator>
  <dc:description/>
  <dc:language>en-US</dc:language>
  <cp:lastModifiedBy>SVelazquezV</cp:lastModifiedBy>
  <dcterms:modified xsi:type="dcterms:W3CDTF">2010-03-14T19:07:26Z</dcterms:modified>
  <cp:revision>43</cp:revision>
  <dc:subject/>
  <dc:title>Diapositiva 1</dc:title>
</cp:coreProperties>
</file>