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8CB1-6984-412B-BD32-D20E804A3926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DEE31-FC5E-41AD-AAE4-C3C02119A6D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wler (1997, p. 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ONGs del sur deberían poder participar en los ciclos de políticas publicas de sus países pero antes deben asegurar la capacidad de representar a sus comunidades y posteriormente su capacidad de influencia y/lobby en los ciclos políticos de su paí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6F2-33F5-4DFB-8CFD-5D10D07B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708-B4BD-4F59-9E97-30B6CE8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6C3-38AF-4F81-8894-BD2E3ADE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BE4-067F-4C32-8DAF-7C4E290F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D22-C85B-4114-869F-67444EB9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EC4A-DCB1-4330-8194-5E65AA1E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1BA8-DC7B-44AF-BBF5-2B6F698E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B7D-F38F-4305-A4D1-E10EF98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10E-43D1-4225-9EEA-7F583FEF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5C9E-19C3-4F07-B6CC-29FF575D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CAFA-E191-4EA0-930F-3A6C597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AD4-7180-4B1F-B7B0-A6AA7A91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DE24-4FF1-40A7-89AE-57D44B3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6104-6033-4ABB-965C-E3A1A44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11B8-6868-433D-A427-FF5C58C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64A-F7EC-4BEA-B102-413D7BD7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3C6-C92E-4A5B-B690-7145ED7F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19CC-A6EA-4AC7-9E15-C1324629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EBA2-D915-4C8B-B8CE-65914E21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5E51-9883-4862-A4EB-619853B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2CA9-BF9C-42FB-A53A-F4ED5FB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F9D3-30BE-4D07-A30D-3D14FC45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1B6-ACDB-4F20-A1BE-865DFA94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7044-20A1-4C74-97C4-02BBA28A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AC01-3E95-409E-B974-2353A13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F37E-F1D2-4E9B-9EFE-0C229C9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6607-40C8-46B3-964D-DED0805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8E7C-7302-480F-9AD1-E4BB6547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622F-42E8-4049-A3E4-CA308F8D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8903-DDDE-4787-A9E9-6AEDE08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A92-F1F1-4872-B160-3868C03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ABC-D8F0-43F5-BC13-7E5EDBE8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0A1-122A-41E2-AC51-3ADA332B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B84-4851-43CD-86EF-2CD0557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720-7735-4FEE-94D1-EAB58CB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41B-B788-4347-8BBD-0F0F87A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7669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359160" y="6244920"/>
            <a:ext cx="4640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8097840" y="6244920"/>
            <a:ext cx="581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0573D-D2F2-4037-962E-1A7E314FEBFA}" type="slidenum"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E3DDCA-8260-4425-9A00-CD099B73ECDD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4C1C7A-8A22-4AEA-A822-6507E757662F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A CRISIS MUNDIAL Y LA EFICACIA DE LA AYU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EFECTIVIDAD DE LA PROGRAMACION DE LAS POLITICAS  DE DESARROLLO ESPAÑOLAS CON RESPECTO A LA SOCIEDAD CIV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osa Elca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tora de Cooperación Sectorial y Mult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gencia Española de Cooperación Internacional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zo 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B68-7BA2-4DC8-AA21-A6AF8D7A5D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13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TOS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su implicación en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ueva 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la Ayu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ulsar la Complementariedad y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visión de Tare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otros dona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de la  coordinación entre los distinto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timización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rovechamiento del conocimien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experiencia de 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umento de las Alianzas con el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ector priv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FBD-A803-463D-965B-A5946F394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PROGRAMACION DE LAS POLITICAS DE DESARROLLO ESPAÑOLAS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y de Cooperación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nes Directores cuatrie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 ( planes anual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rategias sectori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rcos de Aso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ECID: contratos de gestión, programación operativa, diagnósticos, planes de actuación, conve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E6E-3A19-469B-BAB6-AE253EA8B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DATOS AOD ESPAÑOL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68440" y="1600200"/>
          <a:ext cx="61992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600200"/>
                    <a:ext cx="61992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730-1AB1-4DED-865C-5EDD1CD177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LA EFECTIVIDAD DE LA PROGRAMACION DE LAS POLITICAS  DE DESARROLLO ESPAÑOLAS CON RESPECTO A LA SOCIEDAD CIVI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052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en los últimos  10 añ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Nuevo Rol de las SOC en la ayuda al desarro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gramación de las Políticas de Desarrollo españo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C3C-9F58-4B4A-AAB4-3FA68A4A3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ÚLTIMOS 10 AÑ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90’s :Enfoques Derechos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0 : Cumbre OD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2 : C. Monterr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 : C. Roma ( Armonización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: C. Marrakech (Gestión por Resultado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5: Declaración de Par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7: Código conducta UE (Complement y Division trabaj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Agenda de Acción para Acc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Ottawa (SC y Eficacia de la Ayud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D54-CD60-4806-8972-D9E7934031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ente integración  de la sociedad civil en la agenda de coordinación y eficacia de la ayu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articipacion de la sociedad civil como actor clave en la transparencia y rendición de cuentas a nivel local, nacional e inter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ncipio de apropiacion democratica y lo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4F4-2A5C-4D06-BB3E-97CCCE83F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 Sectores de intervenc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ferencia expresa en objetivos generales a SOC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bernabilidad Democratic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politicas publicas para la cohesión social, fortalecimeinto de la 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ducac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fortalecimiento de las organizaciones de la S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miento economico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spacios de dialgo y actuacion conju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struccion de Pa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82A-8799-4717-8211-A2DCD7183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as SOC en la eficacia de la Ayuda. Tip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ejecutora/ implemen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cción directa con personal expatriado que consigue resultados inmediatos y verific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gerencialista. P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ta de servicios ante un Estado ineficaz. Actualmente se debate como mejorar su eficacia, la gestión por resultado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facili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esora y apoya a la sociedad civil organizada y no  (ONGD sur) en su impulso hacia el cambio y progreso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de incidencia/ posicionamient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activa respecto a la construcción de la arquitectura de la ayu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E70-3C0C-49B0-B29F-F3B999800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C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ontextos de crisis, donde los espacios humanitarios son muy limitados y existe un alto riesgo para ONGs, actore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TA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 indicadores de desempeño propios d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inea sus Convenios y Proyectos con los “tiempos” de los ciclos del país 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armoniza con otras acciones en el pa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 Programát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ondos Multilater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ON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50E-D426-44A9-B391-F3E0FD43D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CILITA en el pais so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ompaña las intervenciones institucionales en la zona rural y/o poblaciones excluidas de las intervenciones institucionales, pero  apoyando también a las ONGs del SUR en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presentación de los intereses de sus comunidad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leva su voz a la nueva arquitectura (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capacidad para Influir en los ciclos de gobierno a través de su participación en los distintos grupos de trabajo local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Refuerza y lidera los procesos de asociacionismo de la SC del 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B38-6DC2-4229-BAAE-D40847F62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 INCID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unde información y contribuye a generar un estado de opinión en el país de trabajo, junto con sus socios locales, y sobre todo en el país de s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ticipa en el debate y se posiciona respecto a la eficacia de la ayuda en el ámbito nacional e internacional en los países donantes y en el ámbit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283-1229-4B70-8D4F-250D222CBA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CorralesR</dc:creator>
  <dc:description/>
  <dc:language>en-US</dc:language>
  <cp:lastModifiedBy>SVelazquezV</cp:lastModifiedBy>
  <dcterms:modified xsi:type="dcterms:W3CDTF">2010-03-14T19:07:26Z</dcterms:modified>
  <cp:revision>43</cp:revision>
  <dc:subject/>
  <dc:title>Diapositiva 1</dc:title>
</cp:coreProperties>
</file>