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000C8-BD1D-472F-8149-713D0939E1D3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C4174-0932-4B86-A794-704E5E1FC8D2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wler (1997, p. 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s ONGs del sur deberían poder participar en los ciclos de políticas publicas de sus países pero antes deben asegurar la capacidad de representar a sus comunidades y posteriormente su capacidad de influencia y/lobby en los ciclos políticos de su paí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0AC-6BC1-4B42-BD89-C06247B9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24A-6D52-473B-9000-3DAAE648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3AA-981E-4F26-9020-05EBE03C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B02-74F9-45B7-BA1A-2ACDD76E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9DE9-FF82-4172-8F03-09F22DE9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1D22-A1A4-4F85-BE04-161D8D27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CEC6-112E-4A92-859D-A3071E6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E798-892F-4927-AC73-83A2AE08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65B4-36DF-4154-8DC5-07AC1FEE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89AF-9D1B-446F-9DEC-99AF9529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EC79-6F45-4A31-A1EE-8CF5863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E74-A71B-448B-AAB4-C2E6F705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9802-2301-43D4-978D-0B05388D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A388-8722-471A-B7CF-5C6843B9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7F9E-FA94-4E1C-9293-F8655F01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E19B-31E7-4629-BA03-5B841B3A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D7AC-5B87-4EEE-AC24-491653AC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C582-9BDC-4D56-A18F-73ED4CEA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85F3-EE46-44AD-9233-76E85CCC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D8D1-FAD6-4858-BCAA-4985DFFF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8641-3DB5-4F05-AF98-16AFDD98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28DD-FC80-4CC1-B52C-810CDC94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062-FC6A-42EF-BF9A-69BD50B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9BEB-0788-49A2-A1CC-E18BA250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E087-3F2D-468E-8C9A-B1817215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EAD8-7FC9-4F71-A011-9F05AA8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8D1E-FDFB-4CFE-90BD-9DCD32C2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B5C3-0A85-4E11-B450-A816690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5D09-BDCE-499E-9EF8-176F1F7C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AFCE-80F1-4FCD-A9B0-82E740C2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DDF-AD5C-4512-A17E-3CA4E355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C2B-4A9F-4480-ADA3-6A4F1C35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720-F7B2-40D9-894C-1E31E4BB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985-6FA5-4CBF-987D-91467B8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204-B289-4FF6-B044-086AACC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970-A4FA-4056-B59A-2FDCD34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7669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359160" y="6244920"/>
            <a:ext cx="4640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8097840" y="6244920"/>
            <a:ext cx="581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B16F3-5F21-4FBE-9FF9-E7699AD9057D}" type="slidenum">
              <a:rPr b="0" lang="es-ES_tradnl" sz="1400" spc="-1" strike="noStrike">
                <a:solidFill>
                  <a:srgbClr val="440065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D7139D-7FF6-4A5D-AB53-EA5566EC7FF2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FA8698-BE78-44DC-B7C7-49A2BE492869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A CRISIS MUNDIAL Y LA EFICACIA DE LA AYU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73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EFECTIVIDAD DE LA PROGRAMACION DE LAS POLITICAS  DE DESARROLLO ESPAÑOLAS CON RESPECTO A LA SOCIEDAD CIV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osa Elca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tora de Cooperación Sectorial y Mult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gencia Española de Cooperación Internacional para el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7960" indent="0" algn="ctr">
              <a:lnSpc>
                <a:spcPct val="9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arzo 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EA3-69A8-4ABF-A85A-66AFD1CD85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13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TOS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r su implicación en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ueva 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la Ayu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ulsar la Complementariedad y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visión de Tare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n otros donan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jorar de la  coordinación entre los distinto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ctores españ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timización d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provechamiento del conocimient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experiencia de actores españ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umento de las Alianzas con el 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ector priv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DC1-58F6-4924-B252-5A463F43C6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ccecff"/>
                </a:solidFill>
                <a:latin typeface="Arial"/>
              </a:rPr>
              <a:t>PROGRAMACION DE LAS POLITICAS DE DESARROLLO ESPAÑOLAS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ey de Cooperación Inter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nes Directores cuatrie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I ( planes anual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rategias sectori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rcos de Aso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ECID: contratos de gestión, programación operativa, diagnósticos, planes de actuación, conve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452-8393-4AB1-AC0F-30B0076DC6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DATOS AOD ESPAÑOL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68440" y="1600200"/>
          <a:ext cx="61992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600200"/>
                    <a:ext cx="61992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222-FEB1-4C98-9EAA-A5CCEAE96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Arial"/>
              </a:rPr>
              <a:t>LA EFECTIVIDAD DE LA PROGRAMACION DE LAS POLITICAS  DE DESARROLLO ESPAÑOLAS CON RESPECTO A LA SOCIEDAD CIVI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1052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volución en los últimos  10 añ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Nuevo Rol de las SOC en la ayuda al desarrol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gramación de las Políticas de Desarrollo españo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3000"/>
              </a:lnSpc>
              <a:spcBef>
                <a:spcPts val="499"/>
              </a:spcBef>
              <a:buNone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DFC-56C0-4FE8-9B65-7991EF62CE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VOLUCIÓN ÚLTIMOS 10 AÑ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90’s :Enfoques Derechos para el Desarro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0 : Cumbre OD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2 : C. Monterr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3 : C. Roma ( Armonización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3: C. Marrakech (Gestión por Resultado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5: Declaración de Par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7: Código conducta UE (Complement y Division trabaj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8: Agenda de Acción para Acc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4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008: Ottawa (SC y Eficacia de la Ayud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66D-6F32-40A1-B8D9-27F6A1AE27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PLAN DIRECTOR 2009-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eciente integración  de la sociedad civil en la agenda de coordinación y eficacia de la ayu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articipacion de la sociedad civil como actor clave en la transparencia y rendición de cuentas a nivel local, nacional e interna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rincipio de apropiacion democratica y lo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BE2-4451-4BE9-98BE-6516497773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PLAN DIRECTOR 2009-2012 Sectores de intervenc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ferencia expresa en objetivos generales a SOC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obernabilidad Democratic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politicas publicas para la cohesión social, fortalecimeinto de la 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ducac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: fortalecimiento de las organizaciones de la S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ecimiento economico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spacios de dialgo y actuacion conjun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struccion de Paz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343-F974-4876-AF80-28357DA69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as SOC en la eficacia de la Ayuda. Tip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ejecutora/ implementadora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cción directa con personal expatriado que consigue resultados inmediatos y verific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gerencialista. P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ta de servicios ante un Estado ineficaz. Actualmente se debate como mejorar su eficacia, la gestión por resultados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facilitadora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sesora y apoya a la sociedad civil organizada y no  (ONGD sur) en su impulso hacia el cambio y progreso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73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SOC de incidencia/ posicionamient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activa respecto a la construcción de la arquitectura de la ayu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3360" y="6043680"/>
            <a:ext cx="3079800" cy="58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674-E69D-4A9F-8A27-ECEC65B3B8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CU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ontextos de crisis, donde los espacios humanitarios son muy limitados y existe un alto riesgo para ONGs, actore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TA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tiliza indicadores de desempeño propios del paí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inea sus Convenios y Proyectos con los “tiempos” de los ciclos del país rec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armoniza con otras acciones en el pa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 Programát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ondos Multilater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ON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143-081B-4908-ACFD-814B0FFE0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16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ACILITA en el pais so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ompaña las intervenciones institucionales en la zona rural y/o poblaciones excluidas de las intervenciones institucionales, pero  apoyando también a las ONGs del SUR en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presentación de los intereses de sus comunidad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leva su voz a la nueva arquitectura (Acc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 capacidad para Influir en los ciclos de gobierno a través de su participación en los distintos grupos de trabajo locales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Refuerza y lidera los procesos de asociacionismo de la SC del S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CF3-C39C-4CA1-BEE0-32915C3ED4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l papel de la SO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168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 INCID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unde información y contribuye a generar un estado de opinión en el país de trabajo, junto con sus socios locales, y sobre todo en el país de se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93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ticipa en el debate y se posiciona respecto a la eficacia de la ayuda en el ámbito nacional e internacional en los países donantes y en el ámbit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C0C-B73E-407A-873A-2FD4BFFC00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CorralesR</dc:creator>
  <dc:description/>
  <dc:language>en-US</dc:language>
  <cp:lastModifiedBy>SVelazquezV</cp:lastModifiedBy>
  <dcterms:modified xsi:type="dcterms:W3CDTF">2010-03-14T19:07:26Z</dcterms:modified>
  <cp:revision>43</cp:revision>
  <dc:subject/>
  <dc:title>Diapositiva 1</dc:title>
</cp:coreProperties>
</file>