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55EF-4246-4C6C-93BD-F6234E7F64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5CEF-08D4-4BAB-AD30-1ED09789773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27C2-133A-4554-940E-8A27EB5724C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9917-8C78-4BE8-BE76-F5B15618BB5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FC8E-2A5B-4AC4-BF7E-34EC1D6E2A0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F1EE-36CD-42C5-9FC8-EECE928421F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C57C-0334-4F44-9859-9A246C16202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4150-8899-460E-B5B5-D187993D68C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A19D-2933-4F39-BDE4-E8AEF00B1B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F743-DF3D-4E7C-AF56-DA4A2112F3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BD88-8306-4EBF-A915-29F5A2F20AB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FEC6-CE38-4BC5-976D-F015D98A09A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D542-8305-4DA8-BF13-30BE6B7AF93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5789-6EDE-4F20-996B-447899CB162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1497-51EC-414B-9F8B-5240A73D05E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BD56-B61B-46E3-AC07-77C631D893A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2244C-4022-4D21-B539-42F9BE3F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08398-68BC-4182-9784-6AA90714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B2FF6-64EA-40E7-B87A-2D3DA6A4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773BC-E354-4133-A098-F0C1A02E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CA8A-94A6-4C47-AA71-07D45C91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B1BF-3582-43BB-867E-8D02970C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3CDD-204A-4C15-9ECE-93F99C09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8195-A0A7-43D6-B63D-E1FE4570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75F0-A32B-4B28-92AD-1CCDBD53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E231-DF16-4ACA-91AF-4597D634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AA06-DB73-45FB-BC44-ED79C3D2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3AFC6-7369-41BC-85A4-891B6FB9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A0DF-E85B-41BC-BF19-F0ECF368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CC70-0890-4401-9A03-1B071CBE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75AB-E80A-4C9E-AD2B-064BEDBD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EEEB-BDF8-409A-AE81-E600C72F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FC16-F7D6-41CE-9FA9-6344370A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0FBC0-0A91-4E14-95E2-3CD96459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8315C-49E5-447F-8A18-C735F579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811CF-C417-4B84-ACD8-25D93E31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6E43D-DCDF-4B83-8DC9-17CAADBE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E3F7A-BCC5-4DAB-9AD7-33778C9E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02E93-2B23-4A81-955A-8A9DFF55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922C9-5742-49A8-9B25-A653C86C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2A03-1EF7-4B0F-9CA7-28C58C08EF7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4BC0-8ED7-4C58-8449-461ACCB931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Investing in People</a:t>
            </a:r>
            <a:br>
              <a:rPr sz="6000"/>
            </a:b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2007 - 2013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mplem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tronger focus on strategic interventions (global and strategic partnerships – involvement in governanc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alls for proposals reserved for areas where civil society participation is cruc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DG based – focus on countries with worst MDG indicators (except for ENP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ore specific details to be presented in annual action program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Implementation modalities</a:t>
            </a:r>
            <a:br>
              <a:rPr sz="4000"/>
            </a:b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2007 - 2010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395280" y="1413000"/>
            <a:ext cx="8353440" cy="4752720"/>
            <a:chOff x="395280" y="1413000"/>
            <a:chExt cx="8353440" cy="4752720"/>
          </a:xfrm>
        </p:grpSpPr>
        <p:sp>
          <p:nvSpPr>
            <p:cNvPr id="132" name="AutoShape 5"/>
            <p:cNvSpPr/>
            <p:nvPr/>
          </p:nvSpPr>
          <p:spPr>
            <a:xfrm>
              <a:off x="395280" y="1413000"/>
              <a:ext cx="8353440" cy="47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465840" y="1484640"/>
              <a:ext cx="8212320" cy="462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973800" y="2432160"/>
              <a:ext cx="5094000" cy="308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973800" y="2432160"/>
              <a:ext cx="0" cy="30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917280" y="551952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917280" y="517500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Line 11"/>
            <p:cNvSpPr/>
            <p:nvPr/>
          </p:nvSpPr>
          <p:spPr>
            <a:xfrm>
              <a:off x="917280" y="483048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Line 12"/>
            <p:cNvSpPr/>
            <p:nvPr/>
          </p:nvSpPr>
          <p:spPr>
            <a:xfrm>
              <a:off x="917280" y="448560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917280" y="414108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917280" y="381060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917280" y="346608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917280" y="312156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>
              <a:off x="917280" y="277704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>
              <a:off x="917280" y="243216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Line 19"/>
            <p:cNvSpPr/>
            <p:nvPr/>
          </p:nvSpPr>
          <p:spPr>
            <a:xfrm>
              <a:off x="973800" y="5519520"/>
              <a:ext cx="5094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Line 20"/>
            <p:cNvSpPr/>
            <p:nvPr/>
          </p:nvSpPr>
          <p:spPr>
            <a:xfrm flipV="1">
              <a:off x="973800" y="55191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Line 21"/>
            <p:cNvSpPr/>
            <p:nvPr/>
          </p:nvSpPr>
          <p:spPr>
            <a:xfrm flipV="1">
              <a:off x="2243520" y="55191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Line 22"/>
            <p:cNvSpPr/>
            <p:nvPr/>
          </p:nvSpPr>
          <p:spPr>
            <a:xfrm flipV="1">
              <a:off x="3527640" y="55191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Line 23"/>
            <p:cNvSpPr/>
            <p:nvPr/>
          </p:nvSpPr>
          <p:spPr>
            <a:xfrm flipV="1">
              <a:off x="4797720" y="55191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V="1">
              <a:off x="6067800" y="55191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Freeform 25"/>
            <p:cNvSpPr/>
            <p:nvPr/>
          </p:nvSpPr>
          <p:spPr>
            <a:xfrm>
              <a:off x="1608840" y="2619000"/>
              <a:ext cx="3823920" cy="1191600"/>
            </a:xfrm>
            <a:custGeom>
              <a:avLst/>
              <a:gdLst>
                <a:gd name="textAreaLeft" fmla="*/ 0 w 3823920"/>
                <a:gd name="textAreaRight" fmla="*/ 3824280 w 3823920"/>
                <a:gd name="textAreaTop" fmla="*/ 0 h 1191600"/>
                <a:gd name="textAreaBottom" fmla="*/ 1191960 h 1191600"/>
              </a:gdLst>
              <a:ahLst/>
              <a:rect l="textAreaLeft" t="textAreaTop" r="textAreaRight" b="textAreaBottom"/>
              <a:pathLst>
                <a:path w="271" h="83">
                  <a:moveTo>
                    <a:pt x="0" y="39"/>
                  </a:moveTo>
                  <a:lnTo>
                    <a:pt x="90" y="0"/>
                  </a:lnTo>
                  <a:lnTo>
                    <a:pt x="181" y="55"/>
                  </a:lnTo>
                  <a:lnTo>
                    <a:pt x="271" y="83"/>
                  </a:ln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Freeform 26"/>
            <p:cNvSpPr/>
            <p:nvPr/>
          </p:nvSpPr>
          <p:spPr>
            <a:xfrm>
              <a:off x="1608840" y="3437640"/>
              <a:ext cx="3823920" cy="1550520"/>
            </a:xfrm>
            <a:custGeom>
              <a:avLst/>
              <a:gdLst>
                <a:gd name="textAreaLeft" fmla="*/ 0 w 3823920"/>
                <a:gd name="textAreaRight" fmla="*/ 3824280 w 3823920"/>
                <a:gd name="textAreaTop" fmla="*/ 0 h 1550520"/>
                <a:gd name="textAreaBottom" fmla="*/ 1550880 h 1550520"/>
              </a:gdLst>
              <a:ahLst/>
              <a:rect l="textAreaLeft" t="textAreaTop" r="textAreaRight" b="textAreaBottom"/>
              <a:pathLst>
                <a:path w="271" h="108">
                  <a:moveTo>
                    <a:pt x="0" y="108"/>
                  </a:moveTo>
                  <a:lnTo>
                    <a:pt x="90" y="44"/>
                  </a:lnTo>
                  <a:lnTo>
                    <a:pt x="181" y="4"/>
                  </a:lnTo>
                  <a:lnTo>
                    <a:pt x="271" y="0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Freeform 27"/>
            <p:cNvSpPr/>
            <p:nvPr/>
          </p:nvSpPr>
          <p:spPr>
            <a:xfrm>
              <a:off x="1566360" y="3135960"/>
              <a:ext cx="84600" cy="856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Freeform 28"/>
            <p:cNvSpPr/>
            <p:nvPr/>
          </p:nvSpPr>
          <p:spPr>
            <a:xfrm>
              <a:off x="2836080" y="2575800"/>
              <a:ext cx="84600" cy="860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Freeform 29"/>
            <p:cNvSpPr/>
            <p:nvPr/>
          </p:nvSpPr>
          <p:spPr>
            <a:xfrm>
              <a:off x="4120560" y="3365640"/>
              <a:ext cx="84240" cy="860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Freeform 30"/>
            <p:cNvSpPr/>
            <p:nvPr/>
          </p:nvSpPr>
          <p:spPr>
            <a:xfrm>
              <a:off x="5390280" y="3767760"/>
              <a:ext cx="84600" cy="860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Rectangle 31"/>
            <p:cNvSpPr/>
            <p:nvPr/>
          </p:nvSpPr>
          <p:spPr>
            <a:xfrm>
              <a:off x="1566360" y="4945320"/>
              <a:ext cx="70560" cy="716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Rectangle 32"/>
            <p:cNvSpPr/>
            <p:nvPr/>
          </p:nvSpPr>
          <p:spPr>
            <a:xfrm>
              <a:off x="2836080" y="4026240"/>
              <a:ext cx="70560" cy="712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Rectangle 33"/>
            <p:cNvSpPr/>
            <p:nvPr/>
          </p:nvSpPr>
          <p:spPr>
            <a:xfrm>
              <a:off x="4120560" y="3452040"/>
              <a:ext cx="70200" cy="712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Rectangle 34"/>
            <p:cNvSpPr/>
            <p:nvPr/>
          </p:nvSpPr>
          <p:spPr>
            <a:xfrm>
              <a:off x="5390280" y="3394440"/>
              <a:ext cx="70200" cy="716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Rectangle 35"/>
            <p:cNvSpPr/>
            <p:nvPr/>
          </p:nvSpPr>
          <p:spPr>
            <a:xfrm>
              <a:off x="2046240" y="1645560"/>
              <a:ext cx="72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Rectangle 36"/>
            <p:cNvSpPr/>
            <p:nvPr/>
          </p:nvSpPr>
          <p:spPr>
            <a:xfrm>
              <a:off x="735480" y="540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Rectangle 37"/>
            <p:cNvSpPr/>
            <p:nvPr/>
          </p:nvSpPr>
          <p:spPr>
            <a:xfrm>
              <a:off x="634320" y="50608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Rectangle 38"/>
            <p:cNvSpPr/>
            <p:nvPr/>
          </p:nvSpPr>
          <p:spPr>
            <a:xfrm>
              <a:off x="634320" y="4718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Rectangle 39"/>
            <p:cNvSpPr/>
            <p:nvPr/>
          </p:nvSpPr>
          <p:spPr>
            <a:xfrm>
              <a:off x="634320" y="4370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Rectangle 40"/>
            <p:cNvSpPr/>
            <p:nvPr/>
          </p:nvSpPr>
          <p:spPr>
            <a:xfrm>
              <a:off x="634320" y="4027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Rectangle 41"/>
            <p:cNvSpPr/>
            <p:nvPr/>
          </p:nvSpPr>
          <p:spPr>
            <a:xfrm>
              <a:off x="634320" y="3693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Rectangle 42"/>
            <p:cNvSpPr/>
            <p:nvPr/>
          </p:nvSpPr>
          <p:spPr>
            <a:xfrm>
              <a:off x="634320" y="3354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Rectangle 43"/>
            <p:cNvSpPr/>
            <p:nvPr/>
          </p:nvSpPr>
          <p:spPr>
            <a:xfrm>
              <a:off x="634320" y="3003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Rectangle 44"/>
            <p:cNvSpPr/>
            <p:nvPr/>
          </p:nvSpPr>
          <p:spPr>
            <a:xfrm>
              <a:off x="634320" y="2662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Rectangle 45"/>
            <p:cNvSpPr/>
            <p:nvPr/>
          </p:nvSpPr>
          <p:spPr>
            <a:xfrm>
              <a:off x="634320" y="23126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Rectangle 46"/>
            <p:cNvSpPr/>
            <p:nvPr/>
          </p:nvSpPr>
          <p:spPr>
            <a:xfrm>
              <a:off x="1563840" y="56815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a886e0"/>
                  </a:solidFill>
                  <a:latin typeface="Times New Roman"/>
                </a:rPr>
                <a:t>07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Rectangle 47"/>
            <p:cNvSpPr/>
            <p:nvPr/>
          </p:nvSpPr>
          <p:spPr>
            <a:xfrm>
              <a:off x="2835360" y="5681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8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Rectangle 48"/>
            <p:cNvSpPr/>
            <p:nvPr/>
          </p:nvSpPr>
          <p:spPr>
            <a:xfrm>
              <a:off x="4121640" y="5681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9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Rectangle 49"/>
            <p:cNvSpPr/>
            <p:nvPr/>
          </p:nvSpPr>
          <p:spPr>
            <a:xfrm>
              <a:off x="5391360" y="5681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Rectangle 50"/>
            <p:cNvSpPr/>
            <p:nvPr/>
          </p:nvSpPr>
          <p:spPr>
            <a:xfrm>
              <a:off x="6321600" y="3480480"/>
              <a:ext cx="2412720" cy="10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8" name="Line 51"/>
            <p:cNvSpPr/>
            <p:nvPr/>
          </p:nvSpPr>
          <p:spPr>
            <a:xfrm>
              <a:off x="6293520" y="3624120"/>
              <a:ext cx="38088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9" name="Freeform 52"/>
            <p:cNvSpPr/>
            <p:nvPr/>
          </p:nvSpPr>
          <p:spPr>
            <a:xfrm>
              <a:off x="6434640" y="3580920"/>
              <a:ext cx="84600" cy="860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0" name="Rectangle 53"/>
            <p:cNvSpPr/>
            <p:nvPr/>
          </p:nvSpPr>
          <p:spPr>
            <a:xfrm>
              <a:off x="6716520" y="351036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rect agreements (mil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1" name="Rectangle 54"/>
            <p:cNvSpPr/>
            <p:nvPr/>
          </p:nvSpPr>
          <p:spPr>
            <a:xfrm>
              <a:off x="6717960" y="3727440"/>
              <a:ext cx="24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UR)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2" name="Line 55"/>
            <p:cNvSpPr/>
            <p:nvPr/>
          </p:nvSpPr>
          <p:spPr>
            <a:xfrm>
              <a:off x="6293520" y="4126680"/>
              <a:ext cx="38088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3" name="Rectangle 56"/>
            <p:cNvSpPr/>
            <p:nvPr/>
          </p:nvSpPr>
          <p:spPr>
            <a:xfrm>
              <a:off x="6434640" y="4083480"/>
              <a:ext cx="70560" cy="716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Rectangle 57"/>
            <p:cNvSpPr/>
            <p:nvPr/>
          </p:nvSpPr>
          <p:spPr>
            <a:xfrm>
              <a:off x="6715440" y="4008240"/>
              <a:ext cx="1069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lls for proposals (mil.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Rectangle 58"/>
            <p:cNvSpPr/>
            <p:nvPr/>
          </p:nvSpPr>
          <p:spPr>
            <a:xfrm>
              <a:off x="6717960" y="4224240"/>
              <a:ext cx="24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UR)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Examples of programmes (2009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irect agreements – GFATM, FTI, GAV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alls for propos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porting civil society organisations in their efforts to fight adult women's illiteracy and promoting women's property owner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apacity Development and Advocacy on sexual and reproductive health and rights poli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  <a:ea typeface="宋体"/>
              </a:rPr>
              <a:t>Accès à la culture locale, protection et promotion de la diversité culturelle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MTR: Go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termine whether priorities should be modif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termine whether value added can be strengthen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termine whether impact and visibility can be increa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velop MIP 2011 – 201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tate of play: approval pro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Policy developments &amp; implica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ange of thematically focused policies (HRH, Rights of Child, Gender equality, Cultur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road aid effectiveness policies (budget support, division of labour, joint programmin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mplications for IIP’s contribution – principles for action in two are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ntribution to global and regional initiati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trengthening of civil society at country level (links with regional and global network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Implementation: Lessons Learne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erging funding to achieve visible impact; focusing on limited number of priorities per y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NPI countries – earmarking without separate action (unless desirabl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mplementarity with other financing instruments and MSs (joint programming with M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Programming priorities 2011 - 2013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To follow the existing strategy with new policy development and implementation experience in mi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Health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(HRH and other areas of HSS, Communicable diseases, SRHR, neglected and non-communicable diseases; access to medicines = intra-AC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Education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(basic and TVET; higher = intra-ACP); proposal for funding incre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Gender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= cross-cutting issue (mainstreaming) + additional action (women’s rights, economic and social empowerment); proposal for funding incre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Other aspects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of human and social development (employment, children, cultur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urpose of thematic program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plementary instrument to country programmes for EC development assistance in the area of human and social develop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o support activities at the regional and global levels, through partnerships, innovative and catalytic measures and other development measures to the benefit of countries with most critical MD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Based on the DCI regulation (Art. 12); thematic strategy provides multi-annual guidance (2007 – 2013) and is subject to the MT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hematic are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termined by policy frameworks and strategies developed or in the process of being develop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Good health for 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ducation, knowledge and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Gender equ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ther aspects of human and social develo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hematic areas - healt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ost crucial areas, where additional assistance is required to reach the MD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Human resource crisis in health – limits the ability of developing countries to deliver health care services; other HSS thematic are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eading poverty-related diseases – undermine overall development efforts; non-communicable dise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exual and reproductive health and rig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hematic areas - edu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wo track approach focusing 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creasing enrolment rates and promoting equal access to quality education among boys and gir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reating conditions for better access to vocational and skills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Additional financing for national strategies; policy dialogue at regional leve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hematic areas – gender equa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pplements activities pursued under the other area of the thematic programme (gender equality = cross cutting issu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ainly support of advocacy, policy development, capacity building, support and monitoring activ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pecific themes to be elaborated in annual action programmes (e.g. women’s property rights, FGM, etc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hematic areas – other are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vers wide area of additional development areas, where strategic and policy frameworks will be completed in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cent work, employment and social cohe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hildren and you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Financial allocation</a:t>
            </a:r>
            <a:br>
              <a:rPr sz="4000"/>
            </a:b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2007 - 2013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457200" y="1601640"/>
          <a:ext cx="82296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1640"/>
                    <a:ext cx="82296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CI perspective 2007 – 2013 = 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€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1.060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ealth (55%); Education (12%); Gender (5 %); Other (21%); Contingency and Administration (7%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mparison with 2003 - 200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hift from focusing almost exclusively on health agenda to pursuing much broader approach to human and social develo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eduction in health by 23% (crucial issues, EC credibility/value added, strategic partnership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ducation financing increased 15 ti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Gender equality financing triples (on top of heavy cross cutting under all are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1/5 of all financing for new policy are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4:13:09Z</dcterms:created>
  <dc:creator>Ondrej Simek</dc:creator>
  <dc:description/>
  <dc:language>en-US</dc:language>
  <cp:lastModifiedBy>Paola Simonetti</cp:lastModifiedBy>
  <dcterms:modified xsi:type="dcterms:W3CDTF">2010-02-24T16:25:20Z</dcterms:modified>
  <cp:revision>11</cp:revision>
  <dc:subject/>
  <dc:title>Investing in People</dc:title>
</cp:coreProperties>
</file>