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6F75-7476-44CA-A07F-19BCE6494E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1329-0F22-49F4-B54D-B5DA79C43B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719F-4320-498F-9589-114C6EF7E6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0805-CCCD-471C-A1F3-6D64634756B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FF2F-3F19-430E-AB2E-E8A93C68924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5DFC-F16B-4AED-ACA5-D13E58E3EB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3ACB-E54F-454C-B1D6-FB2F702852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56D6-0331-4F68-926D-E3548F7BB67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E50B-3CD5-4D33-9BAC-B9AF58754E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31A6-7F15-4116-A954-A5AD87ACEE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56B5-DA18-48E7-95FE-F573C8A42F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54F3-E0C9-445B-A91E-BDE4062D982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BB29-7440-40CC-BC21-553B603733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9869-0D3D-4C87-BEB6-3247714DDE1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85C6-B5E0-437F-B5E2-409D3DF531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FC5B-7AE1-49C4-BD89-B4D760DEBE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E8A7-7A78-489F-A64D-9DC801A2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7E70-3E59-44CB-81A0-C32C35FB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ABF9-CFAA-473E-9D15-68A3CBA4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FA2C-B8E8-481B-B011-02C8E40A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9006-34C6-42D7-AAA2-6B43BAB5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CFAF-A1DC-43C7-B90A-AE9FCF4A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18CD-8A4C-4CAB-B8CF-5905657D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064B-9E04-4F53-A195-A3D484C6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596D-DD35-40A0-B19E-32B8A504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12DE-CE24-4DD9-A2B9-9B675C8F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0019-1D3A-4A4A-BC6A-9736ECDA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000C-16C5-457F-8207-DD95EB71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E3C5-4D49-4302-A789-1106D68A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E73B-A0F1-49E6-B0A6-FD01B5A0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07A0-195C-45FE-91CF-3971A699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E194-C94D-4249-BE3D-5CB55537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FD90-D0A4-4F84-861B-A9152335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000A-F065-4692-AA47-1DB75907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E541F-9E41-445E-AB93-F80F4BE4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3B75E-4F07-4969-B864-CDA8A9F7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633B9-BB1A-4568-A0EB-FEE0C662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7AD67-4FC1-4F8B-8C13-DC432BE1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ADBE8-FD7A-44E2-B437-367CBF0F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5E3C-1983-42A1-BEC0-4A9A7C52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FA16-D0BC-4313-82D5-C50BABA6FA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3CA1-0746-4B10-B334-51B566D883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Investing in People</a:t>
            </a:r>
            <a:br>
              <a:rPr sz="6000"/>
            </a:b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2007 - 2013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mple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tronger focus on strategic interventions (global and strategic partnerships – involvement in governanc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lls for proposals reserved for areas where civil society participation is cruc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DG based – focus on countries with worst MDG indicators (except for ENP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ore specific details to be presented in annual action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Implementation modalities</a:t>
            </a:r>
            <a:br>
              <a:rPr sz="4000"/>
            </a:b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2007 - 2010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395280" y="1413000"/>
            <a:ext cx="8353440" cy="4752720"/>
            <a:chOff x="395280" y="1413000"/>
            <a:chExt cx="8353440" cy="4752720"/>
          </a:xfrm>
        </p:grpSpPr>
        <p:sp>
          <p:nvSpPr>
            <p:cNvPr id="132" name="AutoShape 5"/>
            <p:cNvSpPr/>
            <p:nvPr/>
          </p:nvSpPr>
          <p:spPr>
            <a:xfrm>
              <a:off x="395280" y="1413000"/>
              <a:ext cx="8353440" cy="47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465840" y="1484640"/>
              <a:ext cx="8212320" cy="462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973800" y="2432160"/>
              <a:ext cx="5094000" cy="30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973800" y="2432160"/>
              <a:ext cx="0" cy="30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917280" y="551952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917280" y="517500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Line 11"/>
            <p:cNvSpPr/>
            <p:nvPr/>
          </p:nvSpPr>
          <p:spPr>
            <a:xfrm>
              <a:off x="917280" y="483048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>
              <a:off x="917280" y="448560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917280" y="414108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917280" y="381060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917280" y="346608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917280" y="312156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917280" y="277704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917280" y="2432160"/>
              <a:ext cx="56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Line 19"/>
            <p:cNvSpPr/>
            <p:nvPr/>
          </p:nvSpPr>
          <p:spPr>
            <a:xfrm>
              <a:off x="973800" y="5519520"/>
              <a:ext cx="5094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 flipV="1">
              <a:off x="973800" y="55191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Line 21"/>
            <p:cNvSpPr/>
            <p:nvPr/>
          </p:nvSpPr>
          <p:spPr>
            <a:xfrm flipV="1">
              <a:off x="2243520" y="55191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Line 22"/>
            <p:cNvSpPr/>
            <p:nvPr/>
          </p:nvSpPr>
          <p:spPr>
            <a:xfrm flipV="1">
              <a:off x="3527640" y="55191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 flipV="1">
              <a:off x="4797720" y="55191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V="1">
              <a:off x="6067800" y="55191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Freeform 25"/>
            <p:cNvSpPr/>
            <p:nvPr/>
          </p:nvSpPr>
          <p:spPr>
            <a:xfrm>
              <a:off x="1608840" y="2619000"/>
              <a:ext cx="3823920" cy="1191600"/>
            </a:xfrm>
            <a:custGeom>
              <a:avLst/>
              <a:gdLst>
                <a:gd name="textAreaLeft" fmla="*/ 0 w 3823920"/>
                <a:gd name="textAreaRight" fmla="*/ 3824280 w 3823920"/>
                <a:gd name="textAreaTop" fmla="*/ 0 h 1191600"/>
                <a:gd name="textAreaBottom" fmla="*/ 1191960 h 1191600"/>
              </a:gdLst>
              <a:ahLst/>
              <a:rect l="textAreaLeft" t="textAreaTop" r="textAreaRight" b="textAreaBottom"/>
              <a:pathLst>
                <a:path w="271" h="83">
                  <a:moveTo>
                    <a:pt x="0" y="39"/>
                  </a:moveTo>
                  <a:lnTo>
                    <a:pt x="90" y="0"/>
                  </a:lnTo>
                  <a:lnTo>
                    <a:pt x="181" y="55"/>
                  </a:lnTo>
                  <a:lnTo>
                    <a:pt x="271" y="83"/>
                  </a:ln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Freeform 26"/>
            <p:cNvSpPr/>
            <p:nvPr/>
          </p:nvSpPr>
          <p:spPr>
            <a:xfrm>
              <a:off x="1608840" y="3437640"/>
              <a:ext cx="3823920" cy="1550520"/>
            </a:xfrm>
            <a:custGeom>
              <a:avLst/>
              <a:gdLst>
                <a:gd name="textAreaLeft" fmla="*/ 0 w 3823920"/>
                <a:gd name="textAreaRight" fmla="*/ 3824280 w 3823920"/>
                <a:gd name="textAreaTop" fmla="*/ 0 h 1550520"/>
                <a:gd name="textAreaBottom" fmla="*/ 1550880 h 1550520"/>
              </a:gdLst>
              <a:ahLst/>
              <a:rect l="textAreaLeft" t="textAreaTop" r="textAreaRight" b="textAreaBottom"/>
              <a:pathLst>
                <a:path w="271" h="108">
                  <a:moveTo>
                    <a:pt x="0" y="108"/>
                  </a:moveTo>
                  <a:lnTo>
                    <a:pt x="90" y="44"/>
                  </a:lnTo>
                  <a:lnTo>
                    <a:pt x="181" y="4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Freeform 27"/>
            <p:cNvSpPr/>
            <p:nvPr/>
          </p:nvSpPr>
          <p:spPr>
            <a:xfrm>
              <a:off x="1566360" y="3135960"/>
              <a:ext cx="84600" cy="856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Freeform 28"/>
            <p:cNvSpPr/>
            <p:nvPr/>
          </p:nvSpPr>
          <p:spPr>
            <a:xfrm>
              <a:off x="2836080" y="2575800"/>
              <a:ext cx="84600" cy="86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Freeform 29"/>
            <p:cNvSpPr/>
            <p:nvPr/>
          </p:nvSpPr>
          <p:spPr>
            <a:xfrm>
              <a:off x="4120560" y="3365640"/>
              <a:ext cx="84240" cy="86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Freeform 30"/>
            <p:cNvSpPr/>
            <p:nvPr/>
          </p:nvSpPr>
          <p:spPr>
            <a:xfrm>
              <a:off x="5390280" y="3767760"/>
              <a:ext cx="84600" cy="86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Rectangle 31"/>
            <p:cNvSpPr/>
            <p:nvPr/>
          </p:nvSpPr>
          <p:spPr>
            <a:xfrm>
              <a:off x="1566360" y="4945320"/>
              <a:ext cx="70560" cy="71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Rectangle 32"/>
            <p:cNvSpPr/>
            <p:nvPr/>
          </p:nvSpPr>
          <p:spPr>
            <a:xfrm>
              <a:off x="2836080" y="4026240"/>
              <a:ext cx="70560" cy="712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Rectangle 33"/>
            <p:cNvSpPr/>
            <p:nvPr/>
          </p:nvSpPr>
          <p:spPr>
            <a:xfrm>
              <a:off x="4120560" y="3452040"/>
              <a:ext cx="70200" cy="712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Rectangle 34"/>
            <p:cNvSpPr/>
            <p:nvPr/>
          </p:nvSpPr>
          <p:spPr>
            <a:xfrm>
              <a:off x="5390280" y="3394440"/>
              <a:ext cx="70200" cy="71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Rectangle 35"/>
            <p:cNvSpPr/>
            <p:nvPr/>
          </p:nvSpPr>
          <p:spPr>
            <a:xfrm>
              <a:off x="2046240" y="1645560"/>
              <a:ext cx="7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Rectangle 36"/>
            <p:cNvSpPr/>
            <p:nvPr/>
          </p:nvSpPr>
          <p:spPr>
            <a:xfrm>
              <a:off x="735480" y="5406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Rectangle 37"/>
            <p:cNvSpPr/>
            <p:nvPr/>
          </p:nvSpPr>
          <p:spPr>
            <a:xfrm>
              <a:off x="634320" y="5060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Rectangle 38"/>
            <p:cNvSpPr/>
            <p:nvPr/>
          </p:nvSpPr>
          <p:spPr>
            <a:xfrm>
              <a:off x="634320" y="4718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Rectangle 39"/>
            <p:cNvSpPr/>
            <p:nvPr/>
          </p:nvSpPr>
          <p:spPr>
            <a:xfrm>
              <a:off x="634320" y="4370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Rectangle 40"/>
            <p:cNvSpPr/>
            <p:nvPr/>
          </p:nvSpPr>
          <p:spPr>
            <a:xfrm>
              <a:off x="634320" y="402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Rectangle 41"/>
            <p:cNvSpPr/>
            <p:nvPr/>
          </p:nvSpPr>
          <p:spPr>
            <a:xfrm>
              <a:off x="634320" y="3693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634320" y="3354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Rectangle 43"/>
            <p:cNvSpPr/>
            <p:nvPr/>
          </p:nvSpPr>
          <p:spPr>
            <a:xfrm>
              <a:off x="634320" y="3003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Rectangle 44"/>
            <p:cNvSpPr/>
            <p:nvPr/>
          </p:nvSpPr>
          <p:spPr>
            <a:xfrm>
              <a:off x="634320" y="2662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Rectangle 45"/>
            <p:cNvSpPr/>
            <p:nvPr/>
          </p:nvSpPr>
          <p:spPr>
            <a:xfrm>
              <a:off x="634320" y="23126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Rectangle 46"/>
            <p:cNvSpPr/>
            <p:nvPr/>
          </p:nvSpPr>
          <p:spPr>
            <a:xfrm>
              <a:off x="1563840" y="56815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a886e0"/>
                  </a:solidFill>
                  <a:latin typeface="Times New Roman"/>
                </a:rPr>
                <a:t>07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Rectangle 47"/>
            <p:cNvSpPr/>
            <p:nvPr/>
          </p:nvSpPr>
          <p:spPr>
            <a:xfrm>
              <a:off x="2835360" y="568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Rectangle 48"/>
            <p:cNvSpPr/>
            <p:nvPr/>
          </p:nvSpPr>
          <p:spPr>
            <a:xfrm>
              <a:off x="4121640" y="568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Rectangle 49"/>
            <p:cNvSpPr/>
            <p:nvPr/>
          </p:nvSpPr>
          <p:spPr>
            <a:xfrm>
              <a:off x="5391360" y="568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Rectangle 50"/>
            <p:cNvSpPr/>
            <p:nvPr/>
          </p:nvSpPr>
          <p:spPr>
            <a:xfrm>
              <a:off x="6321600" y="3480480"/>
              <a:ext cx="2412720" cy="10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Line 51"/>
            <p:cNvSpPr/>
            <p:nvPr/>
          </p:nvSpPr>
          <p:spPr>
            <a:xfrm>
              <a:off x="6293520" y="3624120"/>
              <a:ext cx="38088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Freeform 52"/>
            <p:cNvSpPr/>
            <p:nvPr/>
          </p:nvSpPr>
          <p:spPr>
            <a:xfrm>
              <a:off x="6434640" y="3580920"/>
              <a:ext cx="84600" cy="86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Rectangle 53"/>
            <p:cNvSpPr/>
            <p:nvPr/>
          </p:nvSpPr>
          <p:spPr>
            <a:xfrm>
              <a:off x="6716520" y="351036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rect agreements (mil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Rectangle 54"/>
            <p:cNvSpPr/>
            <p:nvPr/>
          </p:nvSpPr>
          <p:spPr>
            <a:xfrm>
              <a:off x="6717960" y="3727440"/>
              <a:ext cx="24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UR)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Line 55"/>
            <p:cNvSpPr/>
            <p:nvPr/>
          </p:nvSpPr>
          <p:spPr>
            <a:xfrm>
              <a:off x="6293520" y="4126680"/>
              <a:ext cx="38088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Rectangle 56"/>
            <p:cNvSpPr/>
            <p:nvPr/>
          </p:nvSpPr>
          <p:spPr>
            <a:xfrm>
              <a:off x="6434640" y="4083480"/>
              <a:ext cx="70560" cy="71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Rectangle 57"/>
            <p:cNvSpPr/>
            <p:nvPr/>
          </p:nvSpPr>
          <p:spPr>
            <a:xfrm>
              <a:off x="6715440" y="4008240"/>
              <a:ext cx="1069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ls for proposals (mil.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Rectangle 58"/>
            <p:cNvSpPr/>
            <p:nvPr/>
          </p:nvSpPr>
          <p:spPr>
            <a:xfrm>
              <a:off x="6717960" y="4224240"/>
              <a:ext cx="24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UR)</a:t>
              </a:r>
              <a:endParaRPr b="0" lang="en-US" sz="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Examples of programmes (2009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irect agreements – GFATM, FTI, GAV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alls for propos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orting civil society organisations in their efforts to fight adult women's illiteracy and promoting women's property owner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apacity Development and Advocacy on sexual and reproductive health and rights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  <a:ea typeface="宋体"/>
              </a:rPr>
              <a:t>Accès à la culture locale, protection et promotion de la diversité culturelle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MTR: Go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termine whether priorities should be modi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termine whether value added can be strengthen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termine whether impact and visibility can be increa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velop MIP 2011 – 201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tate of play: approval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Policy developments &amp; implica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ange of thematically focused policies (HRH, Rights of Child, Gender equality, Cultur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road aid effectiveness policies (budget support, division of labour, joint programm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mplications for IIP’s contribution – principles for action in two are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ntribution to global and regional initiat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trengthening of civil society at country level (links with regional and global network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Implementation: Lessons Learn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erging funding to achieve visible impact; focusing on limited number of priorities per y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NPI countries – earmarking without separate action (unless desirab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mplementarity with other financing instruments and MSs (joint programming with M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Programming priorities 2011 - 2013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To follow the existing strategy with new policy development and implementation experience in mi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Health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(HRH and other areas of HSS, Communicable diseases, SRHR, neglected and non-communicable diseases; access to medicines = intra-AC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Educatio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(basic and TVET; higher = intra-ACP); proposal for funding incr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Gender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= cross-cutting issue (mainstreaming) + additional action (women’s rights, economic and social empowerment); proposal for funding incr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Other aspects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of human and social development (employment, children, cultur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urpose of thematic program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lementary instrument to country programmes for EC development assistance in the area of human and social develo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 support activities at the regional and global levels, through partnerships, innovative and catalytic measures and other development measures to the benefit of countries with most critical MD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ased on the DCI regulation (Art. 12); thematic strategy provides multi-annual guidance (2007 – 2013) and is subject to the MT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hematic are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termined by policy frameworks and strategies developed or in the process of being develop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Good health for 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ducation, knowledge and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Gender eq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ther aspects of human and social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hematic areas - heal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ost crucial areas, where additional assistance is required to reach the MD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uman resource crisis in health – limits the ability of developing countries to deliver health care services; other HSS thematic are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eading poverty-related diseases – undermine overall development efforts; non-communicable dis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exual and reproductive health and r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hematic areas - edu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wo track approach focusing 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creasing enrolment rates and promoting equal access to quality education among boys and gir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reating conditions for better access to vocational and skills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dditional financing for national strategies; policy dialogue at regional leve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hematic areas – gender equa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pplements activities pursued under the other area of the thematic programme (gender equality = cross cutting issu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ainly support of advocacy, policy development, capacity building, support and monitoring activ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pecific themes to be elaborated in annual action programmes (e.g. women’s property rights, FGM, etc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Thematic areas – other are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vers wide area of additional development areas, where strategic and policy frameworks will be completed in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cent work, employment and social cohe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hildren and you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Financial allocation</a:t>
            </a:r>
            <a:br>
              <a:rPr sz="4000"/>
            </a:b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2007 - 2013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457200" y="1601640"/>
          <a:ext cx="82296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1640"/>
                    <a:ext cx="82296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CI perspective 2007 – 2013 = 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€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1.060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ealth (55%); Education (12%); Gender (5 %); Other (21%); Contingency and Administration (7%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mparison with 2003 - 200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hift from focusing almost exclusively on health agenda to pursuing much broader approach to human and social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eduction in health by 23% (crucial issues, EC credibility/value added, strategic partnership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ducation financing increased 15 ti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Gender equality financing triples (on top of heavy cross cutting under all are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1/5 of all financing for new policy are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4:13:09Z</dcterms:created>
  <dc:creator>Ondrej Simek</dc:creator>
  <dc:description/>
  <dc:language>en-US</dc:language>
  <cp:lastModifiedBy>Paola Simonetti</cp:lastModifiedBy>
  <dcterms:modified xsi:type="dcterms:W3CDTF">2010-02-24T16:25:20Z</dcterms:modified>
  <cp:revision>11</cp:revision>
  <dc:subject/>
  <dc:title>Investing in People</dc:title>
</cp:coreProperties>
</file>