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C0D9-56AE-44A3-A50C-4114B1EE7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DF20-B764-4563-BCD9-722E1ADC12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4E62-87DC-44A9-BBCB-C9727FC698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E722-7E22-4D49-912A-A88CD28763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CC27-C878-4B10-81B6-E27EEF263D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63BB-3A03-4C11-9B4A-86C7BB80A0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92D-4531-4F5A-B633-427956DCFA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C326-D9C4-4272-B20D-01DA9F0174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0DA0-5E22-42D1-9B7F-FC5F867186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2C28-F8F8-44DA-BA8B-E7F30FD5B2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4399-1C33-4230-924B-55C196F8E2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12BB-2CB6-4A75-AF08-0430E5DCBC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1A0D-594D-49FC-AE82-9C833EFB44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E9DA-16B9-4C43-BAEC-6888AF0841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7E90-86FF-44DF-A470-31A78B8523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F3CD-C58E-4698-AEBF-CC8154C64A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23FC-6073-48DA-9EFA-D449410D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0B46D-E172-4664-A90D-E7E591C4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0D21-245A-414F-886D-21C90CB0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4AEB-469A-4013-9B48-01B24E3C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AB34-B210-446A-A680-4DF603BF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BFAE-B43A-40B7-8D81-B4FCAC17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832-6A2B-40B8-8169-D91B3A2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77CB-991E-4557-BE4D-175889B8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2894-1178-485C-A6E4-1F7D33C1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F006-4FAB-48F5-95F8-C83609FE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3F4F-D7F0-42A5-9F4D-B6CF9345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C0A6-4FD9-44FE-AA46-294657A7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D08D-31F2-4ABC-8AAC-19967168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6857-D3CD-4A6D-AD68-017F8F49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24F5-6A53-4E67-943E-C7ADF099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A43-5274-4A1C-A615-7F62656C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3CAA-ED51-43EE-83EA-B21CF325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45A3-E89F-4C47-B797-08BAE475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DFA1-C821-41BA-A80B-400D7B2E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7897-6D01-46B3-A389-4B9EAE7D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B3E4-AB2A-4BB9-B2F6-E9B51494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F6B1-2D86-43A3-B171-FD24D0D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E600-AFD1-4E60-87C5-91D2115A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A888-FB37-4055-94B1-C8BE45C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81E3-2A27-4879-8565-DB4EE4DBC3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3E1-B40A-4E84-99AD-DEC3D1EE4C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Investing in People</a:t>
            </a:r>
            <a:br>
              <a:rPr sz="6000"/>
            </a:b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2007 - 201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onger focus on strategic interventions (global and strategic partnerships – involvement in governa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lls for proposals reserved for areas where civil society participation is cruc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DG based – focus on countries with worst MDG indicators (except for ENP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re specific details to be presented in annual action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Implementation modalities</a:t>
            </a: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2007 - 2010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395280" y="1413000"/>
            <a:ext cx="8353440" cy="4752720"/>
            <a:chOff x="395280" y="1413000"/>
            <a:chExt cx="8353440" cy="4752720"/>
          </a:xfrm>
        </p:grpSpPr>
        <p:sp>
          <p:nvSpPr>
            <p:cNvPr id="132" name="AutoShape 5"/>
            <p:cNvSpPr/>
            <p:nvPr/>
          </p:nvSpPr>
          <p:spPr>
            <a:xfrm>
              <a:off x="395280" y="1413000"/>
              <a:ext cx="8353440" cy="47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465840" y="1484640"/>
              <a:ext cx="8212320" cy="46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973800" y="2432160"/>
              <a:ext cx="5094000" cy="30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73800" y="2432160"/>
              <a:ext cx="0" cy="30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917280" y="551952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917280" y="517500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917280" y="483048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917280" y="448560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917280" y="414108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917280" y="381060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917280" y="346608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917280" y="312156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917280" y="277704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917280" y="243216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>
              <a:off x="973800" y="5519520"/>
              <a:ext cx="5094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 flipV="1">
              <a:off x="97380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 flipV="1">
              <a:off x="224352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 flipV="1">
              <a:off x="352764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 flipV="1">
              <a:off x="479772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V="1">
              <a:off x="606780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25"/>
            <p:cNvSpPr/>
            <p:nvPr/>
          </p:nvSpPr>
          <p:spPr>
            <a:xfrm>
              <a:off x="1608840" y="2619000"/>
              <a:ext cx="3823920" cy="1191600"/>
            </a:xfrm>
            <a:custGeom>
              <a:avLst/>
              <a:gdLst>
                <a:gd name="textAreaLeft" fmla="*/ 0 w 3823920"/>
                <a:gd name="textAreaRight" fmla="*/ 3824280 w 3823920"/>
                <a:gd name="textAreaTop" fmla="*/ 0 h 1191600"/>
                <a:gd name="textAreaBottom" fmla="*/ 1191960 h 1191600"/>
              </a:gdLst>
              <a:ahLst/>
              <a:rect l="textAreaLeft" t="textAreaTop" r="textAreaRight" b="textAreaBottom"/>
              <a:pathLst>
                <a:path w="271" h="83">
                  <a:moveTo>
                    <a:pt x="0" y="39"/>
                  </a:moveTo>
                  <a:lnTo>
                    <a:pt x="90" y="0"/>
                  </a:lnTo>
                  <a:lnTo>
                    <a:pt x="181" y="55"/>
                  </a:lnTo>
                  <a:lnTo>
                    <a:pt x="271" y="83"/>
                  </a:ln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26"/>
            <p:cNvSpPr/>
            <p:nvPr/>
          </p:nvSpPr>
          <p:spPr>
            <a:xfrm>
              <a:off x="1608840" y="3437640"/>
              <a:ext cx="3823920" cy="1550520"/>
            </a:xfrm>
            <a:custGeom>
              <a:avLst/>
              <a:gdLst>
                <a:gd name="textAreaLeft" fmla="*/ 0 w 3823920"/>
                <a:gd name="textAreaRight" fmla="*/ 3824280 w 3823920"/>
                <a:gd name="textAreaTop" fmla="*/ 0 h 1550520"/>
                <a:gd name="textAreaBottom" fmla="*/ 1550880 h 1550520"/>
              </a:gdLst>
              <a:ahLst/>
              <a:rect l="textAreaLeft" t="textAreaTop" r="textAreaRight" b="textAreaBottom"/>
              <a:pathLst>
                <a:path w="271" h="108">
                  <a:moveTo>
                    <a:pt x="0" y="108"/>
                  </a:moveTo>
                  <a:lnTo>
                    <a:pt x="90" y="44"/>
                  </a:lnTo>
                  <a:lnTo>
                    <a:pt x="181" y="4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27"/>
            <p:cNvSpPr/>
            <p:nvPr/>
          </p:nvSpPr>
          <p:spPr>
            <a:xfrm>
              <a:off x="1566360" y="3135960"/>
              <a:ext cx="84600" cy="85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28"/>
            <p:cNvSpPr/>
            <p:nvPr/>
          </p:nvSpPr>
          <p:spPr>
            <a:xfrm>
              <a:off x="2836080" y="2575800"/>
              <a:ext cx="84600" cy="86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29"/>
            <p:cNvSpPr/>
            <p:nvPr/>
          </p:nvSpPr>
          <p:spPr>
            <a:xfrm>
              <a:off x="4120560" y="3365640"/>
              <a:ext cx="84240" cy="86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Freeform 30"/>
            <p:cNvSpPr/>
            <p:nvPr/>
          </p:nvSpPr>
          <p:spPr>
            <a:xfrm>
              <a:off x="5390280" y="3767760"/>
              <a:ext cx="84600" cy="86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31"/>
            <p:cNvSpPr/>
            <p:nvPr/>
          </p:nvSpPr>
          <p:spPr>
            <a:xfrm>
              <a:off x="1566360" y="4945320"/>
              <a:ext cx="70560" cy="7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32"/>
            <p:cNvSpPr/>
            <p:nvPr/>
          </p:nvSpPr>
          <p:spPr>
            <a:xfrm>
              <a:off x="2836080" y="4026240"/>
              <a:ext cx="70560" cy="71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33"/>
            <p:cNvSpPr/>
            <p:nvPr/>
          </p:nvSpPr>
          <p:spPr>
            <a:xfrm>
              <a:off x="4120560" y="3452040"/>
              <a:ext cx="70200" cy="71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34"/>
            <p:cNvSpPr/>
            <p:nvPr/>
          </p:nvSpPr>
          <p:spPr>
            <a:xfrm>
              <a:off x="5390280" y="3394440"/>
              <a:ext cx="70200" cy="7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35"/>
            <p:cNvSpPr/>
            <p:nvPr/>
          </p:nvSpPr>
          <p:spPr>
            <a:xfrm>
              <a:off x="2046240" y="1645560"/>
              <a:ext cx="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36"/>
            <p:cNvSpPr/>
            <p:nvPr/>
          </p:nvSpPr>
          <p:spPr>
            <a:xfrm>
              <a:off x="735480" y="540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37"/>
            <p:cNvSpPr/>
            <p:nvPr/>
          </p:nvSpPr>
          <p:spPr>
            <a:xfrm>
              <a:off x="634320" y="5060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38"/>
            <p:cNvSpPr/>
            <p:nvPr/>
          </p:nvSpPr>
          <p:spPr>
            <a:xfrm>
              <a:off x="634320" y="4718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39"/>
            <p:cNvSpPr/>
            <p:nvPr/>
          </p:nvSpPr>
          <p:spPr>
            <a:xfrm>
              <a:off x="634320" y="4370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40"/>
            <p:cNvSpPr/>
            <p:nvPr/>
          </p:nvSpPr>
          <p:spPr>
            <a:xfrm>
              <a:off x="634320" y="402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634320" y="3693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634320" y="3354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634320" y="3003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44"/>
            <p:cNvSpPr/>
            <p:nvPr/>
          </p:nvSpPr>
          <p:spPr>
            <a:xfrm>
              <a:off x="634320" y="266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45"/>
            <p:cNvSpPr/>
            <p:nvPr/>
          </p:nvSpPr>
          <p:spPr>
            <a:xfrm>
              <a:off x="634320" y="2312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Rectangle 46"/>
            <p:cNvSpPr/>
            <p:nvPr/>
          </p:nvSpPr>
          <p:spPr>
            <a:xfrm>
              <a:off x="1563840" y="56815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a886e0"/>
                  </a:solidFill>
                  <a:latin typeface="Times New Roman"/>
                </a:rPr>
                <a:t>07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Rectangle 47"/>
            <p:cNvSpPr/>
            <p:nvPr/>
          </p:nvSpPr>
          <p:spPr>
            <a:xfrm>
              <a:off x="2835360" y="568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Rectangle 48"/>
            <p:cNvSpPr/>
            <p:nvPr/>
          </p:nvSpPr>
          <p:spPr>
            <a:xfrm>
              <a:off x="4121640" y="568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Rectangle 49"/>
            <p:cNvSpPr/>
            <p:nvPr/>
          </p:nvSpPr>
          <p:spPr>
            <a:xfrm>
              <a:off x="5391360" y="568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Rectangle 50"/>
            <p:cNvSpPr/>
            <p:nvPr/>
          </p:nvSpPr>
          <p:spPr>
            <a:xfrm>
              <a:off x="6321600" y="3480480"/>
              <a:ext cx="2412720" cy="10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Line 51"/>
            <p:cNvSpPr/>
            <p:nvPr/>
          </p:nvSpPr>
          <p:spPr>
            <a:xfrm>
              <a:off x="6293520" y="3624120"/>
              <a:ext cx="38088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52"/>
            <p:cNvSpPr/>
            <p:nvPr/>
          </p:nvSpPr>
          <p:spPr>
            <a:xfrm>
              <a:off x="6434640" y="3580920"/>
              <a:ext cx="84600" cy="86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Rectangle 53"/>
            <p:cNvSpPr/>
            <p:nvPr/>
          </p:nvSpPr>
          <p:spPr>
            <a:xfrm>
              <a:off x="6716520" y="351036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rect agreements (mil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Rectangle 54"/>
            <p:cNvSpPr/>
            <p:nvPr/>
          </p:nvSpPr>
          <p:spPr>
            <a:xfrm>
              <a:off x="6717960" y="372744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UR)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Line 55"/>
            <p:cNvSpPr/>
            <p:nvPr/>
          </p:nvSpPr>
          <p:spPr>
            <a:xfrm>
              <a:off x="6293520" y="4126680"/>
              <a:ext cx="380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Rectangle 56"/>
            <p:cNvSpPr/>
            <p:nvPr/>
          </p:nvSpPr>
          <p:spPr>
            <a:xfrm>
              <a:off x="6434640" y="4083480"/>
              <a:ext cx="70560" cy="7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Rectangle 57"/>
            <p:cNvSpPr/>
            <p:nvPr/>
          </p:nvSpPr>
          <p:spPr>
            <a:xfrm>
              <a:off x="6715440" y="4008240"/>
              <a:ext cx="1069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s for proposals (mil.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8"/>
            <p:cNvSpPr/>
            <p:nvPr/>
          </p:nvSpPr>
          <p:spPr>
            <a:xfrm>
              <a:off x="6717960" y="422424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UR)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Examples of programmes (2009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rect agreements – GFATM, FTI, GA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alls for propos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ing civil society organisations in their efforts to fight adult women's illiteracy and promoting women's property owne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apacity Development and Advocacy on sexual and reproductive health and rights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  <a:ea typeface="宋体"/>
              </a:rPr>
              <a:t>Accès à la culture locale, protection et promotion de la diversité culturelle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MTR: Go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 whether priorities should be modi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 whether value added can be strengthen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 whether impact and visibility can be incre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velop MIP 2011 – 20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ate of play: approval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Policy developments &amp; implic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ange of thematically focused policies (HRH, Rights of Child, Gender equality, Cultu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road aid effectiveness policies (budget support, division of labour, joint programm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mplications for IIP’s contribution – principles for action in two are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ntribution to global and regional initia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engthening of civil society at country level (links with regional and global network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Implementation: Lessons Learn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erging funding to achieve visible impact; focusing on limited number of priorities per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NPI countries – earmarking without separate action (unless desirab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mplementarity with other financing instruments and MSs (joint programming with M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Programming priorities 2011 - 201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To follow the existing strategy with new policy development and implementation experience in mi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Health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(HRH and other areas of HSS, Communicable diseases, SRHR, neglected and non-communicable diseases; access to medicines = intra-AC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Educatio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(basic and TVET; higher = intra-ACP); proposal for funding incr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Gender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= cross-cutting issue (mainstreaming) + additional action (women’s rights, economic and social empowerment); proposal for funding incr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aspect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of human and social development (employment, children, cult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urpose of thematic program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lementary instrument to country programmes for EC development assistance in the area of human and social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support activities at the regional and global levels, through partnerships, innovative and catalytic measures and other development measures to the benefit of countries with most critical MD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ased on the DCI regulation (Art. 12); thematic strategy provides multi-annual guidance (2007 – 2013) and is subject to the MT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d by policy frameworks and strategies developed or in the process of being develop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Good health for 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ducation, knowledge and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Gender e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ther aspects of human and social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- heal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st crucial areas, where additional assistance is required to reach the MD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uman resource crisis in health – limits the ability of developing countries to deliver health care services; other HSS thematic a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eading poverty-related diseases – undermine overall development efforts; non-communicable dis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xual and reproductive health and r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- edu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wo track approach focusing 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creasing enrolment rates and promoting equal access to quality education among boys and gir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reating conditions for better access to vocational and skills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dditional financing for national strategies; policy dialogue at regional leve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– gender equa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pplements activities pursued under the other area of the thematic programme (gender equality = cross cutting issu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inly support of advocacy, policy development, capacity building, support and monitoring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ecific themes to be elaborated in annual action programmes (e.g. women’s property rights, FGM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– other are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vers wide area of additional development areas, where strategic and policy frameworks will be completed in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cent work, employment and social cohe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hildren and you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Financial allocation</a:t>
            </a: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2007 - 201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457200" y="1601640"/>
          <a:ext cx="82296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82296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CI perspective 2007 – 2013 = 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€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.060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ealth (55%); Education (12%); Gender (5 %); Other (21%); Contingency and Administration (7%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mparison with 2003 - 200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hift from focusing almost exclusively on health agenda to pursuing much broader approach to human and social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duction in health by 23% (crucial issues, EC credibility/value added, strategic partnershi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ducation financing increased 15 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Gender equality financing triples (on top of heavy cross cutting under all are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/5 of all financing for new policy a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4:13:09Z</dcterms:created>
  <dc:creator>Ondrej Simek</dc:creator>
  <dc:description/>
  <dc:language>en-US</dc:language>
  <cp:lastModifiedBy>Paola Simonetti</cp:lastModifiedBy>
  <dcterms:modified xsi:type="dcterms:W3CDTF">2010-02-24T16:25:20Z</dcterms:modified>
  <cp:revision>11</cp:revision>
  <dc:subject/>
  <dc:title>Investing in People</dc:title>
</cp:coreProperties>
</file>