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B97E27-366D-4EE2-975A-0070B24F2C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4C1CF6-7010-48AD-A31E-C835D2F356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208B3A-69B9-4FC6-9421-95C949A951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9F1BEB-93C5-4396-94AA-FAB163A6D1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E58A0B-B1FC-4121-9BA3-3312AFAFDB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1DB8C7-E113-49CC-8A28-13BCBC37F5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8E3D22-D5A0-428E-82C2-9B66574587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F325FB-3EE2-4480-9F6A-FEEEC9D3A4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160394-343A-41D0-861D-FDCE9DF842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934BE6-9EB3-4030-A600-52020E2558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F4C795-7D45-486A-893D-0AC0B7EB23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8AC3ED-1166-40DC-8DB8-4AC6526A06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440EA2-4A42-4A6E-AF79-92A45D7172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DCE96C-4458-4526-9C4C-B00EF1F2B4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00000" y="3345840"/>
            <a:ext cx="7786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000" y="334584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0240" y="334584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00000" y="3345840"/>
            <a:ext cx="25070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2680" y="3345840"/>
            <a:ext cx="25070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65720" y="3345840"/>
            <a:ext cx="25070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00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00000" y="334584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0240" y="334584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00000" y="3345840"/>
            <a:ext cx="7786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00000" cy="6858000"/>
          </a:xfrm>
          <a:prstGeom prst="rect">
            <a:avLst/>
          </a:prstGeom>
          <a:solidFill>
            <a:srgbClr val="7500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8748720" y="0"/>
            <a:ext cx="395280" cy="6858000"/>
          </a:xfrm>
          <a:prstGeom prst="rect">
            <a:avLst/>
          </a:prstGeom>
          <a:solidFill>
            <a:srgbClr val="ed7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76320">
            <a:solidFill>
              <a:srgbClr val="750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1"/>
          <p:cNvSpPr/>
          <p:nvPr/>
        </p:nvSpPr>
        <p:spPr>
          <a:xfrm>
            <a:off x="0" y="6178680"/>
            <a:ext cx="9144000" cy="0"/>
          </a:xfrm>
          <a:prstGeom prst="line">
            <a:avLst/>
          </a:prstGeom>
          <a:ln w="38160">
            <a:solidFill>
              <a:srgbClr val="ed77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2"/>
          <p:cNvSpPr/>
          <p:nvPr/>
        </p:nvSpPr>
        <p:spPr>
          <a:xfrm>
            <a:off x="3816360" y="621648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ed9b4"/>
                </a:solidFill>
                <a:latin typeface="Arial"/>
              </a:rPr>
              <a:t>www.ituc-csi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7596360" y="5157720"/>
            <a:ext cx="1547640" cy="17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4" descr="logoquadri txt"/>
          <p:cNvPicPr/>
          <p:nvPr/>
        </p:nvPicPr>
        <p:blipFill>
          <a:blip r:embed="rId2"/>
          <a:stretch/>
        </p:blipFill>
        <p:spPr>
          <a:xfrm>
            <a:off x="7812000" y="5373720"/>
            <a:ext cx="1047960" cy="124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74680"/>
            <a:ext cx="77868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d7703"/>
                </a:solidFill>
                <a:latin typeface="Arial"/>
              </a:rPr>
              <a:t>THE ITUC TRADE UNION 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ed7703"/>
                </a:solidFill>
                <a:latin typeface="Arial"/>
              </a:rPr>
              <a:t>DEVELOPMENT</a:t>
            </a:r>
            <a:r>
              <a:rPr b="0" lang="en-GB" sz="4000" spc="-1" strike="noStrike">
                <a:solidFill>
                  <a:srgbClr val="ed7703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ed7703"/>
                </a:solidFill>
                <a:latin typeface="Arial"/>
              </a:rPr>
              <a:t>COOPERATION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0"/>
            <a:ext cx="77864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3572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DECENT WORK DECENT LIFE FOR WOMEN-MIGRATION-COMBATTING FORCED  LABOUR-COMBATTING DISCRIMINATION RACISM AND XENOPHOB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OCCUPATIONAL HEALTH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MAKING THE WORK PLACE HEALTHY AND SAFE- HIV/A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d7703"/>
                </a:solidFill>
                <a:latin typeface="Arial"/>
              </a:rPr>
              <a:t>ITUC CHALLENG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Webdings"/>
                <a:ea typeface="Webdings"/>
              </a:rPr>
              <a:t>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THE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WORLD MUST LOOK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DIFFERENT AFTER TH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Webdings"/>
                <a:ea typeface="Webdings"/>
              </a:rPr>
              <a:t>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AIR GLOBALISATION, DEVELOPMENT, GREENER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nap ITC"/>
              </a:rPr>
              <a:t>•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OOST DOMESTIC DE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 EMPLOYMENT INTENSIVE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 SKILLS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nap ITC"/>
              </a:rPr>
              <a:t>•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CIAL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 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 P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nap ITC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CHILD WELF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nap ITC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UNEMPLOYMENT BENE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3572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RESPECT FOR FUNDAMENTAL RIGHTS AT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PACKAGE OF RELEVANT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nap ITC"/>
              </a:rPr>
              <a:t>•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CIAL DIA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SOCIAL DIALOGUE ON TRANSITION AND MANAGEMENT OF CR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COLLECTIVE BARG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nap ITC"/>
              </a:rPr>
              <a:t>•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IR GLOB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 BUILD STRONGER SUPERVISORY AND REGULATORY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FOCUS ON DEVELOPMENT ISSUES (POLICY COHERENCE, G20, U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3572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DE U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  CAPACITIES TO PROPOSE ALTERN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 ADVOC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 ORGANISE TO CHANGE BALANCE OF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OF GLOBAL SOLID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GB" sz="2000" spc="-1" strike="noStrike">
                <a:solidFill>
                  <a:srgbClr val="ed7703"/>
                </a:solidFill>
                <a:latin typeface="Arial"/>
              </a:rPr>
              <a:t>THANK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d7703"/>
                </a:solidFill>
                <a:latin typeface="Arial"/>
              </a:rPr>
              <a:t>ITUC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ION  VIENNA CONGRESS (1 November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IFICATION (ICFTU+WCL+INDEPT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75 MILLION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11 AFFILIATED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55 COUNTRIES AND TERRI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 REGIONAL ORGANISATIONS (AFRICA-ASIA/PACIFIC- THE AMERICAS- PE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AISON OFFICES (NEW YORK, WASHINGTON, GENEVA, MOSCOW, SARJEVO, HONG K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d7703"/>
                </a:solidFill>
                <a:latin typeface="Arial"/>
              </a:rPr>
              <a:t>TRADE UNION DEVELOPMENT/SOLIDARITY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333399"/>
                </a:solidFill>
                <a:latin typeface="Arial"/>
              </a:rPr>
              <a:t>BUILDING A NEW INTERNATIONAL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MOTE SOLIDARITY AMONGST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ORLD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ILD UP FREE DEMOCRATIC AND INDEPENDENT TRADE U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ENGHTE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E A COUNTERVAILING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INSTREAM EQUALITY AND DIVERSIT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LUENCE  DEVELOPMENT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P A MORE COHERENT AND COORDINATED APPROACH IN TUDC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BILIZ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d7703"/>
                </a:solidFill>
                <a:latin typeface="Arial"/>
              </a:rPr>
              <a:t>ELEMENTS OF ANALYSIS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333399"/>
                </a:solidFill>
                <a:latin typeface="Arial"/>
              </a:rPr>
              <a:t>STREN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UNIFIED INTERNATIONAL MOU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EXISTING  EXPERIENCE WITHIN NATIONAL AND REGIONAL ORGANI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EXPERIENCE AND SUPPORT FROM IMPORTANT INTERNATIONAL ORGANISATIONS (ILO, UN, EU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MANDATE FROM THE VIENNA CON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333399"/>
                </a:solidFill>
                <a:latin typeface="Arial"/>
              </a:rPr>
              <a:t>WEA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FICIT IN COORDINATED TU DEVELOPMENT COOPERATION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DECLINE IN MEMB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INSUFFICIENT IMPLEMENTATION OF GENDER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LACK OF SUPPORT (TECHNICAL AND FINANA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INVOLVEMENT OF MEMBERS IN POLICY-SETTING AND ADVOCACY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3572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333399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IFICATION PROCESSES IN CONTI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GLOBAL UNIONS  COUNC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CENT WORK AGENDA AS VEH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respect of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promotion of sustainable and freely chosen em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social inclusion policies (social security and social prote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357200" y="14130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333399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LATERALISM AND COMPETION AMONG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ETITION FROM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COUNTABILITY OF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LEXITY OF INTERNATIONAL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LLOW-UP AND MONITOR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AKNESS OF PROGRESS-INDICATOR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-MEASUREMEN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CK OF “SEED-MONEY” &amp; CONVERSA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UVERNEMENTAL DONORS (NATIONAL AND INT’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d7703"/>
                </a:solidFill>
                <a:latin typeface="Arial"/>
              </a:rPr>
              <a:t>ITUC STRATEGIE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ICIPATORY APPROACH (ITUC, RO, SSOs, NO, GU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TICULATION BETWEEN BILATERAL AND MULTILATERAL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LLECTING BASELINE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7703"/>
                </a:solidFill>
                <a:latin typeface="Arial"/>
              </a:rPr>
              <a:t>ITUC PRIORITY PROGRAM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HUMAN AND TRADE UNION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VIOLATION-ANNUAL SURVEY-NETWOR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ECONOMIC AND SOCIAL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FIs-TRADE-ECONOMIC AND FINANCIAL CRI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ORGAN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CAPACITY BUILDING-INFORMAL ECONOMY-EP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07:57:46Z</dcterms:created>
  <dc:creator>Diallo</dc:creator>
  <dc:description/>
  <dc:language>en-US</dc:language>
  <cp:lastModifiedBy>Mamadou</cp:lastModifiedBy>
  <dcterms:modified xsi:type="dcterms:W3CDTF">2009-12-01T10:24:18Z</dcterms:modified>
  <cp:revision>10</cp:revision>
  <dc:subject/>
  <dc:title>Slide 1</dc:title>
</cp:coreProperties>
</file>