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DB15AA-E3CE-46F7-94C1-5AED866F67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A8C19D-2A4F-49EA-8614-51EA82000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415652-4133-4375-9901-94E13B7D7C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341268-82D7-4AC2-863A-1101118051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E3DA96-8C8B-420A-9066-4A8F65CF9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86E0E6-347C-4F53-8576-AD567362B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0C4463-AE56-48BF-8538-264B15A19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6E462D-B881-479F-A8C0-01AC4797A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030449-1D6D-4EEA-B1FB-03E09182E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81D184-3F55-4F78-A882-E4094F267E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8209DD-BB1B-4E3E-B769-985F65D932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54774E-A43A-4A70-92FA-6E66BCA6D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2C19CC-B30F-4128-8C68-021AF441A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7957C9-5C81-4DE9-85AE-26A99CBA9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3345840"/>
            <a:ext cx="77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024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334584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2680" y="334584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65720" y="3345840"/>
            <a:ext cx="25070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0240" y="334584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3345840"/>
            <a:ext cx="77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solidFill>
            <a:srgbClr val="750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7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76320">
            <a:solidFill>
              <a:srgbClr val="7500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1"/>
          <p:cNvSpPr/>
          <p:nvPr/>
        </p:nvSpPr>
        <p:spPr>
          <a:xfrm>
            <a:off x="0" y="6178680"/>
            <a:ext cx="9144000" cy="0"/>
          </a:xfrm>
          <a:prstGeom prst="line">
            <a:avLst/>
          </a:prstGeom>
          <a:ln w="38160">
            <a:solidFill>
              <a:srgbClr val="ed7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3816360" y="621648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ed9b4"/>
                </a:solidFill>
                <a:latin typeface="Arial"/>
              </a:rPr>
              <a:t>www.ituc-csi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7596360" y="5157720"/>
            <a:ext cx="154764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4" descr="logoquadri txt"/>
          <p:cNvPicPr/>
          <p:nvPr/>
        </p:nvPicPr>
        <p:blipFill>
          <a:blip r:embed="rId2"/>
          <a:stretch/>
        </p:blipFill>
        <p:spPr>
          <a:xfrm>
            <a:off x="7812000" y="5373720"/>
            <a:ext cx="1047960" cy="12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7868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7703"/>
                </a:solidFill>
                <a:latin typeface="Arial"/>
              </a:rPr>
              <a:t>THE ITUC TRADE UNION 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ed7703"/>
                </a:solidFill>
                <a:latin typeface="Arial"/>
              </a:rPr>
              <a:t>DEVELOPMENT</a:t>
            </a:r>
            <a:r>
              <a:rPr b="0" lang="en-GB" sz="4000" spc="-1" strike="noStrike">
                <a:solidFill>
                  <a:srgbClr val="ed7703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ed7703"/>
                </a:solidFill>
                <a:latin typeface="Arial"/>
              </a:rPr>
              <a:t>COOPERATION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0"/>
            <a:ext cx="7786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DECENT WORK DECENT LIFE FOR WOMEN-MIGRATION-COMBATTING FORCED  LABOUR-COMBATTING DISCRIMINATION RACISM AND XENOPHO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CCUPATIONAL HEALTH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MAKING THE WORK PLACE HEALTHY AND SAFE- HIV/A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d7703"/>
                </a:solidFill>
                <a:latin typeface="Arial"/>
              </a:rPr>
              <a:t>ITUC CHALLENG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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ORLD MUST LOOK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IFFERENT AFTER TH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Webdings"/>
                <a:ea typeface="Webdings"/>
              </a:rPr>
              <a:t>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IR GLOBALISATION, DEVELOPMENT, GREENER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OOST DOMESTIC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EMPLOYMENT INTENSIVE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SKILLS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P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CHILD WELF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UNEMPLOYMENT BENE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RESPECT FOR FUNDAMENTAL RIGHTS AT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PACKAGE OF RELEVANT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SOCIAL DIALOGUE ON TRANSITION AND MANAGEMENT OF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COLLECTIVE BARG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nap ITC"/>
              </a:rPr>
              <a:t>•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IR GLOB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 BUILD STRONGER SUPERVISORY AND REGULATORY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 FOCUS ON DEVELOPMENT ISSUES (POLICY COHERENCE, G20, U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DE U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 CAPACITIES TO PROPOSE ALTERN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 ORGANISE TO CHANGE BALANCE OF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OF GLOBAL SOLID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GB" sz="2000" spc="-1" strike="noStrike">
                <a:solidFill>
                  <a:srgbClr val="ed7703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d7703"/>
                </a:solidFill>
                <a:latin typeface="Arial"/>
              </a:rPr>
              <a:t>ITUC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EATION  VIENNA CONGRESS (1 November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FICATION (ICFTU+WCL+INDEPT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75 MILLION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11 AFFILIATED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5 COUNTRIES AND TERR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REGIONAL ORGANISATIONS (AFRICA-ASIA/PACIFIC- THE AMERICAS- P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AISON OFFICES (NEW YORK, WASHINGTON, GENEVA, MOSCOW, SARJEVO, HONG K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d7703"/>
                </a:solidFill>
                <a:latin typeface="Arial"/>
              </a:rPr>
              <a:t>TRADE UNION DEVELOPMENT/SOLIDARIT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333399"/>
                </a:solidFill>
                <a:latin typeface="Arial"/>
              </a:rPr>
              <a:t>BUILDING A NEW INTERNATION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MOTE SOLIDARITY AMONGST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UP FREE DEMOCRATIC AND INDEPENDENT TRADE 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HTE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A COUNTERVAILING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STREAM EQUALITY AND DIVERS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UENCE  DEVELOP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 A MORE COHERENT AND COORDINATED APPROACH IN TUDC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BILIZ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d7703"/>
                </a:solidFill>
                <a:latin typeface="Arial"/>
              </a:rPr>
              <a:t>ELEMENTS OF ANALYSIS</a:t>
            </a: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3399"/>
                </a:solidFill>
                <a:latin typeface="Arial"/>
              </a:rPr>
              <a:t>STREN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UNIFIED INTERNATIONAL MOU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EXISTING  EXPERIENCE WITHIN NATIONAL AND REGIONAL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EXPERIENCE AND SUPPORT FROM IMPORTANT INTERNATIONAL ORGANISATIONS (ILO, UN, EU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MANDATE FROM THE VIENNA 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3399"/>
                </a:solidFill>
                <a:latin typeface="Arial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FICIT IN COORDINATED TU DEVELOPMENT COOPERATION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DECLINE IN 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INSUFFICIENT IMPLEMENTATION OF GENDER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LACK OF SUPPORT (TECHNICAL AND FINAN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INVOLVEMENT OF MEMBERS IN POLICY-SETTING AND ADVOCACY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572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99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IFICATION PROCESSES IN CONTI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GLOBAL UNIONS  COUNC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CENT WORK AGENDA AS VEHI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respect of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promotion of sustainable and freely chosen em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social inclusion policies (social security and social prote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57200" y="14130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333399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LATERALISM AND COMPETION AMONG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ETITION FROM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OUNTABILITY OF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LEXITY OF INTERNATIONAL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AND MONITOR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AKNESS OF PROGRESS-INDICATO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-MEASURE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CK OF “SEED-MONEY” &amp; CONVERS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UVERNEMENTAL DONORS (NATIONAL AND INT’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d7703"/>
                </a:solidFill>
                <a:latin typeface="Arial"/>
              </a:rPr>
              <a:t>ITUC STRATEGI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TORY APPROACH (ITUC, RO, SSOs, NO, GU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TICULATION BETWEEN BILATERAL AND MULTILATERA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LECTING BASELINE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7703"/>
                </a:solidFill>
                <a:latin typeface="Arial"/>
              </a:rPr>
              <a:t>ITUC PRIORITY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UMAN AND TRADE UNIO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VIOLATION-ANNUAL SURVEY-NETWOR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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AND SOCI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FIs-TRADE-ECONOMIC AND FINANCIAL CRI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RGAN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APACITY BUILDING-INFORMAL ECONOMY-EP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7:57:46Z</dcterms:created>
  <dc:creator>Diallo</dc:creator>
  <dc:description/>
  <dc:language>en-US</dc:language>
  <cp:lastModifiedBy>Mamadou</cp:lastModifiedBy>
  <dcterms:modified xsi:type="dcterms:W3CDTF">2009-12-01T10:24:18Z</dcterms:modified>
  <cp:revision>10</cp:revision>
  <dc:subject/>
  <dc:title>Slide 1</dc:title>
</cp:coreProperties>
</file>