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44BF-9BAA-492B-BCC6-B6FCCCA644C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1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2A8-5DB9-4953-B2E5-81443A9A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841-9C58-4839-992B-BE7536DE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188-B998-417C-B4F2-68F61761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9A8-194B-4B56-B690-856161BB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04A8-7AD4-45F7-A817-79CEE85B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DB27-832B-4313-ABD1-ED2A1274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A4B1-9A11-469B-91BE-539800D9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F424-8B70-42B8-8B45-3347BB59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F9DC-5D1F-4736-A231-E35F55C3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3EE7-9792-45DB-91A5-EB28BFC7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8E79-CEDE-4DD8-82C4-D1C3F3BB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A3A-F548-4734-82BB-8750E745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35CB-EF2B-448D-BDB5-616A7AF5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FBC6-FC8C-4522-98B6-998E4B81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D2DC-D07B-4867-A777-D6951E5F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7D2B-78E9-474A-B0CE-DBFDBF62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D820-D2EE-4EF1-ABD7-AAAB55CC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E0F-5E7A-4416-95B3-AD4CB3A9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F01-3BB7-40AB-96EB-6380ADE5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0CF-7C96-4B30-AB09-8B411D48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965-FDB4-42BD-9878-E89407A8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4BA-720B-41A6-A1E0-A50CFB12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B71-BAB2-4A0E-8FBA-70AE4264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0CB-6857-4777-B9AA-C1AA0310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233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43E3-494B-4128-AE88-5760C1B49DA5}" type="slidenum"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395280" y="1268280"/>
            <a:ext cx="8305920" cy="236160"/>
            <a:chOff x="395280" y="1268280"/>
            <a:chExt cx="8305920" cy="236160"/>
          </a:xfrm>
        </p:grpSpPr>
        <p:sp>
          <p:nvSpPr>
            <p:cNvPr id="12" name=""/>
            <p:cNvSpPr/>
            <p:nvPr/>
          </p:nvSpPr>
          <p:spPr>
            <a:xfrm>
              <a:off x="623880" y="1410120"/>
              <a:ext cx="8077320" cy="94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95280" y="1268280"/>
              <a:ext cx="8077320" cy="943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90640" y="6310440"/>
            <a:ext cx="1228680" cy="380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1042920" y="6416640"/>
            <a:ext cx="55728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728720" y="6416640"/>
            <a:ext cx="55728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320000">
            <a:off x="396720" y="549000"/>
            <a:ext cx="882720" cy="882720"/>
          </a:xfrm>
          <a:prstGeom prst="star5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1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6293-4097-467B-B767-E48AFE5AAEEA}" type="slidenum"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57200" y="2057400"/>
            <a:ext cx="8305920" cy="380880"/>
            <a:chOff x="457200" y="2057400"/>
            <a:chExt cx="8305920" cy="380880"/>
          </a:xfrm>
        </p:grpSpPr>
        <p:sp>
          <p:nvSpPr>
            <p:cNvPr id="73" name=""/>
            <p:cNvSpPr/>
            <p:nvPr/>
          </p:nvSpPr>
          <p:spPr>
            <a:xfrm>
              <a:off x="685800" y="22860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" y="20574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388360" cy="15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99"/>
                </a:solidFill>
                <a:latin typeface="Comic Sans MS"/>
              </a:rPr>
              <a:t>    </a:t>
            </a:r>
            <a:r>
              <a:rPr b="1" i="1" lang="en-GB" sz="4800" spc="-1" strike="noStrike">
                <a:solidFill>
                  <a:srgbClr val="ffff99"/>
                </a:solidFill>
                <a:latin typeface="Comic Sans MS"/>
              </a:rPr>
              <a:t>The Instrument for</a:t>
            </a:r>
            <a:br>
              <a:rPr sz="4800"/>
            </a:br>
            <a:r>
              <a:rPr b="1" i="1" lang="en-GB" sz="4800" spc="-1" strike="noStrike">
                <a:solidFill>
                  <a:srgbClr val="ffff99"/>
                </a:solidFill>
                <a:latin typeface="Comic Sans MS"/>
              </a:rPr>
              <a:t> Pre-Accession Assistance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317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99"/>
                </a:solidFill>
                <a:latin typeface="Comic Sans MS"/>
              </a:rPr>
              <a:t>IPA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99"/>
                </a:solidFill>
                <a:latin typeface="Comic Sans MS"/>
              </a:rPr>
              <a:t>General  overview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DG Enlargemen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Financial Instruments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and Regional Programmes Directorate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99"/>
                </a:solidFill>
                <a:latin typeface="Comic Sans MS"/>
              </a:rPr>
              <a:t>Programming level</a:t>
            </a:r>
            <a:r>
              <a:rPr b="1" i="1" lang="en-GB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MIPD supplemented by 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detailed annual or multi-annual programmes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, depending on the component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Comic Sans MS"/>
              </a:rPr>
              <a:t>Programmes established per component</a:t>
            </a:r>
            <a:r>
              <a:rPr b="1" lang="en-US" sz="3000" spc="-1" strike="noStrike">
                <a:solidFill>
                  <a:srgbClr val="ffff99"/>
                </a:solidFill>
                <a:latin typeface="Comic Sans MS"/>
              </a:rPr>
              <a:t>, where possible by the beneficiary country and submitted to the Commission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99"/>
                </a:solidFill>
                <a:latin typeface="Comic Sans MS"/>
              </a:rPr>
              <a:t>Managemen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Operations to be implemented through centralised management, decentralised management, joint management or shared managemen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ully decentralised management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i.e. decentralised management with only ex-post rather than ex-ante control  =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the objective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Access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to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components III, IV and V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open only if decentralis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in plac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Next step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51"/>
              </a:spcBef>
              <a:spcAft>
                <a:spcPts val="1874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ffff99"/>
                </a:solidFill>
                <a:uFillTx/>
                <a:latin typeface="Comic Sans MS"/>
              </a:rPr>
              <a:t>MIFF 2007 + 2008-2010</a:t>
            </a:r>
            <a:r>
              <a:rPr b="1" lang="fr-FR" sz="30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presented with enlargement package on 8 November 2006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751"/>
              </a:spcBef>
              <a:spcAft>
                <a:spcPts val="1874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99"/>
                </a:solidFill>
                <a:uFillTx/>
                <a:latin typeface="Comic Sans MS"/>
              </a:rPr>
              <a:t>Strategic planning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 per country, all components:  </a:t>
            </a:r>
            <a:r>
              <a:rPr b="1" lang="en-GB" sz="3000" spc="-1" strike="noStrike" u="sng">
                <a:solidFill>
                  <a:srgbClr val="ffff99"/>
                </a:solidFill>
                <a:uFillTx/>
                <a:latin typeface="Comic Sans MS"/>
              </a:rPr>
              <a:t>MIPD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 expected to be submitted to IPA Committee 1st quarter of each year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Specific programming per country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per componen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6324480"/>
            <a:ext cx="617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17840" y="6421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Conclusion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Building on lessons learned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ingle legal base: more coherence and co-ordination in assistance, as well as targeted and more efficient assistanc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0">
              <a:lnSpc>
                <a:spcPct val="55000"/>
              </a:lnSpc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ingle implementing regulation: harmonisation of implementing procedures to the maximum possible ext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6324480"/>
            <a:ext cx="617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7840" y="6421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New Instrumen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67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IPA Council Regulation (EC) No 1085/2006 adopted on 17 July 2006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A unified Pre-Accession Instrument to assist candidate and potential candidate countri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Replaces Phare, ISPA, SAPARD and  Turkey pre-accession instruments, as well as the CARDS  instrument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inancial envelope (2007–13) :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11.468 bio €</a:t>
            </a: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(current prices)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324480"/>
            <a:ext cx="617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17840" y="6421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omic Sans MS"/>
              </a:rPr>
              <a:t>Regulatory framework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1342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99"/>
                </a:solidFill>
                <a:uFillTx/>
                <a:latin typeface="Comic Sans MS"/>
              </a:rPr>
              <a:t>IPA</a:t>
            </a: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=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99"/>
                </a:solidFill>
                <a:uFillTx/>
                <a:latin typeface="Comic Sans MS"/>
              </a:rPr>
              <a:t>Council Framework Regulation</a:t>
            </a: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(EC) No 1085/2006 of 17 July 2006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(OJ L 210 of 31 July 2006)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99"/>
                </a:solidFill>
                <a:uFillTx/>
                <a:latin typeface="Comic Sans MS"/>
              </a:rPr>
              <a:t>Commission Implementing Regula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(adoption expected early 2007)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Structure of IPA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8036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11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99"/>
              </a:solidFill>
              <a:latin typeface="Arial"/>
            </a:endParaRPr>
          </a:p>
          <a:p>
            <a:pPr marL="71136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Five components</a:t>
            </a: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Transition Assistance and Institution Build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Cross-Border Co-oper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 algn="just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Regional Developmen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 algn="just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Human Resources Developmen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 algn="just">
              <a:lnSpc>
                <a:spcPct val="100000"/>
              </a:lnSpc>
              <a:spcAft>
                <a:spcPts val="7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Rural Developmen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6324480"/>
            <a:ext cx="617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17840" y="6421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omic Sans MS"/>
              </a:rPr>
              <a:t>Targeted assistance under IP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Potential candidate countries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: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upport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or participation in the Stabilisation and Association process all the way to future accession, with access to the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irst two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IPA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components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1576"/>
              </a:spcAft>
              <a:buClr>
                <a:srgbClr val="ffff99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Under component I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possibility of financing components III, IV and V-type measur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Candidate countries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: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5 components to help countries to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Adopt and implement the acqui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Prepare for EU funds on acces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General implementation framework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Political and Financial Framework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: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Multi- annual Indicative Financial Framework (MIFF)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per country and per component, 3- year rolling forward, included in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enlargement package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Strategic planning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: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Multi-annual Indicative Planning Documents (MIPD)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,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per country and for all components, following the logic of the MIFF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711360" indent="-711360">
              <a:lnSpc>
                <a:spcPct val="70000"/>
              </a:lnSpc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Specific </a:t>
            </a: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programming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by country and by componen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omic Sans MS"/>
              </a:rPr>
              <a:t>General implementation framework: flowchart Candidat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64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B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C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628640"/>
            <a:ext cx="7704360" cy="1440000"/>
          </a:xfrm>
          <a:prstGeom prst="flowChartAlternateProcess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ENLARGEMENT PACKAGE,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including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Multi-annual Indicative Financial Framework MIFF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by country and by component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3357720"/>
            <a:ext cx="5905440" cy="574560"/>
          </a:xfrm>
          <a:prstGeom prst="flowChartProcess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Multi-annual Indicative Planning Documen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by country for all relevant component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4724280"/>
            <a:ext cx="1223640" cy="68580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I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4724280"/>
            <a:ext cx="1368720" cy="68580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II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67280" y="4724280"/>
            <a:ext cx="1441440" cy="71928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III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4724280"/>
            <a:ext cx="1368360" cy="71928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IV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4724280"/>
            <a:ext cx="1297080" cy="71928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V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5445000"/>
            <a:ext cx="1225440" cy="8636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Nation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Horizont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5445000"/>
            <a:ext cx="1368720" cy="8636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Joint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445000"/>
            <a:ext cx="1297080" cy="8636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Operational 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/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Large project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5445000"/>
            <a:ext cx="1154160" cy="8636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Operation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445000"/>
            <a:ext cx="1297080" cy="8654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Rur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Development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3068640"/>
            <a:ext cx="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3280" y="3068640"/>
            <a:ext cx="0" cy="28908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8560" y="3933720"/>
            <a:ext cx="136836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058920" y="3933720"/>
            <a:ext cx="14436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3933720"/>
            <a:ext cx="21600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20000" y="3933720"/>
            <a:ext cx="115236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3933720"/>
            <a:ext cx="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Multi-annual Indicative Financial framework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Part of the enlargement package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Financial translation of the overall priorities identified within the pre- accession political framework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Breakdown of financial envelope by horizontal programmes, country and component, administrative expenditure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Established for a 3 year period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on a rolling forward basi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omic Sans MS"/>
              </a:rPr>
              <a:t>Multi-annual Indicative Planning Document</a:t>
            </a:r>
            <a:r>
              <a:rPr b="1" i="1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939636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One for each beneficiary country, covering all relevant components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trategic cornerstone of IPA implementation, ensures the necessary coherence between component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ollowing the 3 year rolling logic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Prepared by the Commission, in close consultation with the beneficiary country and relevant stakeholder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ubmitted to IPA management Committe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  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or opin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08:03:08Z</dcterms:created>
  <dc:creator>nn</dc:creator>
  <dc:description/>
  <dc:language>en-US</dc:language>
  <cp:lastModifiedBy>vissehk</cp:lastModifiedBy>
  <cp:lastPrinted>2004-02-18T10:28:37Z</cp:lastPrinted>
  <dcterms:modified xsi:type="dcterms:W3CDTF">2008-10-03T14:10:43Z</dcterms:modified>
  <cp:revision>61</cp:revision>
  <dc:subject/>
  <dc:title>L’allargamento dell’Unione Europea all’Unghe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