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B698-258A-439F-8E5A-9529E3EBE8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1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0B9-9C2D-43B6-9F5A-E73829FB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1A8-DB28-4F14-974B-7217AEBC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2F7-79DB-46C8-A998-136E6211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634-D83E-4E4C-AC4D-293FEC09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B8EA-FEF2-4B1B-B2F9-4E89FDE6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00B6-8714-4246-A0D7-0A6964B9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BFC9-5244-4107-8488-E1C0CDAC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49E4-B02B-4826-83F3-83C6A176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72C-326C-4FAD-BCB2-530C0C87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B3EA-53F1-4233-AC15-8983C741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7BEB-AFE7-479D-B2C8-A49DA5C9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9A2-A93E-4D9B-9C8C-5743C77C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3468-456E-4200-9A9E-D7D300DB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CA11-9D7A-484E-BC7E-839E4B7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BF99-8B81-46D8-BEB2-01512D22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BFAD-9398-43AE-99E4-A026712C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7810-FE0A-4214-9BF2-570DB55C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6A4-29CD-442E-BA2D-8B6D40DE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5FB-B986-416A-8882-BB468A06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B79-42AA-47DB-B242-A5513A59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637-82F7-4AD9-A3EE-82043C68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A19-9395-4BEA-ACF2-3DCE5E4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7FF-1EBC-4F08-9263-AB39F8D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3D4-59F6-4F2B-91C6-031074B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E69F-71FB-4FE1-9914-C2F1023EF643}" type="slidenum"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95280" y="1268280"/>
            <a:ext cx="8305920" cy="236160"/>
            <a:chOff x="395280" y="1268280"/>
            <a:chExt cx="8305920" cy="236160"/>
          </a:xfrm>
        </p:grpSpPr>
        <p:sp>
          <p:nvSpPr>
            <p:cNvPr id="12" name=""/>
            <p:cNvSpPr/>
            <p:nvPr/>
          </p:nvSpPr>
          <p:spPr>
            <a:xfrm>
              <a:off x="623880" y="1410120"/>
              <a:ext cx="8077320" cy="94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95280" y="1268280"/>
              <a:ext cx="8077320" cy="943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1042920" y="6416640"/>
            <a:ext cx="55728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728720" y="6416640"/>
            <a:ext cx="55728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320000">
            <a:off x="396720" y="549000"/>
            <a:ext cx="882720" cy="882720"/>
          </a:xfrm>
          <a:prstGeom prst="star5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1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F137-6916-40D2-880B-4222025E71DF}" type="slidenum"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73" name="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3883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1" i="1" lang="en-GB" sz="4800" spc="-1" strike="noStrike">
                <a:solidFill>
                  <a:srgbClr val="ffff99"/>
                </a:solidFill>
                <a:latin typeface="Comic Sans MS"/>
              </a:rPr>
              <a:t>The Instrument for</a:t>
            </a:r>
            <a:br>
              <a:rPr sz="4800"/>
            </a:br>
            <a:r>
              <a:rPr b="1" i="1" lang="en-GB" sz="4800" spc="-1" strike="noStrike">
                <a:solidFill>
                  <a:srgbClr val="ffff99"/>
                </a:solidFill>
                <a:latin typeface="Comic Sans MS"/>
              </a:rPr>
              <a:t> Pre-Accession Assistance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317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99"/>
                </a:solidFill>
                <a:latin typeface="Comic Sans MS"/>
              </a:rPr>
              <a:t>IPA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99"/>
                </a:solidFill>
                <a:latin typeface="Comic Sans MS"/>
              </a:rPr>
              <a:t>General  overview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DG Enlargemen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Financial Instruments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and Regional Programmes Directorat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99"/>
                </a:solidFill>
                <a:latin typeface="Comic Sans MS"/>
              </a:rPr>
              <a:t>Programming level</a:t>
            </a:r>
            <a:r>
              <a:rPr b="1" i="1" lang="en-GB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MIPD supplemented by 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detailed annual or multi-annual programmes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, depending on the component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Comic Sans MS"/>
              </a:rPr>
              <a:t>Programmes established per component</a:t>
            </a:r>
            <a:r>
              <a:rPr b="1" lang="en-US" sz="3000" spc="-1" strike="noStrike">
                <a:solidFill>
                  <a:srgbClr val="ffff99"/>
                </a:solidFill>
                <a:latin typeface="Comic Sans MS"/>
              </a:rPr>
              <a:t>, where possible by the beneficiary country and submitted to the Commission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99"/>
                </a:solidFill>
                <a:latin typeface="Comic Sans MS"/>
              </a:rPr>
              <a:t>Managemen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Operations to be implemented through centralised management, decentralised management, joint management or shared managem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ully decentralised management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i.e. decentralised management with only ex-post rather than ex-ante control  =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the objective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Acces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to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components III, IV and V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open only if decentralis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in plac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Next step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51"/>
              </a:spcBef>
              <a:spcAft>
                <a:spcPts val="1874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ffff99"/>
                </a:solidFill>
                <a:uFillTx/>
                <a:latin typeface="Comic Sans MS"/>
              </a:rPr>
              <a:t>MIFF 2007 + 2008-2010</a:t>
            </a:r>
            <a:r>
              <a:rPr b="1" lang="fr-FR" sz="3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presented with enlargement package on 8 November 2006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51"/>
              </a:spcBef>
              <a:spcAft>
                <a:spcPts val="1874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99"/>
                </a:solidFill>
                <a:uFillTx/>
                <a:latin typeface="Comic Sans MS"/>
              </a:rPr>
              <a:t>Strategic planning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 per country, all components:  </a:t>
            </a:r>
            <a:r>
              <a:rPr b="1" lang="en-GB" sz="3000" spc="-1" strike="noStrike" u="sng">
                <a:solidFill>
                  <a:srgbClr val="ffff99"/>
                </a:solidFill>
                <a:uFillTx/>
                <a:latin typeface="Comic Sans MS"/>
              </a:rPr>
              <a:t>MIPD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 expected to be submitted to IPA Committee 1st quarter of each year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Specific programming per country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per compon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Conclusion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Building on lessons learned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ingle legal base: more coherence and co-ordination in assistance, as well as targeted and more efficient assistan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0">
              <a:lnSpc>
                <a:spcPct val="55000"/>
              </a:lnSpc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ingle implementing regulation: harmonisation of implementing procedures to the maximum possible ext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New Instrumen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IPA Council Regulation (EC) No 1085/2006 adopted on 17 July 2006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A unified Pre-Accession Instrument to assist candidate and potential candidate countri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Replaces Phare, ISPA, SAPARD and  Turkey pre-accession instruments, as well as the CARDS  instrument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inancial envelope (2007–13) :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11.468 bio €</a:t>
            </a: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(current prices)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Regulatory framework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99"/>
                </a:solidFill>
                <a:uFillTx/>
                <a:latin typeface="Comic Sans MS"/>
              </a:rPr>
              <a:t>IPA</a:t>
            </a: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=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99"/>
                </a:solidFill>
                <a:uFillTx/>
                <a:latin typeface="Comic Sans MS"/>
              </a:rPr>
              <a:t>Council Framework Regulation</a:t>
            </a: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(EC) No 1085/2006 of 17 July 2006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(OJ L 210 of 31 July 2006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99"/>
                </a:solidFill>
                <a:uFillTx/>
                <a:latin typeface="Comic Sans MS"/>
              </a:rPr>
              <a:t>Commission Implementing Regul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(adoption expected early 2007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Structure of IPA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99"/>
              </a:solidFill>
              <a:latin typeface="Arial"/>
            </a:endParaRPr>
          </a:p>
          <a:p>
            <a:pPr marL="71136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Five components</a:t>
            </a: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Transition Assistance and Institution Build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Cross-Border Co-ope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 algn="just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Regional Develop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 algn="just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Human Resources Develop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 algn="just">
              <a:lnSpc>
                <a:spcPct val="100000"/>
              </a:lnSpc>
              <a:spcAft>
                <a:spcPts val="7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Rural Develop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Targeted assistance under IP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Potential candidate countrie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upport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or participation in the Stabilisation and Association process all the way to future accession, with access to the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irst two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IPA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component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1576"/>
              </a:spcAft>
              <a:buClr>
                <a:srgbClr val="ffff99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Under component I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possibility of financing components III, IV and V-type measur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Candidate countrie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5 components to help countries to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Adopt and implement the acqui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Prepare for EU funds on acce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General implementation framework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Political and Financial Framework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: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Multi- annual Indicative Financial Framework (MIFF)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per country and per component, 3- year rolling forward, included in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enlargement package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Strategic planning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Multi-annual Indicative Planning Documents (MIPD)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,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per country and for all components, following the logic of the MIFF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711360" indent="-7113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Specific </a:t>
            </a: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programming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by country and by compon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General implementation framework: flowchart Candidat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64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B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C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628640"/>
            <a:ext cx="7704360" cy="1440000"/>
          </a:xfrm>
          <a:prstGeom prst="flowChartAlternateProcess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LARGEMENT PACKAGE,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including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ulti-annual Indicative Financial Framework MIFF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by country and by component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3357720"/>
            <a:ext cx="5905440" cy="574560"/>
          </a:xfrm>
          <a:prstGeom prst="flowChartProcess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ulti-annual Indicative Planning Documen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by country for all relevant component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724280"/>
            <a:ext cx="1223640" cy="68580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4724280"/>
            <a:ext cx="1368720" cy="68580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I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4724280"/>
            <a:ext cx="1441440" cy="71928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II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4724280"/>
            <a:ext cx="1368360" cy="71928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V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4724280"/>
            <a:ext cx="1297080" cy="71928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V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445000"/>
            <a:ext cx="122544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Nation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orizont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5445000"/>
            <a:ext cx="136872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oin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445000"/>
            <a:ext cx="129708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Operational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/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Large projec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5445000"/>
            <a:ext cx="115416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Operation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445000"/>
            <a:ext cx="1297080" cy="8654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Rur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3068640"/>
            <a:ext cx="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3280" y="3068640"/>
            <a:ext cx="0" cy="28908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8560" y="3933720"/>
            <a:ext cx="136836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058920" y="3933720"/>
            <a:ext cx="14436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933720"/>
            <a:ext cx="21600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20000" y="3933720"/>
            <a:ext cx="115236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3933720"/>
            <a:ext cx="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Multi-annual Indicative Financial framework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Part of the enlargement package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Financial translation of the overall priorities identified within the pre- accession political framework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Breakdown of financial envelope by horizontal programmes, country and component, administrative expenditure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Established for a 3 year period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on a rolling forward basi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Multi-annual Indicative Planning Document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939636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One for each beneficiary country, covering all relevant components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trategic cornerstone of IPA implementation, ensures the necessary coherence between component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ollowing the 3 year rolling logic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Prepared by the Commission, in close consultation with the beneficiary country and relevant stakeholder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ubmitted to IPA management Committe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or opin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8:03:08Z</dcterms:created>
  <dc:creator>nn</dc:creator>
  <dc:description/>
  <dc:language>en-US</dc:language>
  <cp:lastModifiedBy>vissehk</cp:lastModifiedBy>
  <cp:lastPrinted>2004-02-18T10:28:37Z</cp:lastPrinted>
  <dcterms:modified xsi:type="dcterms:W3CDTF">2008-10-03T14:10:43Z</dcterms:modified>
  <cp:revision>61</cp:revision>
  <dc:subject/>
  <dc:title>L’allargamento dell’Unione Europea all’Unghe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