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9AE3-8CBB-479A-B476-99086B14D53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1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ED0-0384-4CA2-81A1-FD554160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38B-D7FB-441B-9A88-DE21622B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9FA-55F5-46A9-94A1-42D6C991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5F7-F765-4BC0-BF09-DDA0DB9D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4083-756B-402F-8868-AAC452C9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937D-6DBA-42F8-8668-38BB7363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F67F-6D29-4593-94D8-43773FA2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5AA8-AA81-41AF-BEA1-3A503CAB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4751-A513-448C-9318-A9EE7199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BF0C-E7E0-4111-956D-FCED328C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E883-9352-4B9E-A3F4-7FF6B7C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3B1-A5A6-4B73-9612-CB79A966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E71E-8610-4457-A3ED-433DCB19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15D2-AC4C-4C91-AA6E-D1E2AF45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5697-81BC-4845-80C6-13D75217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11B3-518C-4F62-992B-38A5941F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FDA2-9B7C-4A86-9062-AA187E6D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922-CFD4-459F-BFBC-AB0D9D61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AA3-1ACF-472A-90F5-552BC5CD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4D8-11B0-42ED-9639-8CA43DAE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8AA-3BEE-436C-996C-0A0420DA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8D6-6229-4800-B02E-998930F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C18-94FC-477B-9365-5760BA1A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6F0-7A79-4A32-8141-6E9579DA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37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233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CE88-A9BB-44CC-9FCF-6D62BF74C274}" type="slidenum"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395280" y="1268280"/>
            <a:ext cx="8305920" cy="236160"/>
            <a:chOff x="395280" y="1268280"/>
            <a:chExt cx="8305920" cy="236160"/>
          </a:xfrm>
        </p:grpSpPr>
        <p:sp>
          <p:nvSpPr>
            <p:cNvPr id="12" name=""/>
            <p:cNvSpPr/>
            <p:nvPr/>
          </p:nvSpPr>
          <p:spPr>
            <a:xfrm>
              <a:off x="623880" y="1410120"/>
              <a:ext cx="8077320" cy="94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95280" y="1268280"/>
              <a:ext cx="8077320" cy="943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90640" y="6310440"/>
            <a:ext cx="1228680" cy="380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1042920" y="6416640"/>
            <a:ext cx="55728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728720" y="6416640"/>
            <a:ext cx="55728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320000">
            <a:off x="396720" y="549000"/>
            <a:ext cx="882720" cy="882720"/>
          </a:xfrm>
          <a:prstGeom prst="star5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1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30D9-347E-4CF0-AA5C-5BF4DF1B92E6}" type="slidenum">
              <a:rPr b="0" lang="it-IT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57200" y="2057400"/>
            <a:ext cx="8305920" cy="380880"/>
            <a:chOff x="457200" y="2057400"/>
            <a:chExt cx="8305920" cy="380880"/>
          </a:xfrm>
        </p:grpSpPr>
        <p:sp>
          <p:nvSpPr>
            <p:cNvPr id="73" name=""/>
            <p:cNvSpPr/>
            <p:nvPr/>
          </p:nvSpPr>
          <p:spPr>
            <a:xfrm>
              <a:off x="685800" y="22860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" y="20574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388360" cy="15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99"/>
                </a:solidFill>
                <a:latin typeface="Comic Sans MS"/>
              </a:rPr>
              <a:t>    </a:t>
            </a:r>
            <a:r>
              <a:rPr b="1" i="1" lang="en-GB" sz="4800" spc="-1" strike="noStrike">
                <a:solidFill>
                  <a:srgbClr val="ffff99"/>
                </a:solidFill>
                <a:latin typeface="Comic Sans MS"/>
              </a:rPr>
              <a:t>The Instrument for</a:t>
            </a:r>
            <a:br>
              <a:rPr sz="4800"/>
            </a:br>
            <a:r>
              <a:rPr b="1" i="1" lang="en-GB" sz="4800" spc="-1" strike="noStrike">
                <a:solidFill>
                  <a:srgbClr val="ffff99"/>
                </a:solidFill>
                <a:latin typeface="Comic Sans MS"/>
              </a:rPr>
              <a:t> Pre-Accession Assistance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317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99"/>
                </a:solidFill>
                <a:latin typeface="Comic Sans MS"/>
              </a:rPr>
              <a:t>IPA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99"/>
                </a:solidFill>
                <a:latin typeface="Comic Sans MS"/>
              </a:rPr>
              <a:t>General  overview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DG Enlargement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Financial Instruments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and Regional Programmes Directorate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99"/>
                </a:solidFill>
                <a:latin typeface="Comic Sans MS"/>
              </a:rPr>
              <a:t>Programming level</a:t>
            </a:r>
            <a:r>
              <a:rPr b="1" i="1" lang="en-GB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MIPD supplemented by 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detailed annual or multi-annual programmes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, depending on the component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25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Comic Sans MS"/>
              </a:rPr>
              <a:t>Programmes established per component</a:t>
            </a:r>
            <a:r>
              <a:rPr b="1" lang="en-US" sz="3000" spc="-1" strike="noStrike">
                <a:solidFill>
                  <a:srgbClr val="ffff99"/>
                </a:solidFill>
                <a:latin typeface="Comic Sans MS"/>
              </a:rPr>
              <a:t>, where possible by the beneficiary country and submitted to the Commission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99"/>
                </a:solidFill>
                <a:latin typeface="Comic Sans MS"/>
              </a:rPr>
              <a:t>Managemen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Operations to be implemented through centralised management, decentralised management, joint management or shared managemen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ully decentralised management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i.e. decentralised management with only ex-post rather than ex-ante control  =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the objective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Access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to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components III, IV and V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open only if decentralis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in plac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Next step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51"/>
              </a:spcBef>
              <a:spcAft>
                <a:spcPts val="1874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ffff99"/>
                </a:solidFill>
                <a:uFillTx/>
                <a:latin typeface="Comic Sans MS"/>
              </a:rPr>
              <a:t>MIFF 2007 + 2008-2010</a:t>
            </a:r>
            <a:r>
              <a:rPr b="1" lang="fr-FR" sz="30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presented with enlargement package on 8 November 2006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751"/>
              </a:spcBef>
              <a:spcAft>
                <a:spcPts val="1874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99"/>
                </a:solidFill>
                <a:uFillTx/>
                <a:latin typeface="Comic Sans MS"/>
              </a:rPr>
              <a:t>Strategic planning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 per country, all components:  </a:t>
            </a:r>
            <a:r>
              <a:rPr b="1" lang="en-GB" sz="3000" spc="-1" strike="noStrike" u="sng">
                <a:solidFill>
                  <a:srgbClr val="ffff99"/>
                </a:solidFill>
                <a:uFillTx/>
                <a:latin typeface="Comic Sans MS"/>
              </a:rPr>
              <a:t>MIPD</a:t>
            </a:r>
            <a:r>
              <a:rPr b="1" lang="en-GB" sz="3000" spc="-1" strike="noStrike">
                <a:solidFill>
                  <a:srgbClr val="ffff99"/>
                </a:solidFill>
                <a:latin typeface="Comic Sans MS"/>
              </a:rPr>
              <a:t> expected to be submitted to IPA Committee 1st quarter of each year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Specific programming per country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per componen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6324480"/>
            <a:ext cx="617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17840" y="6421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Conclusion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Building on lessons learned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ingle legal base: more coherence and co-ordination in assistance, as well as targeted and more efficient assistanc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0">
              <a:lnSpc>
                <a:spcPct val="55000"/>
              </a:lnSpc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ingle implementing regulation: harmonisation of implementing procedures to the maximum possible ext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6324480"/>
            <a:ext cx="617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7840" y="6421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New Instrumen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67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IPA Council Regulation (EC) No 1085/2006 adopted on 17 July 2006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A unified Pre-Accession Instrument to assist candidate and potential candidate countri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Replaces Phare, ISPA, SAPARD and  Turkey pre-accession instruments, as well as the CARDS  instrument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inancial envelope (2007–13) :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11.468 bio €</a:t>
            </a: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(current prices)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26676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324480"/>
            <a:ext cx="617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17840" y="6421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omic Sans MS"/>
              </a:rPr>
              <a:t>Regulatory framework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1342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99"/>
                </a:solidFill>
                <a:uFillTx/>
                <a:latin typeface="Comic Sans MS"/>
              </a:rPr>
              <a:t>IPA</a:t>
            </a: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=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99"/>
                </a:solidFill>
                <a:uFillTx/>
                <a:latin typeface="Comic Sans MS"/>
              </a:rPr>
              <a:t>Council Framework Regulation</a:t>
            </a: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(EC) No 1085/2006 of 17 July 2006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(OJ L 210 of 31 July 2006)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99"/>
                </a:solidFill>
                <a:uFillTx/>
                <a:latin typeface="Comic Sans MS"/>
              </a:rPr>
              <a:t>Commission Implementing Regulat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(adoption expected early 2007)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Structure of IPA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80360" cy="53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113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99"/>
              </a:solidFill>
              <a:latin typeface="Arial"/>
            </a:endParaRPr>
          </a:p>
          <a:p>
            <a:pPr marL="711360"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Five components</a:t>
            </a: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Transition Assistance and Institution Buildin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Cross-Border Co-oper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 algn="just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Regional Developmen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 algn="just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Human Resources Developmen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985680" indent="-711000" algn="just">
              <a:lnSpc>
                <a:spcPct val="100000"/>
              </a:lnSpc>
              <a:spcAft>
                <a:spcPts val="799"/>
              </a:spcAft>
              <a:buClr>
                <a:srgbClr val="ffff99"/>
              </a:buClr>
              <a:buSzPct val="90000"/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Rural Developmen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6324480"/>
            <a:ext cx="617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17840" y="6421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omic Sans MS"/>
              </a:rPr>
              <a:t>Targeted assistance under IPA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Potential candidate countries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: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upport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or participation in the Stabilisation and Association process all the way to future accession, with access to the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irst two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IPA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components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1576"/>
              </a:spcAft>
              <a:buClr>
                <a:srgbClr val="ffff99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Under component I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possibility of financing components III, IV and V-type measur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Candidate countries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: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5 components to help countries to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Adopt and implement the acqui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Prepare for EU funds on access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General implementation framework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ff99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Political and Financial Framework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: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Multi- annual Indicative Financial Framework (MIFF)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, per country and per component, 3- year rolling forward, included in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enlargement package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ff99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Strategic planning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: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Multi-annual Indicative Planning Documents (MIPD)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,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per country and for all components, following the logic of the MIFF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711360" indent="-711360">
              <a:lnSpc>
                <a:spcPct val="70000"/>
              </a:lnSpc>
              <a:spcBef>
                <a:spcPts val="700"/>
              </a:spcBef>
              <a:spcAft>
                <a:spcPts val="1749"/>
              </a:spcAft>
              <a:buClr>
                <a:srgbClr val="ffff99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Specific </a:t>
            </a:r>
            <a:r>
              <a:rPr b="1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programming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by country and by componen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omic Sans MS"/>
              </a:rPr>
              <a:t>General implementation framework: flowchart Candidat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644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A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B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C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628640"/>
            <a:ext cx="7704360" cy="1440000"/>
          </a:xfrm>
          <a:prstGeom prst="flowChartAlternateProcess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ENLARGEMENT PACKAGE,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including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Multi-annual Indicative Financial Framework MIFF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by country and by component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3357720"/>
            <a:ext cx="5905440" cy="574560"/>
          </a:xfrm>
          <a:prstGeom prst="flowChartProcess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Multi-annual Indicative Planning Documen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by country for all relevant component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4724280"/>
            <a:ext cx="1223640" cy="68580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I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4724280"/>
            <a:ext cx="1368720" cy="68580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II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67280" y="4724280"/>
            <a:ext cx="1441440" cy="71928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III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4724280"/>
            <a:ext cx="1368360" cy="71928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IV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4724280"/>
            <a:ext cx="1297080" cy="719280"/>
          </a:xfrm>
          <a:prstGeom prst="flowChartMerge">
            <a:avLst/>
          </a:prstGeom>
          <a:solidFill>
            <a:srgbClr val="dae0f8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Comp V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5445000"/>
            <a:ext cx="1225440" cy="8636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Nationa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Horizonta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5445000"/>
            <a:ext cx="1368720" cy="8636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Joint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445000"/>
            <a:ext cx="1297080" cy="8636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Operational 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/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Large project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5445000"/>
            <a:ext cx="1154160" cy="8636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Operationa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445000"/>
            <a:ext cx="1297080" cy="865440"/>
          </a:xfrm>
          <a:prstGeom prst="flowChartAlternateProcess">
            <a:avLst/>
          </a:prstGeom>
          <a:solidFill>
            <a:srgbClr val="6bb7fd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Rural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Development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programme</a:t>
            </a:r>
            <a:endParaRPr b="0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8000" y="3068640"/>
            <a:ext cx="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3280" y="3068640"/>
            <a:ext cx="0" cy="28908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8560" y="3933720"/>
            <a:ext cx="136836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058920" y="3933720"/>
            <a:ext cx="14436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3933720"/>
            <a:ext cx="21600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20000" y="3933720"/>
            <a:ext cx="115236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3933720"/>
            <a:ext cx="0" cy="790560"/>
          </a:xfrm>
          <a:prstGeom prst="line">
            <a:avLst/>
          </a:prstGeom>
          <a:ln cap="sq" w="1260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99"/>
                </a:solidFill>
                <a:latin typeface="Comic Sans MS"/>
              </a:rPr>
              <a:t>Multi-annual Indicative Financial framework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Part of the enlargement package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Financial translation of the overall priorities identified within the pre- accession political framework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Breakdown of financial envelope by horizontal programmes, country and component, administrative expenditure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Established for a 3 year period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99"/>
                </a:solidFill>
                <a:latin typeface="Comic Sans MS"/>
              </a:rPr>
              <a:t>on a rolling forward basi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99"/>
                </a:solidFill>
                <a:latin typeface="Comic Sans MS"/>
              </a:rPr>
              <a:t>Multi-annual Indicative Planning Document</a:t>
            </a:r>
            <a:r>
              <a:rPr b="1" i="1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939636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One for each beneficiary country, covering all relevant components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trategic cornerstone of IPA implementation, ensures the necessary coherence between component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ollowing the 3 year rolling logic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Prepared by the Commission, in close consultation with the beneficiary country and relevant stakeholder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Submitted to IPA management Committe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    </a:t>
            </a:r>
            <a:r>
              <a:rPr b="1" lang="en-GB" sz="2800" spc="-1" strike="noStrike">
                <a:solidFill>
                  <a:srgbClr val="ffff99"/>
                </a:solidFill>
                <a:latin typeface="Comic Sans MS"/>
              </a:rPr>
              <a:t>for opin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08:03:08Z</dcterms:created>
  <dc:creator>nn</dc:creator>
  <dc:description/>
  <dc:language>en-US</dc:language>
  <cp:lastModifiedBy>vissehk</cp:lastModifiedBy>
  <cp:lastPrinted>2004-02-18T10:28:37Z</cp:lastPrinted>
  <dcterms:modified xsi:type="dcterms:W3CDTF">2008-10-03T14:10:43Z</dcterms:modified>
  <cp:revision>61</cp:revision>
  <dc:subject/>
  <dc:title>L’allargamento dell’Unione Europea all’Unghe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