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670675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874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9640" y="0"/>
            <a:ext cx="2889000" cy="4874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93520" y="735120"/>
            <a:ext cx="4887720" cy="366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87040" y="4642920"/>
            <a:ext cx="4894200" cy="4395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286920"/>
            <a:ext cx="2889360" cy="4874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9640" y="9286920"/>
            <a:ext cx="2889000" cy="4874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s-CO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0D6AF8F-24C0-40D8-915A-E1EAFE2835F2}" type="slidenum"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780000" y="9286920"/>
            <a:ext cx="28890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8BD6D93-5220-4200-A12A-8E86206FF166}" type="slidenum"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893880" y="7351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887040" y="4642920"/>
            <a:ext cx="4894200" cy="439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780000" y="9286920"/>
            <a:ext cx="28890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7C479D9-F712-4F43-A8F1-9F04C7C6E8DF}" type="slidenum"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893880" y="7351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887040" y="4642920"/>
            <a:ext cx="4894200" cy="439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780000" y="9286920"/>
            <a:ext cx="28890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4FEC4DB-8117-4677-B180-76B893E60C16}" type="slidenum"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893880" y="7351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887040" y="4642920"/>
            <a:ext cx="4894200" cy="439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780000" y="9286920"/>
            <a:ext cx="28890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BAECF6E-11BE-49E9-AD34-0602762BA248}" type="slidenum"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8080" cy="366552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66360" y="4642920"/>
            <a:ext cx="533556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780000" y="9286920"/>
            <a:ext cx="28890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48370A2-52C8-49A8-B61D-7CE83CEDF247}" type="slidenum"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8080" cy="366552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66360" y="4642920"/>
            <a:ext cx="533556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9E1D-A4A5-4720-8D69-FC215963E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41DB-71BC-4B8D-9AC3-995C4C7F4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A1B4-DE01-436A-A4F8-E72E65E77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F8DB-E7DE-44FA-9B8D-D0E98FF04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4F4A-F3BB-464E-95BF-96E59E348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C70B-1A68-4500-9A59-45CCA7EEF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A44D-F103-4CE4-9AB0-5643726FE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E8C7-B520-4AEC-842C-31CE67696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20B5-929D-4283-8AF1-B787D880A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544A-EBE2-4848-A1F2-CA2E98AC4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BFF9-C991-48ED-8A98-04D047FE2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85A4-1DD3-40CE-953B-4F8F2FD20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Arial"/>
              </a:rPr>
              <a:t>CEP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BD548-25C6-48A5-A4BF-0D5536B691B9}" type="slidenum">
              <a:rPr b="0" lang="es-CO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1218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spcAft>
                <a:spcPts val="31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GREAT RECESSIO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ND THE DEVELOPING WORL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685800" y="4648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45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JOSÉ ANTONIO OCAMPO</a:t>
            </a:r>
            <a:br>
              <a:rPr sz="2800"/>
            </a:b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COLUMBIA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3886200" y="4952880"/>
            <a:ext cx="1295280" cy="1800"/>
          </a:xfrm>
          <a:prstGeom prst="rect">
            <a:avLst/>
          </a:prstGeom>
          <a:solidFill>
            <a:srgbClr val="d2a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2743200" y="4419720"/>
            <a:ext cx="3429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WORLD TRADE COLLAPSED, AND HAS NOT FULLY RECOVERED (1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Rectangle 3" descr=""/>
          <p:cNvPicPr/>
          <p:nvPr/>
        </p:nvPicPr>
        <p:blipFill>
          <a:blip r:embed="rId1"/>
          <a:stretch/>
        </p:blipFill>
        <p:spPr>
          <a:xfrm>
            <a:off x="457200" y="1490760"/>
            <a:ext cx="8153280" cy="52149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WORLD TRADE COLLAPSED, AND HAS NOT FULLY RECOVERED (2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Rectangle 3" descr=""/>
          <p:cNvPicPr/>
          <p:nvPr/>
        </p:nvPicPr>
        <p:blipFill>
          <a:blip r:embed="rId1"/>
          <a:stretch/>
        </p:blipFill>
        <p:spPr>
          <a:xfrm>
            <a:off x="533520" y="1504800"/>
            <a:ext cx="7924680" cy="50482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THE TRADE SHOCK HAD DIVERSE</a:t>
            </a:r>
            <a:br>
              <a:rPr sz="3200"/>
            </a:b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EFFECTS ACCORDING </a:t>
            </a:r>
            <a:br>
              <a:rPr sz="3200"/>
            </a:b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TO SPECIALIZATION PATTER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Rectangle 3" descr=""/>
          <p:cNvPicPr/>
          <p:nvPr/>
        </p:nvPicPr>
        <p:blipFill>
          <a:blip r:embed="rId1"/>
          <a:stretch/>
        </p:blipFill>
        <p:spPr>
          <a:xfrm>
            <a:off x="457200" y="1422360"/>
            <a:ext cx="8229600" cy="5435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8487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spcAft>
                <a:spcPts val="901"/>
              </a:spcAft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Greater policy space thanks to improvements in external balance sheets of countries (except in Central and Eastern Europ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spcAft>
                <a:spcPts val="901"/>
              </a:spcAft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his was reflected in reduction in interest rates and reserve requirements, and foreign exchange intervention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spcAft>
                <a:spcPts val="901"/>
              </a:spcAft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ublic sector banks played a positive role, high dependence on external funding for banks a very negative on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spcAft>
                <a:spcPts val="901"/>
              </a:spcAft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he fiscal space was also used by many, but not all countries. East Asia and the Gulf were aggressive; South Asia went ahead despite weak fiscal situation; Latin America and Africa are more mixed stori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COUNTER-CYCLICAL POLICI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OUTCOM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wo types of economies were severely affected: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ufacturing export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spcAft>
                <a:spcPts val="1049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untries with weak financial condi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spcAft>
                <a:spcPts val="1125"/>
              </a:spcAft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 regions with relatively large poverty levels (South Asia and Sub-Saharan Africa) did relatively well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ounter-cyclical policies had stronger effects on large economies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REGIONS WITH GOOD OR FAIR PERFORMAN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Rectangle 3" descr=""/>
          <p:cNvPicPr/>
          <p:nvPr/>
        </p:nvPicPr>
        <p:blipFill>
          <a:blip r:embed="rId1"/>
          <a:stretch/>
        </p:blipFill>
        <p:spPr>
          <a:xfrm>
            <a:off x="76320" y="1828800"/>
            <a:ext cx="8991360" cy="4800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REGIONS WITH POOR PERFORMAN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Rectangle 3" descr=""/>
          <p:cNvPicPr/>
          <p:nvPr/>
        </p:nvPicPr>
        <p:blipFill>
          <a:blip r:embed="rId1"/>
          <a:stretch/>
        </p:blipFill>
        <p:spPr>
          <a:xfrm>
            <a:off x="228600" y="1989000"/>
            <a:ext cx="8915400" cy="4335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OCIAL OUTCOM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spcAft>
                <a:spcPts val="975"/>
              </a:spcAft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round 80 million additional indigents, relative to a situation of continued growth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spcAft>
                <a:spcPts val="975"/>
              </a:spcAft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s does not affect much the MDG targets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spcAft>
                <a:spcPts val="975"/>
              </a:spcAft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nemployment effects have been very diverse, largely concentrated in transition economies and, lo a lesser extent, Latin America. Loss of employment in manufacturing exports was very important worldwide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spcAft>
                <a:spcPts val="975"/>
              </a:spcAft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nformal employment/working poor, and the lack of social protection are more important issues in developing countries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WITH FEW EXCEPTIONS, GAINS IN REDUCING THE WORKING POOR WERE REVERS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Rectangle 3" descr=""/>
          <p:cNvPicPr/>
          <p:nvPr/>
        </p:nvPicPr>
        <p:blipFill>
          <a:blip r:embed="rId1"/>
          <a:stretch/>
        </p:blipFill>
        <p:spPr>
          <a:xfrm>
            <a:off x="228600" y="1676520"/>
            <a:ext cx="8839080" cy="5114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MULTILATERAL RESPONS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ong bias of the G-20 towards funding the IMF, and middle-income countrie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jor reforms of IMF credit lines in March 2009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ltilateral development banks also responded, but more commitments than disbursement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ficial support ($50b net) was small relative to the reduction in private flows (-$331b excluding FDI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ll in ODA, from $120 in 2008 to $107 billion in 2010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FIVE PHASES OF THE CRISI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g 07/Mar 08: Crisis in the market for asset-backed securiti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r-Sept 14 08: Growing distrust in financial agents after collapse of Bear Stearn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pt 14-March 08: Global financial and economic collap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nd 3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quarters 09: “Green shoots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ce 4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quarter 09: the return of global imbalan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developing countries largely escaped the first two phases, were severely affected by the third, and had diverse outcomes during the fourth and fifth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WORLD BANK: LARGE INCREASE </a:t>
            </a:r>
            <a:br>
              <a:rPr sz="3200"/>
            </a:b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IN COMMITMENTS, LIMITED DISBURSEM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Rectangle 3" descr=""/>
          <p:cNvPicPr/>
          <p:nvPr/>
        </p:nvPicPr>
        <p:blipFill>
          <a:blip r:embed="rId1"/>
          <a:stretch/>
        </p:blipFill>
        <p:spPr>
          <a:xfrm>
            <a:off x="76320" y="1600200"/>
            <a:ext cx="9067680" cy="5257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ODA FAL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Rectangle 3" descr=""/>
          <p:cNvPicPr/>
          <p:nvPr/>
        </p:nvPicPr>
        <p:blipFill>
          <a:blip r:embed="rId1"/>
          <a:stretch/>
        </p:blipFill>
        <p:spPr>
          <a:xfrm>
            <a:off x="152280" y="1828800"/>
            <a:ext cx="8839440" cy="46483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685440" y="1447560"/>
            <a:ext cx="807732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spcAft>
                <a:spcPts val="1125"/>
              </a:spcAft>
              <a:buClr>
                <a:srgbClr val="ffff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Mainstreaming counter-cyclical policies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spcAft>
                <a:spcPts val="1125"/>
              </a:spcAft>
              <a:buClr>
                <a:srgbClr val="ffff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Time to look back at the domestic market, even to inward-looking strategies?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spcAft>
                <a:spcPts val="1125"/>
              </a:spcAft>
              <a:buClr>
                <a:srgbClr val="ffff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Since this has a bias in favor of large countries, a role for regional integration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spcAft>
                <a:spcPts val="1125"/>
              </a:spcAft>
              <a:buClr>
                <a:srgbClr val="ffff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Placing employment generation at the center of all macro polic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spcAft>
                <a:spcPts val="1125"/>
              </a:spcAft>
              <a:buClr>
                <a:srgbClr val="ffff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And creating or improving social protection syste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ETHINKING THE PARADIG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AJOR GLOBAL ISSU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spcAft>
                <a:spcPts val="975"/>
              </a:spcAft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to avert early withdrawal of stimulus, and stable reform of finance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spcAft>
                <a:spcPts val="975"/>
              </a:spcAft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f China is going to lead, how is it going to disseminate its growth to other economies?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spcAft>
                <a:spcPts val="975"/>
              </a:spcAft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isorderly capital flows towards developing countries: the time to go back to capital controls?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spcAft>
                <a:spcPts val="975"/>
              </a:spcAft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o is going to give confidence that countries running current account deficits would not face problems in the future?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spcAft>
                <a:spcPts val="975"/>
              </a:spcAft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are the benefits from the new world growth pattern to be shared?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560" y="1218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spcAft>
                <a:spcPts val="31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GREAT RECESSIO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ND THE DEVELOPING WORL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685800" y="4648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45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JOSÉ ANTONIO OCAMPO</a:t>
            </a:r>
            <a:br>
              <a:rPr sz="2800"/>
            </a:b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COLUMBIA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3886200" y="4952880"/>
            <a:ext cx="1295280" cy="1800"/>
          </a:xfrm>
          <a:prstGeom prst="rect">
            <a:avLst/>
          </a:prstGeom>
          <a:solidFill>
            <a:srgbClr val="d2a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2743200" y="4419720"/>
            <a:ext cx="3429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INDUSTRIAL PRODUCTION (1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Rectangle 3" descr=""/>
          <p:cNvPicPr/>
          <p:nvPr/>
        </p:nvPicPr>
        <p:blipFill>
          <a:blip r:embed="rId1"/>
          <a:stretch/>
        </p:blipFill>
        <p:spPr>
          <a:xfrm>
            <a:off x="685800" y="1306440"/>
            <a:ext cx="8077320" cy="5627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INDUSTRIAL PRODUCTION (2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Rectangle 3" descr=""/>
          <p:cNvPicPr/>
          <p:nvPr/>
        </p:nvPicPr>
        <p:blipFill>
          <a:blip r:embed="rId1"/>
          <a:stretch/>
        </p:blipFill>
        <p:spPr>
          <a:xfrm>
            <a:off x="380880" y="990720"/>
            <a:ext cx="8153640" cy="58658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Y WAS THIS NOT A GREAT DEPRESSION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1049"/>
              </a:spcAft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option of the most massive Keynesian package in history, by developed and several developing countries (with great diversity)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1049"/>
              </a:spcAft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ssive financial bailouts (helped to avoid further recession, but have not contributed to the recovery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1049"/>
              </a:spcAft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istence of an alternative engine: a large economy (China) that the space and willingness to adopt strongly expansionary policie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ut risks are still present!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Aft>
                <a:spcPts val="1874"/>
              </a:spcAft>
              <a:buClr>
                <a:srgbClr val="ffff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Remittances: affected migrants to the US, Europe and Russia, not the Gulf countries, and mainly small econom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1874"/>
              </a:spcAft>
              <a:buClr>
                <a:srgbClr val="ffff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Financial conditions generated a sharp but short effect, that affected mainly middle-income count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1874"/>
              </a:spcAft>
              <a:buClr>
                <a:srgbClr val="ffff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The trade shock (in volume and price terms) has been more severe, and affected all count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HE TRANSMISION OF THE CRISI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COUNTRIES SEVERELY AFFECTED BY FALL IN REMITTANCES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Rectangle 3" descr=""/>
          <p:cNvPicPr/>
          <p:nvPr/>
        </p:nvPicPr>
        <p:blipFill>
          <a:blip r:embed="rId1"/>
          <a:stretch/>
        </p:blipFill>
        <p:spPr>
          <a:xfrm>
            <a:off x="2286000" y="1523880"/>
            <a:ext cx="4624560" cy="51055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THE FINANCIAL SHOCK WAS STRONG BUT RELATIVELY SHORT (1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2195640" y="18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2195640" y="18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182880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1324080"/>
            <a:ext cx="8305920" cy="56102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THE FINANCIAL SHOCK WAS STRONG BUT RELATIVELY SHORT (2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2195640" y="18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2195640" y="18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182880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33520" y="1359000"/>
            <a:ext cx="8001000" cy="5499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5T13:58:50Z</dcterms:created>
  <dc:creator>Maria Angela Parra</dc:creator>
  <dc:description/>
  <dc:language>en-US</dc:language>
  <cp:lastModifiedBy>ces</cp:lastModifiedBy>
  <cp:lastPrinted>2001-09-27T19:01:18Z</cp:lastPrinted>
  <dcterms:modified xsi:type="dcterms:W3CDTF">2010-03-16T09:00:00Z</dcterms:modified>
  <cp:revision>1327</cp:revision>
  <dc:subject/>
  <dc:title>Historia de América Latina</dc:title>
</cp:coreProperties>
</file>