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3520" y="7351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692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DC1919-1B01-4E31-BBA8-A9747AB72DEB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D95542-7956-4403-A9A4-A4774385EB7C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3880" y="7351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A5FC63-960C-4871-A94F-7239BEA50611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3880" y="7351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082AB4-CC6D-4F9C-9B0B-04E20E66624A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93880" y="7351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6A675D-470D-4E6D-A0C1-E7F76DF567B0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642920"/>
            <a:ext cx="533556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BFC86F-61EC-47A2-9CE4-8E181AE8A9D6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2920"/>
            <a:ext cx="533556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5AE-3A2B-4231-B42C-0F3118BC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B41-F201-4756-A329-D241800E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8D0-8A75-4716-8130-AE0A0843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547-190E-476B-B82C-BC3A951B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72E-5B66-43BF-B911-39F0A26B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5EC-C0D3-4551-871D-F1A89E19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FB0-C329-40A5-9A8E-97C5465E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F76-4E68-464F-8882-C4E1A4DC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DFE-7BBB-453E-9D50-4E3E1B87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395-2710-49FB-8BF6-11FBB6A8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195-46C3-460C-A406-C63F24DE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3D9-58B7-4EFA-A797-781360B9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F935-589C-45E0-B2E8-60176287449D}" type="slidenum">
              <a:rPr b="0" lang="es-C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GREAT RECESS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THE DEVELOPING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JOSÉ ANTONIO OCAMPO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886200" y="4952880"/>
            <a:ext cx="1295280" cy="1800"/>
          </a:xfrm>
          <a:prstGeom prst="rect">
            <a:avLst/>
          </a:prstGeom>
          <a:solidFill>
            <a:srgbClr val="d2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743200" y="44197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ORLD TRADE COLLAPSED, AND HAS NOT FULLY RECOVERED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457200" y="1490760"/>
            <a:ext cx="8153280" cy="521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ORLD TRADE COLLAPSED, AND HAS NOT FULLY RECOVERED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533520" y="150480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TRADE SHOCK HAD DIVERSE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FFECTS ACCORDING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O SPECIALIZATION PATTE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1"/>
          <a:stretch/>
        </p:blipFill>
        <p:spPr>
          <a:xfrm>
            <a:off x="457200" y="1422360"/>
            <a:ext cx="8229600" cy="543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reater policy space thanks to improvements in external balance sheets of countries (except in Central and Eastern Euro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is was reflected in reduction in interest rates and reserve requirements, and foreign exchange interven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ublic sector banks played a positive role, high dependence on external funding for banks a very negative 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fiscal space was also used by many, but not all countries. East Asia and the Gulf were aggressive; South Asia went ahead despite weak fiscal situation; Latin America and Africa are more mixed stor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UNTER-CYCLICAL POLI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types of economies were severely affected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 expor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ies with weak financial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regions with relatively large poverty levels (South Asia and Sub-Saharan Africa) did relatively well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unter-cyclical policies had stronger effects on large econom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GIONS WITH GOOD OR FAIR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GIONS WITH POOR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228600" y="1989000"/>
            <a:ext cx="8915400" cy="433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ound 80 million additional indigents, relative to a situation of continued growt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does not affect much the MDG targe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employment effects have been very diverse, largely concentrated in transition economies and, lo a lesser extent, Latin America. Loss of employment in manufacturing exports was very important worldwid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rmal employment/working poor, and the lack of social protection are more important issues in developing countri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ITH FEW EXCEPTIONS, GAINS IN REDUCING THE WORKING POOR WERE REVER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839080" cy="51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MULTILATERAL RESPON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bias of the G-20 towards funding the IMF, and middle-income countr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reforms of IMF credit lines in March 2009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lateral development banks also responded, but more commitments than disburs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ial support ($50b net) was small relative to the reduction in private flows (-$331b excluding FD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in ODA, from $120 in 2008 to $107 billion in 201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VE PHASES OF THE CRI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 07/Mar 08: Crisis in the market for asset-backed secur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-Sept 14 08: Growing distrust in financial agents after collapse of Bear Stear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 14-March 08: Global financial and economic collap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rters 09: “Green shoo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rter 09: the return of global imbal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veloping countries largely escaped the first two phases, were severely affected by the third, and had diverse outcomes during the fourth and fif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ORLD BANK: LARGE INCREASE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 COMMITMENTS, LIMITED DISBURS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906768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DA F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ainstreaming counter-cyclical polic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ime to look back at the domestic market, even to inward-looking strategies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ince this has a bias in favor of large countries, a role for regional integr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lacing employment generation at the center of all macro polic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nd creating or improving social protection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HINKING THE PARADI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GLOB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to avert early withdrawal of stimulus, and stable reform of financ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China is going to lead, how is it going to disseminate its growth to other economie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orderly capital flows towards developing countries: the time to go back to capital control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 is going to give confidence that countries running current account deficits would not face problems in the futur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are the benefits from the new world growth pattern to be shared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GREAT RECESS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THE DEVELOPING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8580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JOSÉ ANTONIO OCAMPO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886200" y="4952880"/>
            <a:ext cx="1295280" cy="1800"/>
          </a:xfrm>
          <a:prstGeom prst="rect">
            <a:avLst/>
          </a:prstGeom>
          <a:solidFill>
            <a:srgbClr val="d2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743200" y="44197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DUSTRIAL PRODUCTION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685800" y="1306440"/>
            <a:ext cx="8077320" cy="562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DUSTRIAL PRODUCT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153640" cy="586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WAS THIS NOT A GREAT DEPRES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ion of the most massive Keynesian package in history, by developed and several developing countries (with great diversity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financial bailouts (helped to avoid further recession, but have not contributed to the recover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ence of an alternative engine: a large economy (China) that the space and willingness to adopt strongly expansionary polic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risks are still present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1874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mittances: affected migrants to the US, Europe and Russia, not the Gulf countries, and mainly small econom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74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ial conditions generated a sharp but short effect, that affected mainly middle-income count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74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trade shock (in volume and price terms) has been more severe, and affected all count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TRANSMISION OF THE CRI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NTRIES SEVERELY AFFECTED BY FALL IN REMIT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24560" cy="51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FINANCIAL SHOCK WAS STRONG BUT RELATIVELY SHORT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82880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324080"/>
            <a:ext cx="8305920" cy="561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FINANCIAL SHOCK WAS STRONG BUT RELATIVELY SHORT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82880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8001000" cy="549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3:58:50Z</dcterms:created>
  <dc:creator>Maria Angela Parra</dc:creator>
  <dc:description/>
  <dc:language>en-US</dc:language>
  <cp:lastModifiedBy>ces</cp:lastModifiedBy>
  <cp:lastPrinted>2001-09-27T19:01:18Z</cp:lastPrinted>
  <dcterms:modified xsi:type="dcterms:W3CDTF">2010-03-16T09:00:00Z</dcterms:modified>
  <cp:revision>1327</cp:revision>
  <dc:subject/>
  <dc:title>Historia de América Latina</dc:title>
</cp:coreProperties>
</file>