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3520" y="7351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040" y="4642920"/>
            <a:ext cx="4894200" cy="4395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8692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C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60D854-066E-45A1-AB3E-DB950229F94D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2F8287-3B0D-43DD-B2F8-C31F601100CC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93880" y="7351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87040" y="4642920"/>
            <a:ext cx="489420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142183-364F-4E16-B79E-BA93DBA4BE37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3880" y="7351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87040" y="4642920"/>
            <a:ext cx="489420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DCBAB0-9E3E-4ED5-9F9E-6948060503DE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93880" y="7351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040" y="4642920"/>
            <a:ext cx="489420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AD927A-E6AD-4A37-9DB2-B1B842CBBA0A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360" y="4642920"/>
            <a:ext cx="533556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CA6FDC-67F1-4B33-B1E7-8573BC8B3ED4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2920"/>
            <a:ext cx="533556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F30-FB3B-4B6B-981B-E392878D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873-5186-4C8D-BA1E-24DFE5B6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9CA-5555-40B3-968A-98FCF5DD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16F-0C28-4D28-950A-B36F5421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FA2-8833-4065-A0A9-0308004A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3E3-7A16-4CDE-AA50-007052CB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E2D-A641-42FD-86A1-F43D875A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4A9-4124-46AF-95D5-A6866A6F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157-A3D8-4E5A-96FE-F820937A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128-1F5C-407A-B6DB-709B4A8F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741-5BC4-4AF2-BE14-9A5328A3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1E3-B080-4402-BE10-95D7A06C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6C19-DF8C-459F-83A5-11C7D5D66E16}" type="slidenum">
              <a:rPr b="0" lang="es-C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Aft>
                <a:spcPts val="31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GREAT RECESS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THE DEVELOPING WOR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4648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JOSÉ ANTONIO OCAMPO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LUMBIA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886200" y="4952880"/>
            <a:ext cx="1295280" cy="1800"/>
          </a:xfrm>
          <a:prstGeom prst="rect">
            <a:avLst/>
          </a:prstGeom>
          <a:solidFill>
            <a:srgbClr val="d2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743200" y="44197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ORLD TRADE COLLAPSED, AND HAS NOT FULLY RECOVERED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457200" y="1490760"/>
            <a:ext cx="8153280" cy="521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ORLD TRADE COLLAPSED, AND HAS NOT FULLY RECOVERED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533520" y="150480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TRADE SHOCK HAD DIVERSE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FFECTS ACCORDING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O SPECIALIZATION PATTER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tangle 3" descr=""/>
          <p:cNvPicPr/>
          <p:nvPr/>
        </p:nvPicPr>
        <p:blipFill>
          <a:blip r:embed="rId1"/>
          <a:stretch/>
        </p:blipFill>
        <p:spPr>
          <a:xfrm>
            <a:off x="457200" y="1422360"/>
            <a:ext cx="8229600" cy="543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901"/>
              </a:spcAft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reater policy space thanks to improvements in external balance sheets of countries (except in Central and Eastern Euro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901"/>
              </a:spcAft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is was reflected in reduction in interest rates and reserve requirements, and foreign exchange interven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901"/>
              </a:spcAft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ublic sector banks played a positive role, high dependence on external funding for banks a very negative 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901"/>
              </a:spcAft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fiscal space was also used by many, but not all countries. East Asia and the Gulf were aggressive; South Asia went ahead despite weak fiscal situation; Latin America and Africa are more mixed stor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UNTER-CYCLICAL POLIC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wo types of economies were severely affected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ing expor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ies with weak financial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regions with relatively large poverty levels (South Asia and Sub-Saharan Africa) did relatively well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unter-cyclical policies had stronger effects on large economi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GIONS WITH GOOD OR FAIR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tangle 3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GIONS WITH POOR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228600" y="1989000"/>
            <a:ext cx="8915400" cy="433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ound 80 million additional indigents, relative to a situation of continued growt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does not affect much the MDG target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employment effects have been very diverse, largely concentrated in transition economies and, lo a lesser extent, Latin America. Loss of employment in manufacturing exports was very important worldwid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ormal employment/working poor, and the lack of social protection are more important issues in developing countri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ITH FEW EXCEPTIONS, GAINS IN REDUCING THE WORKING POOR WERE REVER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839080" cy="511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MULTILATERAL RESPON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bias of the G-20 towards funding the IMF, and middle-income countr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reforms of IMF credit lines in March 2009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lateral development banks also responded, but more commitments than disburs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ial support ($50b net) was small relative to the reduction in private flows (-$331b excluding FD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in ODA, from $120 in 2008 to $107 billion in 201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VE PHASES OF THE CRI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 07/Mar 08: Crisis in the market for asset-backed secur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-Sept 14 08: Growing distrust in financial agents after collapse of Bear Stear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 14-March 08: Global financial and economic collap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rters 09: “Green shoot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rter 09: the return of global imbal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veloping countries largely escaped the first two phases, were severely affected by the third, and had diverse outcomes during the fourth and fif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ORLD BANK: LARGE INCREASE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 COMMITMENTS, LIMITED DISBURS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906768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DA F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ainstreaming counter-cyclical polici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ime to look back at the domestic market, even to inward-looking strategies?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ince this has a bias in favor of large countries, a role for regional integration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lacing employment generation at the center of all macro polic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nd creating or improving social protection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HINKING THE PARADIG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GLOBAL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to avert early withdrawal of stimulus, and stable reform of financ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China is going to lead, how is it going to disseminate its growth to other economie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orderly capital flows towards developing countries: the time to go back to capital control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 is going to give confidence that countries running current account deficits would not face problems in the futur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are the benefits from the new world growth pattern to be shared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Aft>
                <a:spcPts val="31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GREAT RECESS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THE DEVELOPING WOR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85800" y="4648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JOSÉ ANTONIO OCAMPO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LUMBIA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886200" y="4952880"/>
            <a:ext cx="1295280" cy="1800"/>
          </a:xfrm>
          <a:prstGeom prst="rect">
            <a:avLst/>
          </a:prstGeom>
          <a:solidFill>
            <a:srgbClr val="d2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743200" y="44197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DUSTRIAL PRODUCTION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685800" y="1306440"/>
            <a:ext cx="8077320" cy="5627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DUSTRIAL PRODUCTION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3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153640" cy="586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WAS THIS NOT A GREAT DEPRESS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ion of the most massive Keynesian package in history, by developed and several developing countries (with great diversity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financial bailouts (helped to avoid further recession, but have not contributed to the recover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ence of an alternative engine: a large economy (China) that the space and willingness to adopt strongly expansionary polic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risks are still present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1874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emittances: affected migrants to the US, Europe and Russia, not the Gulf countries, and mainly small econom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74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Financial conditions generated a sharp but short effect, that affected mainly middle-income count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74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 trade shock (in volume and price terms) has been more severe, and affected all count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TRANSMISION OF THE CRI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NTRIES SEVERELY AFFECTED BY FALL IN REMIT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624560" cy="510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FINANCIAL SHOCK WAS STRONG BUT RELATIVELY SHORT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82880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324080"/>
            <a:ext cx="8305920" cy="561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FINANCIAL SHOCK WAS STRONG BUT RELATIVELY SHORT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82880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1359000"/>
            <a:ext cx="8001000" cy="549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3:58:50Z</dcterms:created>
  <dc:creator>Maria Angela Parra</dc:creator>
  <dc:description/>
  <dc:language>en-US</dc:language>
  <cp:lastModifiedBy>ces</cp:lastModifiedBy>
  <cp:lastPrinted>2001-09-27T19:01:18Z</cp:lastPrinted>
  <dcterms:modified xsi:type="dcterms:W3CDTF">2010-03-16T09:00:00Z</dcterms:modified>
  <cp:revision>1327</cp:revision>
  <dc:subject/>
  <dc:title>Historia de América Latina</dc:title>
</cp:coreProperties>
</file>