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547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1"/>
          </p:nvPr>
        </p:nvSpPr>
        <p:spPr>
          <a:xfrm>
            <a:off x="3817440" y="-360"/>
            <a:ext cx="2917800" cy="547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883800" y="76680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898200" y="4712760"/>
            <a:ext cx="4938840" cy="438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-360" y="9318240"/>
            <a:ext cx="2917800" cy="547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3817440" y="9318240"/>
            <a:ext cx="2917800" cy="547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47D6FD-4B26-498B-AE7E-699FCAA338C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17800" y="9318600"/>
            <a:ext cx="29178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BCF611-14FF-4854-83DE-CE3284DADE3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84160" y="76680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8200" y="4712760"/>
            <a:ext cx="493884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46200" y="3832560"/>
            <a:ext cx="709920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462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840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172728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46800" y="172728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46200" y="383256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83256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46800" y="383256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6200" y="1079640"/>
            <a:ext cx="709920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462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840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46200" y="3832560"/>
            <a:ext cx="709920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546200" y="3832560"/>
            <a:ext cx="709920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5462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840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46680" y="172728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46800" y="172728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546200" y="383256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946680" y="383256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46800" y="383256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46200" y="1079640"/>
            <a:ext cx="709920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462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840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46200" y="3832560"/>
            <a:ext cx="709920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1"/>
          <p:cNvGrpSpPr/>
          <p:nvPr/>
        </p:nvGrpSpPr>
        <p:grpSpPr>
          <a:xfrm>
            <a:off x="0" y="0"/>
            <a:ext cx="9140760" cy="6505560"/>
            <a:chOff x="0" y="0"/>
            <a:chExt cx="9140760" cy="6505560"/>
          </a:xfrm>
        </p:grpSpPr>
        <p:sp>
          <p:nvSpPr>
            <p:cNvPr id="1" name="Rectangle 2"/>
            <p:cNvSpPr/>
            <p:nvPr/>
          </p:nvSpPr>
          <p:spPr>
            <a:xfrm>
              <a:off x="719280" y="719280"/>
              <a:ext cx="8421480" cy="5038560"/>
            </a:xfrm>
            <a:prstGeom prst="rect">
              <a:avLst/>
            </a:prstGeom>
            <a:solidFill>
              <a:srgbClr val="e1e1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6"/>
            <p:cNvGrpSpPr/>
            <p:nvPr/>
          </p:nvGrpSpPr>
          <p:grpSpPr>
            <a:xfrm>
              <a:off x="0" y="0"/>
              <a:ext cx="1440000" cy="1440000"/>
              <a:chOff x="0" y="0"/>
              <a:chExt cx="1440000" cy="144000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0" y="0"/>
                <a:ext cx="1440000" cy="1440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" name="Group 15"/>
              <p:cNvGrpSpPr/>
              <p:nvPr/>
            </p:nvGrpSpPr>
            <p:grpSpPr>
              <a:xfrm>
                <a:off x="0" y="0"/>
                <a:ext cx="360360" cy="360360"/>
                <a:chOff x="0" y="0"/>
                <a:chExt cx="360360" cy="360360"/>
              </a:xfrm>
            </p:grpSpPr>
            <p:sp>
              <p:nvSpPr>
                <p:cNvPr id="5" name="Rectangle 6"/>
                <p:cNvSpPr/>
                <p:nvPr/>
              </p:nvSpPr>
              <p:spPr>
                <a:xfrm>
                  <a:off x="0" y="0"/>
                  <a:ext cx="360360" cy="360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Rectangle 7"/>
                <p:cNvSpPr/>
                <p:nvPr/>
              </p:nvSpPr>
              <p:spPr>
                <a:xfrm>
                  <a:off x="233280" y="233280"/>
                  <a:ext cx="125640" cy="12564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" name="Rectangle 9"/>
            <p:cNvSpPr/>
            <p:nvPr/>
          </p:nvSpPr>
          <p:spPr>
            <a:xfrm>
              <a:off x="719280" y="719280"/>
              <a:ext cx="718920" cy="718920"/>
            </a:xfrm>
            <a:prstGeom prst="rect">
              <a:avLst/>
            </a:prstGeom>
            <a:solidFill>
              <a:srgbClr val="ff5f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" name="Picture 28" descr="ADA Zusatz 4c_e"/>
            <p:cNvPicPr/>
            <p:nvPr/>
          </p:nvPicPr>
          <p:blipFill>
            <a:blip r:embed="rId2"/>
            <a:stretch/>
          </p:blipFill>
          <p:spPr>
            <a:xfrm>
              <a:off x="6858000" y="5943600"/>
              <a:ext cx="175572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30" descr="puzzle_www"/>
            <p:cNvPicPr/>
            <p:nvPr/>
          </p:nvPicPr>
          <p:blipFill>
            <a:blip r:embed="rId3"/>
            <a:stretch/>
          </p:blipFill>
          <p:spPr>
            <a:xfrm>
              <a:off x="719280" y="6045120"/>
              <a:ext cx="121284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55"/>
          <p:cNvGrpSpPr/>
          <p:nvPr/>
        </p:nvGrpSpPr>
        <p:grpSpPr>
          <a:xfrm>
            <a:off x="0" y="0"/>
            <a:ext cx="9144000" cy="6324480"/>
            <a:chOff x="0" y="0"/>
            <a:chExt cx="9144000" cy="6324480"/>
          </a:xfrm>
        </p:grpSpPr>
        <p:pic>
          <p:nvPicPr>
            <p:cNvPr id="49" name="Picture 1033" descr="_x0012_ada powerpoint.jpg                                             00081AA4&#10;G4 Claudia                     ABA78158:"/>
            <p:cNvPicPr/>
            <p:nvPr/>
          </p:nvPicPr>
          <p:blipFill>
            <a:blip r:embed="rId2"/>
            <a:stretch/>
          </p:blipFill>
          <p:spPr>
            <a:xfrm>
              <a:off x="1006560" y="1006560"/>
              <a:ext cx="8137440" cy="2014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Group 1045"/>
            <p:cNvGrpSpPr/>
            <p:nvPr/>
          </p:nvGrpSpPr>
          <p:grpSpPr>
            <a:xfrm>
              <a:off x="0" y="0"/>
              <a:ext cx="2017800" cy="2017800"/>
              <a:chOff x="0" y="0"/>
              <a:chExt cx="2017800" cy="2017800"/>
            </a:xfrm>
          </p:grpSpPr>
          <p:grpSp>
            <p:nvGrpSpPr>
              <p:cNvPr id="51" name="Group 1041"/>
              <p:cNvGrpSpPr/>
              <p:nvPr/>
            </p:nvGrpSpPr>
            <p:grpSpPr>
              <a:xfrm>
                <a:off x="0" y="0"/>
                <a:ext cx="2016000" cy="2016000"/>
                <a:chOff x="0" y="0"/>
                <a:chExt cx="2016000" cy="2016000"/>
              </a:xfrm>
            </p:grpSpPr>
            <p:sp>
              <p:nvSpPr>
                <p:cNvPr id="52" name="Rectangle 1026"/>
                <p:cNvSpPr/>
                <p:nvPr/>
              </p:nvSpPr>
              <p:spPr>
                <a:xfrm>
                  <a:off x="0" y="0"/>
                  <a:ext cx="2016000" cy="201600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" name="Group 1040"/>
                <p:cNvGrpSpPr/>
                <p:nvPr/>
              </p:nvGrpSpPr>
              <p:grpSpPr>
                <a:xfrm>
                  <a:off x="0" y="0"/>
                  <a:ext cx="360360" cy="360360"/>
                  <a:chOff x="0" y="0"/>
                  <a:chExt cx="360360" cy="360360"/>
                </a:xfrm>
              </p:grpSpPr>
              <p:sp>
                <p:nvSpPr>
                  <p:cNvPr id="54" name="Rectangle 1029"/>
                  <p:cNvSpPr/>
                  <p:nvPr/>
                </p:nvSpPr>
                <p:spPr>
                  <a:xfrm>
                    <a:off x="0" y="0"/>
                    <a:ext cx="360360" cy="3603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Rectangle 1030"/>
                  <p:cNvSpPr/>
                  <p:nvPr/>
                </p:nvSpPr>
                <p:spPr>
                  <a:xfrm>
                    <a:off x="233280" y="233280"/>
                    <a:ext cx="125640" cy="125640"/>
                  </a:xfrm>
                  <a:prstGeom prst="rect">
                    <a:avLst/>
                  </a:prstGeom>
                  <a:solidFill>
                    <a:srgbClr val="dddddd"/>
                  </a:soli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56" name="Picture 1034" descr="_x0016_ada powerpoint rot.jpg                                         00081AA4&#10;G4 Claudia                     ABA78158:"/>
              <p:cNvPicPr/>
              <p:nvPr/>
            </p:nvPicPr>
            <p:blipFill>
              <a:blip r:embed="rId3"/>
              <a:srcRect l="0" t="0" r="87502" b="50044"/>
              <a:stretch/>
            </p:blipFill>
            <p:spPr>
              <a:xfrm>
                <a:off x="1006560" y="1006560"/>
                <a:ext cx="1011240" cy="101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Group 1054"/>
            <p:cNvGrpSpPr/>
            <p:nvPr/>
          </p:nvGrpSpPr>
          <p:grpSpPr>
            <a:xfrm>
              <a:off x="990720" y="5524560"/>
              <a:ext cx="7667640" cy="799920"/>
              <a:chOff x="990720" y="5524560"/>
              <a:chExt cx="7667640" cy="799920"/>
            </a:xfrm>
          </p:grpSpPr>
          <p:pic>
            <p:nvPicPr>
              <p:cNvPr id="58" name="Picture 1047" descr="ADA Zusatz 4c_e"/>
              <p:cNvPicPr/>
              <p:nvPr/>
            </p:nvPicPr>
            <p:blipFill>
              <a:blip r:embed="rId4"/>
              <a:stretch/>
            </p:blipFill>
            <p:spPr>
              <a:xfrm>
                <a:off x="6156360" y="5524560"/>
                <a:ext cx="2502000" cy="79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1052" descr="puzzle_www"/>
              <p:cNvPicPr/>
              <p:nvPr/>
            </p:nvPicPr>
            <p:blipFill>
              <a:blip r:embed="rId5"/>
              <a:stretch/>
            </p:blipFill>
            <p:spPr>
              <a:xfrm>
                <a:off x="990720" y="5884920"/>
                <a:ext cx="1234800" cy="439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0200" y="3435120"/>
            <a:ext cx="442116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Framework Programmes</a:t>
            </a: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0560" y="4497120"/>
            <a:ext cx="4063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Comparative</a:t>
            </a:r>
            <a:r>
              <a:rPr b="1" i="1" lang="de-DE" sz="1800" spc="-1" strike="noStrike">
                <a:solidFill>
                  <a:srgbClr val="808080"/>
                </a:solidFill>
                <a:latin typeface="Arial"/>
                <a:ea typeface="Arial"/>
              </a:rPr>
              <a:t>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08080"/>
                </a:solidFill>
                <a:latin typeface="Arial Narrow"/>
              </a:rPr>
              <a:t>Rationale 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t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-financing instrument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r revision of funding instruments by 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C-Peer Review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DAC encourages Austria to move away from multi-project funding towards multi-annual results-oriented programme funding for NGOs as development partners. Austria could learn from the experience of other DAC members which provide such funding.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aly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lgium, Ireland, Netherlands, Norway, Swed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witzerland, UK, Aust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Narrow"/>
              </a:rPr>
              <a:t>Results I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amme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oad defini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‚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tegic programmatic support 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-annual basi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restricted funding (UK) – concrete programme (SE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of initiative; however required linkages to donor‘s t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geographic focus (IE, NL, B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higher % of funding (N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 framework as basis, focus on programme leve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ous frameworks formats used by don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Narrow"/>
              </a:rPr>
              <a:t>Results II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Program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agement &amp;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ous systems for verification of result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 focu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: organisational level – programme specific au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alogue with framework partners (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0">
              <a:lnSpc>
                <a:spcPct val="12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Narrow"/>
              </a:rPr>
              <a:t>Results III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igi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onal organisations; programme capacity; long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K also I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0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: also umbrella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GO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ding funding to own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0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L consortia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0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uilding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support in Euro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SE, U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 of NG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2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5 (I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up to 58 (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Narrow"/>
              </a:rPr>
              <a:t>Results IV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amme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€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Mio/ye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ck of transparent criteria for allo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ant ceiling only in NL, A – question of dependency on do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nding, up to 9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% of NG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financing: 10% - 30% NGO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0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% in UK, N (in case of focus on priority se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0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% 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nding modalities: framework agreement main instrumen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onal NGOs; additional grants for small NGOs; t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ing country programmes; CSO support in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Narrow"/>
              </a:rPr>
              <a:t>Austria: future exchange with agencies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est in exchang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ght of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 framework &amp; measuring resul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iteria for allocation of fu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of modalities for CSO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then framework program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6:32:11Z</dcterms:created>
  <dc:creator>Johanna Mang</dc:creator>
  <dc:description/>
  <dc:language>en-US</dc:language>
  <cp:lastModifiedBy>Camilla Lindstrom</cp:lastModifiedBy>
  <cp:lastPrinted>2006-02-23T12:10:39Z</cp:lastPrinted>
  <dcterms:modified xsi:type="dcterms:W3CDTF">2010-04-08T07:08:56Z</dcterms:modified>
  <cp:revision>11</cp:revision>
  <dc:subject/>
  <dc:title>Framework Programms</dc:title>
</cp:coreProperties>
</file>