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799638" cy="1435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143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1560" y="-36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lstStyle>
            <a:lvl1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12920" y="1076040"/>
            <a:ext cx="7175520" cy="538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9200" y="6816600"/>
            <a:ext cx="7840440" cy="645984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140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1560" y="1363140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b">
            <a:noAutofit/>
          </a:bodyPr>
          <a:lstStyle>
            <a:lvl1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fld id="{60F5A7F7-9AAF-467F-B42B-732A0D40E9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12920" y="1076400"/>
            <a:ext cx="7175520" cy="538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9200" y="6816600"/>
            <a:ext cx="7840440" cy="64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51560" y="13631760"/>
            <a:ext cx="4246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880" rIns="137880" tIns="69120" bIns="69120" anchor="b">
            <a:noAutofit/>
          </a:bodyPr>
          <a:p>
            <a:pPr algn="r"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fld id="{0F26ADB0-39CF-4470-AF0A-ABE5E28539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5D8-CA6D-4FB5-80B6-6FCBAE46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21A-91D5-4EBE-A00B-CDB96C5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98B-5430-469F-B7D8-FE65D6A8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62D-5637-4F4D-AB92-B2A8D668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7D6-E30A-4FBC-93EB-08259B5D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71B-C2CC-4712-BD49-8021BF7D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BCD-57DD-42C4-B55D-DA5BD8E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5B8-5823-4077-87A4-5AC80762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EB4-525F-4E32-B692-8A4ADE1C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17D-06EA-43F0-B288-A5E02DF9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3D6-9738-4431-82F5-F92515B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4FE-1D48-4D2F-86B8-CDFE1947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521-7AFA-413A-9D9F-85CA4F0B45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390600" y="236520"/>
            <a:ext cx="1852560" cy="5734080"/>
          </a:xfrm>
          <a:custGeom>
            <a:avLst/>
            <a:gdLst>
              <a:gd name="textAreaLeft" fmla="*/ 41400 w 1852560"/>
              <a:gd name="textAreaRight" fmla="*/ 1811160 w 1852560"/>
              <a:gd name="textAreaTop" fmla="*/ 41400 h 5734080"/>
              <a:gd name="textAreaBottom" fmla="*/ 5692680 h 5734080"/>
            </a:gdLst>
            <a:ahLst/>
            <a:rect l="textAreaLeft" t="textAreaTop" r="textAreaRight" b="textAreaBottom"/>
            <a:pathLst>
              <a:path w="21600" h="66848">
                <a:moveTo>
                  <a:pt x="1652" y="0"/>
                </a:moveTo>
                <a:arcTo wR="1652" hR="1652" stAng="16200000" swAng="-5400000"/>
                <a:lnTo>
                  <a:pt x="0" y="65196"/>
                </a:lnTo>
                <a:arcTo wR="1652" hR="1652" stAng="10800000" swAng="-5400000"/>
                <a:lnTo>
                  <a:pt x="19948" y="66848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5"/>
          <p:cNvSpPr/>
          <p:nvPr/>
        </p:nvSpPr>
        <p:spPr>
          <a:xfrm>
            <a:off x="6778800" y="5213520"/>
            <a:ext cx="1709640" cy="399960"/>
          </a:xfrm>
          <a:prstGeom prst="roundRect">
            <a:avLst>
              <a:gd name="adj" fmla="val 31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54"/>
          <p:cNvSpPr/>
          <p:nvPr/>
        </p:nvSpPr>
        <p:spPr>
          <a:xfrm>
            <a:off x="8659800" y="1096920"/>
            <a:ext cx="425520" cy="3971880"/>
          </a:xfrm>
          <a:custGeom>
            <a:avLst/>
            <a:gdLst>
              <a:gd name="textAreaLeft" fmla="*/ 9360 w 425520"/>
              <a:gd name="textAreaRight" fmla="*/ 416160 w 425520"/>
              <a:gd name="textAreaTop" fmla="*/ 9360 h 3971880"/>
              <a:gd name="textAreaBottom" fmla="*/ 3962520 h 3971880"/>
            </a:gdLst>
            <a:ahLst/>
            <a:rect l="textAreaLeft" t="textAreaTop" r="textAreaRight" b="textAreaBottom"/>
            <a:pathLst>
              <a:path w="21600" h="201466">
                <a:moveTo>
                  <a:pt x="1652" y="0"/>
                </a:moveTo>
                <a:arcTo wR="1652" hR="1652" stAng="16200000" swAng="-5400000"/>
                <a:lnTo>
                  <a:pt x="0" y="199814"/>
                </a:lnTo>
                <a:arcTo wR="1652" hR="1652" stAng="10800000" swAng="-5400000"/>
                <a:lnTo>
                  <a:pt x="19948" y="201466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4"/>
          <p:cNvSpPr/>
          <p:nvPr/>
        </p:nvSpPr>
        <p:spPr>
          <a:xfrm>
            <a:off x="7931160" y="5985000"/>
            <a:ext cx="108576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4"/>
          <p:cNvSpPr/>
          <p:nvPr/>
        </p:nvSpPr>
        <p:spPr>
          <a:xfrm>
            <a:off x="6165720" y="5857920"/>
            <a:ext cx="1606680" cy="91764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4"/>
          <p:cNvSpPr/>
          <p:nvPr/>
        </p:nvSpPr>
        <p:spPr>
          <a:xfrm>
            <a:off x="3981600" y="5985000"/>
            <a:ext cx="194940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5"/>
          <p:cNvSpPr/>
          <p:nvPr/>
        </p:nvSpPr>
        <p:spPr>
          <a:xfrm>
            <a:off x="6778800" y="2013120"/>
            <a:ext cx="1709640" cy="2531880"/>
          </a:xfrm>
          <a:custGeom>
            <a:avLst/>
            <a:gdLst>
              <a:gd name="textAreaLeft" fmla="*/ 15840 w 1709640"/>
              <a:gd name="textAreaRight" fmla="*/ 1693800 w 1709640"/>
              <a:gd name="textAreaTop" fmla="*/ 15840 h 2531880"/>
              <a:gd name="textAreaBottom" fmla="*/ 2516040 h 2531880"/>
            </a:gdLst>
            <a:ahLst/>
            <a:rect l="textAreaLeft" t="textAreaTop" r="textAreaRight" b="textAreaBottom"/>
            <a:pathLst>
              <a:path w="21600" h="31986">
                <a:moveTo>
                  <a:pt x="689" y="0"/>
                </a:moveTo>
                <a:arcTo wR="689" hR="689" stAng="16200000" swAng="-5400000"/>
                <a:lnTo>
                  <a:pt x="0" y="31297"/>
                </a:lnTo>
                <a:arcTo wR="689" hR="689" stAng="10800000" swAng="-5400000"/>
                <a:lnTo>
                  <a:pt x="20911" y="31986"/>
                </a:lnTo>
                <a:arcTo wR="689" hR="689" stAng="5400000" swAng="-5400000"/>
                <a:lnTo>
                  <a:pt x="21600" y="689"/>
                </a:lnTo>
                <a:arcTo wR="689" hR="68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4920" y="6161040"/>
            <a:ext cx="1685880" cy="40176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3478320" y="5029200"/>
            <a:ext cx="1438200" cy="838080"/>
          </a:xfrm>
          <a:prstGeom prst="roundRect">
            <a:avLst>
              <a:gd name="adj" fmla="val 7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3"/>
          <p:cNvSpPr/>
          <p:nvPr/>
        </p:nvSpPr>
        <p:spPr>
          <a:xfrm>
            <a:off x="6759720" y="3252960"/>
            <a:ext cx="176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uly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ECD-DAC Working Party on Aid Effectiveness, Par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4"/>
          <p:cNvSpPr/>
          <p:nvPr/>
        </p:nvSpPr>
        <p:spPr>
          <a:xfrm>
            <a:off x="6759720" y="281160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une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Joint  Global Assembly of Open Forum and Better Aid Platform to prepare for HLF4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9"/>
          <p:cNvSpPr/>
          <p:nvPr/>
        </p:nvSpPr>
        <p:spPr>
          <a:xfrm>
            <a:off x="5095800" y="992160"/>
            <a:ext cx="1440000" cy="1197000"/>
          </a:xfrm>
          <a:prstGeom prst="roundRect">
            <a:avLst>
              <a:gd name="adj" fmla="val 76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4"/>
          <p:cNvSpPr/>
          <p:nvPr/>
        </p:nvSpPr>
        <p:spPr>
          <a:xfrm>
            <a:off x="27000" y="952560"/>
            <a:ext cx="189000" cy="4354560"/>
          </a:xfrm>
          <a:custGeom>
            <a:avLst/>
            <a:gdLst>
              <a:gd name="textAreaLeft" fmla="*/ 3960 w 189000"/>
              <a:gd name="textAreaRight" fmla="*/ 185040 w 189000"/>
              <a:gd name="textAreaTop" fmla="*/ 3960 h 4354560"/>
              <a:gd name="textAreaBottom" fmla="*/ 4350600 h 4354560"/>
            </a:gdLst>
            <a:ahLst/>
            <a:rect l="textAreaLeft" t="textAreaTop" r="textAreaRight" b="textAreaBottom"/>
            <a:pathLst>
              <a:path w="21600" h="496759">
                <a:moveTo>
                  <a:pt x="1652" y="0"/>
                </a:moveTo>
                <a:arcTo wR="1652" hR="1652" stAng="16200000" swAng="-5400000"/>
                <a:lnTo>
                  <a:pt x="0" y="495107"/>
                </a:lnTo>
                <a:arcTo wR="1652" hR="1652" stAng="10800000" swAng="-5400000"/>
                <a:lnTo>
                  <a:pt x="19948" y="496759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16200000">
            <a:off x="-2075400" y="3054960"/>
            <a:ext cx="436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rch 2005: Governments and  donors adopt the Paris Declaration on Aid Effective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2376360" y="3051000"/>
            <a:ext cx="1711440" cy="1352880"/>
          </a:xfrm>
          <a:prstGeom prst="roundRect">
            <a:avLst>
              <a:gd name="adj" fmla="val 7648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482920" y="3094200"/>
            <a:ext cx="15937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End of 2009: Pooled fund set up by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ustrian Development Agen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K Department of Int.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wedish Int. Dev. Cooperation Agen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Finl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wiss Agency for Dev. &amp; Coope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Denmar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gence Francaise de D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évelopp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Netherlan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naged by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anada, Sweden, Austria, </a:t>
            </a:r>
            <a:br>
              <a:rPr sz="600"/>
            </a:b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pen Forum, Better A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478320" y="453960"/>
            <a:ext cx="1438200" cy="2328840"/>
          </a:xfrm>
          <a:custGeom>
            <a:avLst/>
            <a:gdLst>
              <a:gd name="textAreaLeft" fmla="*/ 32040 w 1438200"/>
              <a:gd name="textAreaRight" fmla="*/ 1406160 w 1438200"/>
              <a:gd name="textAreaTop" fmla="*/ 32040 h 2328840"/>
              <a:gd name="textAreaBottom" fmla="*/ 2296800 h 2328840"/>
            </a:gdLst>
            <a:ahLst/>
            <a:rect l="textAreaLeft" t="textAreaTop" r="textAreaRight" b="textAreaBottom"/>
            <a:pathLst>
              <a:path w="21600" h="34973">
                <a:moveTo>
                  <a:pt x="1652" y="0"/>
                </a:moveTo>
                <a:arcTo wR="1652" hR="1652" stAng="16200000" swAng="-5400000"/>
                <a:lnTo>
                  <a:pt x="0" y="33321"/>
                </a:lnTo>
                <a:arcTo wR="1652" hR="1652" stAng="10800000" swAng="-5400000"/>
                <a:lnTo>
                  <a:pt x="19948" y="34973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1"/>
          <p:cNvSpPr/>
          <p:nvPr/>
        </p:nvSpPr>
        <p:spPr>
          <a:xfrm>
            <a:off x="3521160" y="488880"/>
            <a:ext cx="1353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0000"/>
                </a:solidFill>
                <a:latin typeface="Arial"/>
              </a:rPr>
              <a:t>Open Forum on CSO Development Effectiven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2"/>
          <p:cNvSpPr/>
          <p:nvPr/>
        </p:nvSpPr>
        <p:spPr>
          <a:xfrm>
            <a:off x="3525840" y="5056200"/>
            <a:ext cx="1351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0000"/>
                </a:solidFill>
                <a:latin typeface="Arial"/>
              </a:rPr>
              <a:t>Better Aid Platfor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3"/>
          <p:cNvSpPr/>
          <p:nvPr/>
        </p:nvSpPr>
        <p:spPr>
          <a:xfrm>
            <a:off x="3521160" y="725400"/>
            <a:ext cx="13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Global Facilitation Grou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nsort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ecretariat hosted by CONCOR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untry consultations and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4"/>
          <p:cNvSpPr/>
          <p:nvPr/>
        </p:nvSpPr>
        <p:spPr>
          <a:xfrm>
            <a:off x="3516480" y="5167440"/>
            <a:ext cx="136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etter Aid Coordinating Group (BAC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ACG Membership in OECD-DAC WP-EF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Reality of Aid country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5319720" y="1047600"/>
            <a:ext cx="95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utcomes of the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5141880" y="1190520"/>
            <a:ext cx="136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ramework on CSO practices to implement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Guidelines and Indicators for CSO practices to implement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mum standards for Governments and donors to enable CSOs to implement the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5"/>
          <p:cNvSpPr/>
          <p:nvPr/>
        </p:nvSpPr>
        <p:spPr>
          <a:xfrm>
            <a:off x="5095800" y="3368520"/>
            <a:ext cx="1440000" cy="2417760"/>
          </a:xfrm>
          <a:custGeom>
            <a:avLst/>
            <a:gdLst>
              <a:gd name="textAreaLeft" fmla="*/ 32040 w 1440000"/>
              <a:gd name="textAreaRight" fmla="*/ 1407960 w 1440000"/>
              <a:gd name="textAreaTop" fmla="*/ 32040 h 2417760"/>
              <a:gd name="textAreaBottom" fmla="*/ 2385720 h 2417760"/>
            </a:gdLst>
            <a:ahLst/>
            <a:rect l="textAreaLeft" t="textAreaTop" r="textAreaRight" b="textAreaBottom"/>
            <a:pathLst>
              <a:path w="21600" h="36263">
                <a:moveTo>
                  <a:pt x="1652" y="0"/>
                </a:moveTo>
                <a:arcTo wR="1652" hR="1652" stAng="16200000" swAng="-5400000"/>
                <a:lnTo>
                  <a:pt x="0" y="34611"/>
                </a:lnTo>
                <a:arcTo wR="1652" hR="1652" stAng="10800000" swAng="-5400000"/>
                <a:lnTo>
                  <a:pt x="19948" y="36263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5160960" y="3670200"/>
            <a:ext cx="13017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ddressing the implementation of the Paris Declaration and the AAA, including  Article 20 relating to CSOs and an enabling environment from dono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ve the framework from “aid effectiveness” to “development effectiveness”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nitor implementation at country level through multi-stakeholder dialogues and CSO assessment of 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Proposals for reform of the aid architecture for international cooperation and the future of the OECD-DAC WP-EFF and the UN within that archite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9"/>
          <p:cNvSpPr/>
          <p:nvPr/>
        </p:nvSpPr>
        <p:spPr>
          <a:xfrm>
            <a:off x="6351480" y="182556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70"/>
          <p:cNvCxnSpPr>
            <a:stCxn id="56" idx="3"/>
            <a:endCxn id="75" idx="1"/>
          </p:cNvCxnSpPr>
          <p:nvPr/>
        </p:nvCxnSpPr>
        <p:spPr>
          <a:xfrm>
            <a:off x="4916520" y="5448240"/>
            <a:ext cx="17964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71"/>
          <p:cNvCxnSpPr>
            <a:stCxn id="59" idx="3"/>
            <a:endCxn id="54" idx="1"/>
          </p:cNvCxnSpPr>
          <p:nvPr/>
        </p:nvCxnSpPr>
        <p:spPr>
          <a:xfrm>
            <a:off x="6535800" y="1590480"/>
            <a:ext cx="243360" cy="1688760"/>
          </a:xfrm>
          <a:prstGeom prst="bentConnector5">
            <a:avLst>
              <a:gd name="adj1" fmla="val 95407"/>
              <a:gd name="adj2" fmla="val -49168"/>
              <a:gd name="adj3" fmla="val -68785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 Box 74"/>
          <p:cNvSpPr/>
          <p:nvPr/>
        </p:nvSpPr>
        <p:spPr>
          <a:xfrm>
            <a:off x="6759720" y="2462040"/>
            <a:ext cx="1790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rch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Joint GFG and BACG Meeting, Swed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6"/>
          <p:cNvSpPr/>
          <p:nvPr/>
        </p:nvSpPr>
        <p:spPr>
          <a:xfrm>
            <a:off x="6759720" y="360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Sep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IVICUS World Assembly on Development Effectiveness, Montreal. Opportunity for Open Forum and Better Aid Platform to consolidate messages for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2"/>
          <p:cNvSpPr/>
          <p:nvPr/>
        </p:nvSpPr>
        <p:spPr>
          <a:xfrm>
            <a:off x="6759720" y="413712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pen Forum and Better Aid Platform will organise independent and joint activities at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4"/>
          <p:cNvSpPr/>
          <p:nvPr/>
        </p:nvSpPr>
        <p:spPr>
          <a:xfrm>
            <a:off x="6840360" y="528336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etter Aid Platform will organise a CSO Parallel Forum in Busan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0"/>
          <p:cNvSpPr/>
          <p:nvPr/>
        </p:nvSpPr>
        <p:spPr>
          <a:xfrm rot="16200000">
            <a:off x="6989760" y="2838240"/>
            <a:ext cx="385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High Level Forum,  Busan, South Korea </a:t>
            </a:r>
            <a:br>
              <a:rPr sz="800"/>
            </a:b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olitical debates / Interactive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2"/>
          <p:cNvSpPr/>
          <p:nvPr/>
        </p:nvSpPr>
        <p:spPr>
          <a:xfrm>
            <a:off x="8010360" y="6053040"/>
            <a:ext cx="974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luster A contributions for the preparation of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Roundtable at HLF4 on CSOs and development effectiveness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4"/>
          <p:cNvSpPr/>
          <p:nvPr/>
        </p:nvSpPr>
        <p:spPr>
          <a:xfrm>
            <a:off x="757548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7"/>
          <p:cNvSpPr/>
          <p:nvPr/>
        </p:nvSpPr>
        <p:spPr>
          <a:xfrm>
            <a:off x="615312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3"/>
          <p:cNvSpPr/>
          <p:nvPr/>
        </p:nvSpPr>
        <p:spPr>
          <a:xfrm>
            <a:off x="6210360" y="5913360"/>
            <a:ext cx="1511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nitor the implementation of CSO related commitments in the AA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acilitate multi-stakeholder engagement with the Open Forum and the Better Aid  Platform country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acilitate dialogue on 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45"/>
          <p:cNvCxnSpPr>
            <a:stCxn id="83" idx="3"/>
            <a:endCxn id="87" idx="1"/>
          </p:cNvCxnSpPr>
          <p:nvPr/>
        </p:nvCxnSpPr>
        <p:spPr>
          <a:xfrm>
            <a:off x="7759800" y="6361560"/>
            <a:ext cx="18756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Text Box 146"/>
          <p:cNvSpPr/>
          <p:nvPr/>
        </p:nvSpPr>
        <p:spPr>
          <a:xfrm>
            <a:off x="794700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8"/>
          <p:cNvCxnSpPr>
            <a:stCxn id="89" idx="3"/>
            <a:endCxn id="84" idx="1"/>
          </p:cNvCxnSpPr>
          <p:nvPr/>
        </p:nvCxnSpPr>
        <p:spPr>
          <a:xfrm>
            <a:off x="5931000" y="6361560"/>
            <a:ext cx="2224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149"/>
          <p:cNvSpPr/>
          <p:nvPr/>
        </p:nvSpPr>
        <p:spPr>
          <a:xfrm>
            <a:off x="574668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0"/>
          <p:cNvSpPr/>
          <p:nvPr/>
        </p:nvSpPr>
        <p:spPr>
          <a:xfrm>
            <a:off x="4068720" y="6027840"/>
            <a:ext cx="177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ulti-stakeholder Task Team on CSO development effectiveness and the 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1"/>
          <p:cNvSpPr/>
          <p:nvPr/>
        </p:nvSpPr>
        <p:spPr>
          <a:xfrm>
            <a:off x="4068720" y="6332400"/>
            <a:ext cx="177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embers of the  Task Team are Better Aid, Open Forum, Donors and Developing Country Govern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4"/>
          <p:cNvSpPr/>
          <p:nvPr/>
        </p:nvSpPr>
        <p:spPr>
          <a:xfrm>
            <a:off x="2025720" y="5985000"/>
            <a:ext cx="162540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5"/>
          <p:cNvSpPr/>
          <p:nvPr/>
        </p:nvSpPr>
        <p:spPr>
          <a:xfrm>
            <a:off x="3981600" y="626904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156"/>
          <p:cNvCxnSpPr>
            <a:stCxn id="95" idx="3"/>
            <a:endCxn id="93" idx="1"/>
          </p:cNvCxnSpPr>
          <p:nvPr/>
        </p:nvCxnSpPr>
        <p:spPr>
          <a:xfrm>
            <a:off x="3651120" y="6361560"/>
            <a:ext cx="33084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Text Box 157"/>
          <p:cNvSpPr/>
          <p:nvPr/>
        </p:nvSpPr>
        <p:spPr>
          <a:xfrm>
            <a:off x="3467160" y="626904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2"/>
          <p:cNvSpPr/>
          <p:nvPr/>
        </p:nvSpPr>
        <p:spPr>
          <a:xfrm>
            <a:off x="2068560" y="6045120"/>
            <a:ext cx="14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Cluster 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wnership and  Mutual Accountability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4"/>
          <p:cNvSpPr/>
          <p:nvPr/>
        </p:nvSpPr>
        <p:spPr>
          <a:xfrm>
            <a:off x="2068560" y="6334200"/>
            <a:ext cx="14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Work Stre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SO development effectiveness and th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5"/>
          <p:cNvSpPr/>
          <p:nvPr/>
        </p:nvSpPr>
        <p:spPr>
          <a:xfrm>
            <a:off x="6759720" y="2057400"/>
            <a:ext cx="17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oint participation and activities of the Open Forum and Better Aid Platform leading up to Bus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0"/>
          <p:cNvGrpSpPr/>
          <p:nvPr/>
        </p:nvGrpSpPr>
        <p:grpSpPr>
          <a:xfrm>
            <a:off x="447840" y="3498840"/>
            <a:ext cx="1687320" cy="690480"/>
            <a:chOff x="447840" y="3498840"/>
            <a:chExt cx="1687320" cy="690480"/>
          </a:xfrm>
        </p:grpSpPr>
        <p:sp>
          <p:nvSpPr>
            <p:cNvPr id="100" name="AutoShape 5"/>
            <p:cNvSpPr/>
            <p:nvPr/>
          </p:nvSpPr>
          <p:spPr>
            <a:xfrm>
              <a:off x="447840" y="3498840"/>
              <a:ext cx="1685880" cy="69048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9"/>
            <p:cNvSpPr/>
            <p:nvPr/>
          </p:nvSpPr>
          <p:spPr>
            <a:xfrm>
              <a:off x="482760" y="3530520"/>
              <a:ext cx="1652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ptember 2008: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Accra Agenda for Action, official donors and governments "welcome CSOs’ proposal to engage with them in a CSO-led multi-stakeholder process to promote CSO development effectiveness“. 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Advisory Group on Civil Society and Aid Effectiveness ceases to exist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50"/>
          <p:cNvSpPr/>
          <p:nvPr/>
        </p:nvSpPr>
        <p:spPr>
          <a:xfrm>
            <a:off x="2270160" y="115920"/>
            <a:ext cx="658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admap to 4</a:t>
            </a: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High Level Forum, Busan, South Korea, November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09"/>
          <p:cNvGrpSpPr/>
          <p:nvPr/>
        </p:nvGrpSpPr>
        <p:grpSpPr>
          <a:xfrm>
            <a:off x="447840" y="339840"/>
            <a:ext cx="1685880" cy="942840"/>
            <a:chOff x="447840" y="339840"/>
            <a:chExt cx="1685880" cy="942840"/>
          </a:xfrm>
        </p:grpSpPr>
        <p:sp>
          <p:nvSpPr>
            <p:cNvPr id="104" name="AutoShape 5"/>
            <p:cNvSpPr/>
            <p:nvPr/>
          </p:nvSpPr>
          <p:spPr>
            <a:xfrm>
              <a:off x="447840" y="339840"/>
              <a:ext cx="1685880" cy="94284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482760" y="355680"/>
              <a:ext cx="1638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January 2007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 The Advisory Group on Civil Society and Aid Effectiveness is established by the Organisation for Economic Cooperation and Development-Development Assistance Committee (OECD-DAC). CSOs are invited to contribute to the OECD-led process on aid effectiveness through a series of regional and international consultations. The Better Aid Platform is set up to engage in a meaningful way with this proc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01"/>
          <p:cNvGrpSpPr/>
          <p:nvPr/>
        </p:nvGrpSpPr>
        <p:grpSpPr>
          <a:xfrm>
            <a:off x="447840" y="1398600"/>
            <a:ext cx="1692000" cy="966600"/>
            <a:chOff x="447840" y="1398600"/>
            <a:chExt cx="1692000" cy="966600"/>
          </a:xfrm>
        </p:grpSpPr>
        <p:sp>
          <p:nvSpPr>
            <p:cNvPr id="107" name="AutoShape 5"/>
            <p:cNvSpPr/>
            <p:nvPr/>
          </p:nvSpPr>
          <p:spPr>
            <a:xfrm>
              <a:off x="447840" y="1398600"/>
              <a:ext cx="1685880" cy="96660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82760" y="1427040"/>
              <a:ext cx="16570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February 2008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 The final consultation of the Advisory Group takes place in Gatineau/ Ottawa. One key outcome of the consultation was CSOs did not consider the Paris Declaration applicable to them, but welcomed the intention of its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signatories to improve the technical and management dimensions of CSO effectiveness. During informal talks, CSO representatives resolved to start their own process to establish a global CSO-suitable effectiveness framewor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00"/>
          <p:cNvGrpSpPr/>
          <p:nvPr/>
        </p:nvGrpSpPr>
        <p:grpSpPr>
          <a:xfrm>
            <a:off x="447840" y="2481120"/>
            <a:ext cx="1687320" cy="901440"/>
            <a:chOff x="447840" y="2481120"/>
            <a:chExt cx="1687320" cy="901440"/>
          </a:xfrm>
        </p:grpSpPr>
        <p:sp>
          <p:nvSpPr>
            <p:cNvPr id="110" name="AutoShape 5"/>
            <p:cNvSpPr/>
            <p:nvPr/>
          </p:nvSpPr>
          <p:spPr>
            <a:xfrm>
              <a:off x="447840" y="2481120"/>
              <a:ext cx="1685880" cy="90144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39"/>
            <p:cNvSpPr/>
            <p:nvPr/>
          </p:nvSpPr>
          <p:spPr>
            <a:xfrm>
              <a:off x="482760" y="2509560"/>
              <a:ext cx="1652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une 2008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ver 70 CSO representatives gather in Paris for the Exploratory Meeting on CSO Effectiveness to discuss how to tak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ward the global process on agreeing a CSO-suitable effectiveness framework . They decided that it should take the shape of an open forum, accessible to all interested CSOs - the concept for the Open Forum for CSO Development Effectiveness is bo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98"/>
          <p:cNvGrpSpPr/>
          <p:nvPr/>
        </p:nvGrpSpPr>
        <p:grpSpPr>
          <a:xfrm>
            <a:off x="447840" y="4305240"/>
            <a:ext cx="1687320" cy="609480"/>
            <a:chOff x="447840" y="4305240"/>
            <a:chExt cx="1687320" cy="609480"/>
          </a:xfrm>
        </p:grpSpPr>
        <p:sp>
          <p:nvSpPr>
            <p:cNvPr id="113" name="AutoShape 5"/>
            <p:cNvSpPr/>
            <p:nvPr/>
          </p:nvSpPr>
          <p:spPr>
            <a:xfrm>
              <a:off x="447840" y="4305240"/>
              <a:ext cx="1685880" cy="60948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39"/>
            <p:cNvSpPr/>
            <p:nvPr/>
          </p:nvSpPr>
          <p:spPr>
            <a:xfrm>
              <a:off x="482760" y="4333680"/>
              <a:ext cx="1652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ril 2009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iscussions start with donors on their support and engagement in the Open Forum. A donor core group was formed – including bilateral aid agencies from Austria, Sweden, Canada and the UK - to coordinate donor engagement with the Open Foru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97"/>
          <p:cNvGrpSpPr/>
          <p:nvPr/>
        </p:nvGrpSpPr>
        <p:grpSpPr>
          <a:xfrm>
            <a:off x="447840" y="5030640"/>
            <a:ext cx="1687320" cy="885600"/>
            <a:chOff x="447840" y="5030640"/>
            <a:chExt cx="1687320" cy="885600"/>
          </a:xfrm>
        </p:grpSpPr>
        <p:sp>
          <p:nvSpPr>
            <p:cNvPr id="116" name="AutoShape 5"/>
            <p:cNvSpPr/>
            <p:nvPr/>
          </p:nvSpPr>
          <p:spPr>
            <a:xfrm>
              <a:off x="447840" y="5030640"/>
              <a:ext cx="1685880" cy="88560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39"/>
            <p:cNvSpPr/>
            <p:nvPr/>
          </p:nvSpPr>
          <p:spPr>
            <a:xfrm>
              <a:off x="482760" y="5068440"/>
              <a:ext cx="1652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une 2009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 multi-stakeholder Task Team - including donors, partner governments and CSOs - meet for the first time in Prague to discuss how to move forward  the discussions on development effectiveness and enabling environment. This multi-stakeholder Task Team is part of Cluster A on ownership and mutual accountability of the OECD-DAC Working Party on Aid Effective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43"/>
          <p:cNvSpPr/>
          <p:nvPr/>
        </p:nvSpPr>
        <p:spPr>
          <a:xfrm>
            <a:off x="3521160" y="116856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November 2009 to March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"/>
            </a:b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e Open Forum conducts Regional seminars in five regions across the globe to consult with CSO and other stakeholders and to prepare for the Open Forum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3"/>
          <p:cNvSpPr/>
          <p:nvPr/>
        </p:nvSpPr>
        <p:spPr>
          <a:xfrm>
            <a:off x="3521160" y="1792440"/>
            <a:ext cx="1396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rch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Launch of the Open Forum National consultations across the glob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3521160" y="2063880"/>
            <a:ext cx="139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September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First Open Forum Global Assembly  in Istanbul and endorsement of the Istanbul Principles for CSO Development Effectivenes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3521160" y="2506680"/>
            <a:ext cx="1396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2011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Regional gatherings and thematic consultations will continue until Ju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36"/>
          <p:cNvCxnSpPr>
            <a:stCxn id="123" idx="3"/>
            <a:endCxn id="59" idx="1"/>
          </p:cNvCxnSpPr>
          <p:nvPr/>
        </p:nvCxnSpPr>
        <p:spPr>
          <a:xfrm flipV="1">
            <a:off x="4923000" y="1590480"/>
            <a:ext cx="173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Text Box 164"/>
          <p:cNvSpPr/>
          <p:nvPr/>
        </p:nvSpPr>
        <p:spPr>
          <a:xfrm>
            <a:off x="77760" y="6222960"/>
            <a:ext cx="156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ECD-DAC Working Party on Aid Effectiveness has 5 clusters and numerous work stream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38"/>
          <p:cNvCxnSpPr>
            <a:stCxn id="55" idx="3"/>
            <a:endCxn id="126" idx="1"/>
          </p:cNvCxnSpPr>
          <p:nvPr/>
        </p:nvCxnSpPr>
        <p:spPr>
          <a:xfrm flipV="1">
            <a:off x="1720800" y="6361560"/>
            <a:ext cx="311400" cy="720"/>
          </a:xfrm>
          <a:prstGeom prst="bentConnector3">
            <a:avLst>
              <a:gd name="adj1" fmla="val 5081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157"/>
          <p:cNvSpPr/>
          <p:nvPr/>
        </p:nvSpPr>
        <p:spPr>
          <a:xfrm>
            <a:off x="203184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70"/>
          <p:cNvCxnSpPr>
            <a:stCxn id="71" idx="3"/>
            <a:endCxn id="54" idx="1"/>
          </p:cNvCxnSpPr>
          <p:nvPr/>
        </p:nvCxnSpPr>
        <p:spPr>
          <a:xfrm flipV="1">
            <a:off x="6535800" y="3278880"/>
            <a:ext cx="243360" cy="1298880"/>
          </a:xfrm>
          <a:prstGeom prst="bentConnector3">
            <a:avLst>
              <a:gd name="adj1" fmla="val 5007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70"/>
          <p:cNvCxnSpPr>
            <a:stCxn id="54" idx="3"/>
            <a:endCxn id="129" idx="1"/>
          </p:cNvCxnSpPr>
          <p:nvPr/>
        </p:nvCxnSpPr>
        <p:spPr>
          <a:xfrm flipV="1">
            <a:off x="8488440" y="3278520"/>
            <a:ext cx="181080" cy="720"/>
          </a:xfrm>
          <a:prstGeom prst="bentConnector3">
            <a:avLst>
              <a:gd name="adj1" fmla="val 5139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Text Box 46"/>
          <p:cNvSpPr/>
          <p:nvPr/>
        </p:nvSpPr>
        <p:spPr>
          <a:xfrm>
            <a:off x="5342040" y="3483000"/>
            <a:ext cx="95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utcomes of the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0"/>
          <p:cNvCxnSpPr>
            <a:stCxn id="132" idx="3"/>
            <a:endCxn id="49" idx="1"/>
          </p:cNvCxnSpPr>
          <p:nvPr/>
        </p:nvCxnSpPr>
        <p:spPr>
          <a:xfrm flipV="1">
            <a:off x="6529320" y="5413320"/>
            <a:ext cx="24984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Text Box 146"/>
          <p:cNvSpPr/>
          <p:nvPr/>
        </p:nvSpPr>
        <p:spPr>
          <a:xfrm>
            <a:off x="6345360" y="532116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38"/>
          <p:cNvCxnSpPr>
            <a:stCxn id="134" idx="3"/>
            <a:endCxn id="135" idx="1"/>
          </p:cNvCxnSpPr>
          <p:nvPr/>
        </p:nvCxnSpPr>
        <p:spPr>
          <a:xfrm>
            <a:off x="2192400" y="3278520"/>
            <a:ext cx="1843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38"/>
          <p:cNvCxnSpPr>
            <a:stCxn id="137" idx="3"/>
            <a:endCxn id="56" idx="0"/>
          </p:cNvCxnSpPr>
          <p:nvPr/>
        </p:nvCxnSpPr>
        <p:spPr>
          <a:xfrm>
            <a:off x="4087800" y="3278520"/>
            <a:ext cx="109800" cy="1751040"/>
          </a:xfrm>
          <a:prstGeom prst="bentConnector4">
            <a:avLst>
              <a:gd name="adj1" fmla="val 207236"/>
              <a:gd name="adj2" fmla="val 525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Text Box 146"/>
          <p:cNvSpPr/>
          <p:nvPr/>
        </p:nvSpPr>
        <p:spPr>
          <a:xfrm>
            <a:off x="200808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6"/>
          <p:cNvSpPr/>
          <p:nvPr/>
        </p:nvSpPr>
        <p:spPr>
          <a:xfrm>
            <a:off x="23763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38"/>
          <p:cNvCxnSpPr>
            <a:stCxn id="139" idx="3"/>
            <a:endCxn id="140" idx="1"/>
          </p:cNvCxnSpPr>
          <p:nvPr/>
        </p:nvCxnSpPr>
        <p:spPr>
          <a:xfrm>
            <a:off x="222120" y="3278520"/>
            <a:ext cx="178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Text Box 146"/>
          <p:cNvSpPr/>
          <p:nvPr/>
        </p:nvSpPr>
        <p:spPr>
          <a:xfrm>
            <a:off x="38160" y="31860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6"/>
          <p:cNvSpPr/>
          <p:nvPr/>
        </p:nvSpPr>
        <p:spPr>
          <a:xfrm>
            <a:off x="3999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38"/>
          <p:cNvCxnSpPr>
            <a:stCxn id="137" idx="3"/>
            <a:endCxn id="64" idx="2"/>
          </p:cNvCxnSpPr>
          <p:nvPr/>
        </p:nvCxnSpPr>
        <p:spPr>
          <a:xfrm flipV="1">
            <a:off x="4087800" y="2782800"/>
            <a:ext cx="109800" cy="496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Text Box 146"/>
          <p:cNvSpPr/>
          <p:nvPr/>
        </p:nvSpPr>
        <p:spPr>
          <a:xfrm>
            <a:off x="5095800" y="53560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70"/>
          <p:cNvCxnSpPr>
            <a:stCxn id="49" idx="3"/>
            <a:endCxn id="50" idx="2"/>
          </p:cNvCxnSpPr>
          <p:nvPr/>
        </p:nvCxnSpPr>
        <p:spPr>
          <a:xfrm flipV="1">
            <a:off x="8488440" y="5068800"/>
            <a:ext cx="384480" cy="344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70"/>
          <p:cNvCxnSpPr>
            <a:stCxn id="144" idx="0"/>
            <a:endCxn id="50" idx="2"/>
          </p:cNvCxnSpPr>
          <p:nvPr/>
        </p:nvCxnSpPr>
        <p:spPr>
          <a:xfrm flipV="1">
            <a:off x="8872560" y="5068800"/>
            <a:ext cx="360" cy="92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146"/>
          <p:cNvSpPr/>
          <p:nvPr/>
        </p:nvSpPr>
        <p:spPr>
          <a:xfrm>
            <a:off x="8780400" y="59896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6"/>
          <p:cNvSpPr/>
          <p:nvPr/>
        </p:nvSpPr>
        <p:spPr>
          <a:xfrm>
            <a:off x="86691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6"/>
          <p:cNvSpPr/>
          <p:nvPr/>
        </p:nvSpPr>
        <p:spPr>
          <a:xfrm>
            <a:off x="3903840" y="31860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38"/>
          <p:cNvCxnSpPr>
            <a:stCxn id="104" idx="2"/>
            <a:endCxn id="107" idx="0"/>
          </p:cNvCxnSpPr>
          <p:nvPr/>
        </p:nvCxnSpPr>
        <p:spPr>
          <a:xfrm>
            <a:off x="1290600" y="128268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38"/>
          <p:cNvCxnSpPr>
            <a:stCxn id="107" idx="2"/>
            <a:endCxn id="110" idx="0"/>
          </p:cNvCxnSpPr>
          <p:nvPr/>
        </p:nvCxnSpPr>
        <p:spPr>
          <a:xfrm>
            <a:off x="1290600" y="236520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38"/>
          <p:cNvCxnSpPr>
            <a:stCxn id="110" idx="2"/>
            <a:endCxn id="100" idx="0"/>
          </p:cNvCxnSpPr>
          <p:nvPr/>
        </p:nvCxnSpPr>
        <p:spPr>
          <a:xfrm>
            <a:off x="1290600" y="3382560"/>
            <a:ext cx="360" cy="11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38"/>
          <p:cNvCxnSpPr>
            <a:stCxn id="100" idx="2"/>
            <a:endCxn id="113" idx="0"/>
          </p:cNvCxnSpPr>
          <p:nvPr/>
        </p:nvCxnSpPr>
        <p:spPr>
          <a:xfrm>
            <a:off x="1290600" y="418932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38"/>
          <p:cNvCxnSpPr>
            <a:stCxn id="113" idx="2"/>
            <a:endCxn id="116" idx="0"/>
          </p:cNvCxnSpPr>
          <p:nvPr/>
        </p:nvCxnSpPr>
        <p:spPr>
          <a:xfrm>
            <a:off x="1290600" y="491472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146"/>
          <p:cNvSpPr/>
          <p:nvPr/>
        </p:nvSpPr>
        <p:spPr>
          <a:xfrm>
            <a:off x="4738680" y="14986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0:24:52Z</dcterms:created>
  <dc:creator>mstraub</dc:creator>
  <dc:description/>
  <dc:language>en-US</dc:language>
  <cp:lastModifiedBy>Paola Simonetti</cp:lastModifiedBy>
  <dcterms:modified xsi:type="dcterms:W3CDTF">2010-11-12T12:06:55Z</dcterms:modified>
  <cp:revision>53</cp:revision>
  <dc:subject/>
  <dc:title>Slide 1</dc:title>
</cp:coreProperties>
</file>