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9799638" cy="14352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99200" cy="1435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46560" cy="717480"/>
          </a:xfrm>
          <a:prstGeom prst="rect">
            <a:avLst/>
          </a:prstGeom>
          <a:noFill/>
          <a:ln w="0">
            <a:noFill/>
          </a:ln>
        </p:spPr>
        <p:txBody>
          <a:bodyPr lIns="137880" rIns="137880" tIns="69120" bIns="69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551560" y="-360"/>
            <a:ext cx="4246560" cy="717480"/>
          </a:xfrm>
          <a:prstGeom prst="rect">
            <a:avLst/>
          </a:prstGeom>
          <a:noFill/>
          <a:ln w="0">
            <a:noFill/>
          </a:ln>
        </p:spPr>
        <p:txBody>
          <a:bodyPr lIns="137880" rIns="137880" tIns="69120" bIns="69120" anchor="t">
            <a:noAutofit/>
          </a:bodyPr>
          <a:lstStyle>
            <a:lvl1pPr indent="0" algn="r">
              <a:buNone/>
              <a:tabLst>
                <a:tab algn="l" pos="0"/>
                <a:tab algn="l" pos="1379520"/>
                <a:tab algn="l" pos="2759040"/>
                <a:tab algn="l" pos="4138560"/>
                <a:tab algn="l" pos="5518080"/>
                <a:tab algn="l" pos="6897600"/>
                <a:tab algn="l" pos="8277120"/>
                <a:tab algn="l" pos="965664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379520"/>
                <a:tab algn="l" pos="2759040"/>
                <a:tab algn="l" pos="4138560"/>
                <a:tab algn="l" pos="5518080"/>
                <a:tab algn="l" pos="6897600"/>
                <a:tab algn="l" pos="8277120"/>
                <a:tab algn="l" pos="9656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12920" y="1076040"/>
            <a:ext cx="7175520" cy="538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9200" y="6816600"/>
            <a:ext cx="7840440" cy="6459840"/>
          </a:xfrm>
          <a:prstGeom prst="rect">
            <a:avLst/>
          </a:prstGeom>
          <a:noFill/>
          <a:ln w="0">
            <a:noFill/>
          </a:ln>
        </p:spPr>
        <p:txBody>
          <a:bodyPr lIns="137880" rIns="137880" tIns="69120" bIns="69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3631400"/>
            <a:ext cx="4246560" cy="717480"/>
          </a:xfrm>
          <a:prstGeom prst="rect">
            <a:avLst/>
          </a:prstGeom>
          <a:noFill/>
          <a:ln w="0">
            <a:noFill/>
          </a:ln>
        </p:spPr>
        <p:txBody>
          <a:bodyPr lIns="137880" rIns="137880" tIns="69120" bIns="69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551560" y="13631400"/>
            <a:ext cx="4246560" cy="717480"/>
          </a:xfrm>
          <a:prstGeom prst="rect">
            <a:avLst/>
          </a:prstGeom>
          <a:noFill/>
          <a:ln w="0">
            <a:noFill/>
          </a:ln>
        </p:spPr>
        <p:txBody>
          <a:bodyPr lIns="137880" rIns="137880" tIns="69120" bIns="69120" anchor="b">
            <a:noAutofit/>
          </a:bodyPr>
          <a:lstStyle>
            <a:lvl1pPr indent="0" algn="r">
              <a:buNone/>
              <a:tabLst>
                <a:tab algn="l" pos="0"/>
                <a:tab algn="l" pos="1379520"/>
                <a:tab algn="l" pos="2759040"/>
                <a:tab algn="l" pos="4138560"/>
                <a:tab algn="l" pos="5518080"/>
                <a:tab algn="l" pos="6897600"/>
                <a:tab algn="l" pos="8277120"/>
                <a:tab algn="l" pos="965664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379520"/>
                <a:tab algn="l" pos="2759040"/>
                <a:tab algn="l" pos="4138560"/>
                <a:tab algn="l" pos="5518080"/>
                <a:tab algn="l" pos="6897600"/>
                <a:tab algn="l" pos="8277120"/>
                <a:tab algn="l" pos="9656640"/>
              </a:tabLst>
            </a:pPr>
            <a:fld id="{9FE53264-4E45-4E86-AB5C-37AD2122C82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12920" y="1076400"/>
            <a:ext cx="7175520" cy="53816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79200" y="6816600"/>
            <a:ext cx="7840440" cy="645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5551560" y="13631760"/>
            <a:ext cx="42465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880" rIns="137880" tIns="69120" bIns="69120" anchor="b">
            <a:noAutofit/>
          </a:bodyPr>
          <a:p>
            <a:pPr algn="r">
              <a:tabLst>
                <a:tab algn="l" pos="0"/>
                <a:tab algn="l" pos="1379520"/>
                <a:tab algn="l" pos="2759040"/>
                <a:tab algn="l" pos="4138560"/>
                <a:tab algn="l" pos="5518080"/>
                <a:tab algn="l" pos="6897600"/>
                <a:tab algn="l" pos="8277120"/>
                <a:tab algn="l" pos="9656640"/>
              </a:tabLst>
            </a:pPr>
            <a:fld id="{E3B7BB84-8A2B-476A-9CDD-B8AC0000241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5D46-1B99-4274-810E-261265CB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6CEE-900E-497A-A5B3-DB0692F9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64EC-7C9B-4F42-B0C0-57FFDC1AB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EC50-522A-4571-9FD3-8BEF55CE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C5E4-0848-445F-96EA-A12955C0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B2C9-076D-4123-877D-1447892F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9894-EBDE-4A9F-BBF0-C7985D52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4B7E-6CAB-40D0-BD35-F10E43CF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F2B8-9FF0-4B62-A378-9F09A189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8F8F-F978-41FA-9D5C-E529007A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CE35-856B-4D9B-9D45-6363FA51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3438-C0B8-41BC-9BF8-E5D70490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F84B-24E0-4C8A-820C-670AD197FB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5"/>
          <p:cNvSpPr/>
          <p:nvPr/>
        </p:nvSpPr>
        <p:spPr>
          <a:xfrm>
            <a:off x="390600" y="236520"/>
            <a:ext cx="1852560" cy="5734080"/>
          </a:xfrm>
          <a:custGeom>
            <a:avLst/>
            <a:gdLst>
              <a:gd name="textAreaLeft" fmla="*/ 41400 w 1852560"/>
              <a:gd name="textAreaRight" fmla="*/ 1811160 w 1852560"/>
              <a:gd name="textAreaTop" fmla="*/ 41400 h 5734080"/>
              <a:gd name="textAreaBottom" fmla="*/ 5692680 h 5734080"/>
            </a:gdLst>
            <a:ahLst/>
            <a:rect l="textAreaLeft" t="textAreaTop" r="textAreaRight" b="textAreaBottom"/>
            <a:pathLst>
              <a:path w="21600" h="66848">
                <a:moveTo>
                  <a:pt x="1652" y="0"/>
                </a:moveTo>
                <a:arcTo wR="1652" hR="1652" stAng="16200000" swAng="-5400000"/>
                <a:lnTo>
                  <a:pt x="0" y="65196"/>
                </a:lnTo>
                <a:arcTo wR="1652" hR="1652" stAng="10800000" swAng="-5400000"/>
                <a:lnTo>
                  <a:pt x="19948" y="66848"/>
                </a:lnTo>
                <a:arcTo wR="1652" hR="1652" stAng="5400000" swAng="-5400000"/>
                <a:lnTo>
                  <a:pt x="21600" y="1652"/>
                </a:lnTo>
                <a:arcTo wR="1652" hR="1652" stAng="0" swAng="-5400000"/>
                <a:close/>
              </a:path>
            </a:pathLst>
          </a:cu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5"/>
          <p:cNvSpPr/>
          <p:nvPr/>
        </p:nvSpPr>
        <p:spPr>
          <a:xfrm>
            <a:off x="6778800" y="5213520"/>
            <a:ext cx="1709640" cy="399960"/>
          </a:xfrm>
          <a:prstGeom prst="roundRect">
            <a:avLst>
              <a:gd name="adj" fmla="val 319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54"/>
          <p:cNvSpPr/>
          <p:nvPr/>
        </p:nvSpPr>
        <p:spPr>
          <a:xfrm>
            <a:off x="8659800" y="1096920"/>
            <a:ext cx="425520" cy="3971880"/>
          </a:xfrm>
          <a:custGeom>
            <a:avLst/>
            <a:gdLst>
              <a:gd name="textAreaLeft" fmla="*/ 9360 w 425520"/>
              <a:gd name="textAreaRight" fmla="*/ 416160 w 425520"/>
              <a:gd name="textAreaTop" fmla="*/ 9360 h 3971880"/>
              <a:gd name="textAreaBottom" fmla="*/ 3962520 h 3971880"/>
            </a:gdLst>
            <a:ahLst/>
            <a:rect l="textAreaLeft" t="textAreaTop" r="textAreaRight" b="textAreaBottom"/>
            <a:pathLst>
              <a:path w="21600" h="201466">
                <a:moveTo>
                  <a:pt x="1652" y="0"/>
                </a:moveTo>
                <a:arcTo wR="1652" hR="1652" stAng="16200000" swAng="-5400000"/>
                <a:lnTo>
                  <a:pt x="0" y="199814"/>
                </a:lnTo>
                <a:arcTo wR="1652" hR="1652" stAng="10800000" swAng="-5400000"/>
                <a:lnTo>
                  <a:pt x="19948" y="201466"/>
                </a:lnTo>
                <a:arcTo wR="1652" hR="1652" stAng="5400000" swAng="-5400000"/>
                <a:lnTo>
                  <a:pt x="21600" y="1652"/>
                </a:lnTo>
                <a:arcTo wR="1652" hR="1652" stAng="0" swAng="-5400000"/>
                <a:close/>
              </a:path>
            </a:pathLst>
          </a:cu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54"/>
          <p:cNvSpPr/>
          <p:nvPr/>
        </p:nvSpPr>
        <p:spPr>
          <a:xfrm>
            <a:off x="7931160" y="5985000"/>
            <a:ext cx="1085760" cy="752400"/>
          </a:xfrm>
          <a:prstGeom prst="roundRect">
            <a:avLst>
              <a:gd name="adj" fmla="val 7648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54"/>
          <p:cNvSpPr/>
          <p:nvPr/>
        </p:nvSpPr>
        <p:spPr>
          <a:xfrm>
            <a:off x="6165720" y="5857920"/>
            <a:ext cx="1606680" cy="917640"/>
          </a:xfrm>
          <a:prstGeom prst="roundRect">
            <a:avLst>
              <a:gd name="adj" fmla="val 7648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4"/>
          <p:cNvSpPr/>
          <p:nvPr/>
        </p:nvSpPr>
        <p:spPr>
          <a:xfrm>
            <a:off x="3981600" y="5985000"/>
            <a:ext cx="1949400" cy="752400"/>
          </a:xfrm>
          <a:prstGeom prst="roundRect">
            <a:avLst>
              <a:gd name="adj" fmla="val 7648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5"/>
          <p:cNvSpPr/>
          <p:nvPr/>
        </p:nvSpPr>
        <p:spPr>
          <a:xfrm>
            <a:off x="6778800" y="2013120"/>
            <a:ext cx="1709640" cy="2531880"/>
          </a:xfrm>
          <a:custGeom>
            <a:avLst/>
            <a:gdLst>
              <a:gd name="textAreaLeft" fmla="*/ 15840 w 1709640"/>
              <a:gd name="textAreaRight" fmla="*/ 1693800 w 1709640"/>
              <a:gd name="textAreaTop" fmla="*/ 15840 h 2531880"/>
              <a:gd name="textAreaBottom" fmla="*/ 2516040 h 2531880"/>
            </a:gdLst>
            <a:ahLst/>
            <a:rect l="textAreaLeft" t="textAreaTop" r="textAreaRight" b="textAreaBottom"/>
            <a:pathLst>
              <a:path w="21600" h="31986">
                <a:moveTo>
                  <a:pt x="689" y="0"/>
                </a:moveTo>
                <a:arcTo wR="689" hR="689" stAng="16200000" swAng="-5400000"/>
                <a:lnTo>
                  <a:pt x="0" y="31297"/>
                </a:lnTo>
                <a:arcTo wR="689" hR="689" stAng="10800000" swAng="-5400000"/>
                <a:lnTo>
                  <a:pt x="20911" y="31986"/>
                </a:lnTo>
                <a:arcTo wR="689" hR="689" stAng="5400000" swAng="-5400000"/>
                <a:lnTo>
                  <a:pt x="21600" y="689"/>
                </a:lnTo>
                <a:arcTo wR="689" hR="689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34920" y="6161040"/>
            <a:ext cx="1685880" cy="401760"/>
          </a:xfrm>
          <a:prstGeom prst="roundRect">
            <a:avLst>
              <a:gd name="adj" fmla="val 7648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5"/>
          <p:cNvSpPr/>
          <p:nvPr/>
        </p:nvSpPr>
        <p:spPr>
          <a:xfrm>
            <a:off x="3478320" y="5029200"/>
            <a:ext cx="1438200" cy="838080"/>
          </a:xfrm>
          <a:prstGeom prst="roundRect">
            <a:avLst>
              <a:gd name="adj" fmla="val 764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3"/>
          <p:cNvSpPr/>
          <p:nvPr/>
        </p:nvSpPr>
        <p:spPr>
          <a:xfrm>
            <a:off x="6759720" y="3252960"/>
            <a:ext cx="17636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July 2011: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OECD-DAC Working Party on Aid Effectiveness, Pari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4"/>
          <p:cNvSpPr/>
          <p:nvPr/>
        </p:nvSpPr>
        <p:spPr>
          <a:xfrm>
            <a:off x="6759720" y="2811600"/>
            <a:ext cx="17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June 2011: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Joint  Global Assembly of Open Forum and Better Aid Platform to prepare for HLF4 </a:t>
            </a:r>
            <a:r>
              <a:rPr b="1" lang="en-GB" sz="600" spc="-1" strike="noStrike">
                <a:solidFill>
                  <a:srgbClr val="ff0000"/>
                </a:solidFill>
                <a:latin typeface="Arial"/>
              </a:rPr>
              <a:t>(Not confirm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9"/>
          <p:cNvSpPr/>
          <p:nvPr/>
        </p:nvSpPr>
        <p:spPr>
          <a:xfrm>
            <a:off x="5095800" y="992160"/>
            <a:ext cx="1440000" cy="1197000"/>
          </a:xfrm>
          <a:prstGeom prst="roundRect">
            <a:avLst>
              <a:gd name="adj" fmla="val 764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54"/>
          <p:cNvSpPr/>
          <p:nvPr/>
        </p:nvSpPr>
        <p:spPr>
          <a:xfrm>
            <a:off x="27000" y="952560"/>
            <a:ext cx="189000" cy="4354560"/>
          </a:xfrm>
          <a:custGeom>
            <a:avLst/>
            <a:gdLst>
              <a:gd name="textAreaLeft" fmla="*/ 3960 w 189000"/>
              <a:gd name="textAreaRight" fmla="*/ 185040 w 189000"/>
              <a:gd name="textAreaTop" fmla="*/ 3960 h 4354560"/>
              <a:gd name="textAreaBottom" fmla="*/ 4350600 h 4354560"/>
            </a:gdLst>
            <a:ahLst/>
            <a:rect l="textAreaLeft" t="textAreaTop" r="textAreaRight" b="textAreaBottom"/>
            <a:pathLst>
              <a:path w="21600" h="496759">
                <a:moveTo>
                  <a:pt x="1652" y="0"/>
                </a:moveTo>
                <a:arcTo wR="1652" hR="1652" stAng="16200000" swAng="-5400000"/>
                <a:lnTo>
                  <a:pt x="0" y="495107"/>
                </a:lnTo>
                <a:arcTo wR="1652" hR="1652" stAng="10800000" swAng="-5400000"/>
                <a:lnTo>
                  <a:pt x="19948" y="496759"/>
                </a:lnTo>
                <a:arcTo wR="1652" hR="1652" stAng="5400000" swAng="-5400000"/>
                <a:lnTo>
                  <a:pt x="21600" y="1652"/>
                </a:lnTo>
                <a:arcTo wR="1652" hR="1652" stAng="0" swAng="-5400000"/>
                <a:close/>
              </a:path>
            </a:pathLst>
          </a:cu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 rot="16200000">
            <a:off x="-2075400" y="3054960"/>
            <a:ext cx="4365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arch 2005: Governments and  donors adopt the Paris Declaration on Aid Effectiven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2376360" y="3051000"/>
            <a:ext cx="1711440" cy="1352880"/>
          </a:xfrm>
          <a:prstGeom prst="roundRect">
            <a:avLst>
              <a:gd name="adj" fmla="val 7648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2482920" y="3094200"/>
            <a:ext cx="159372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End of 2009: Pooled fund set up by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Austrian Development Agenc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UK Department of Int. Develop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Swedish Int. Dev. Cooperation Agenc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Ministry of Foreign Affairs, Finlan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Swiss Agency for Dev. &amp; Cooperati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Ministry of Foreign Affairs, Denmar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Agence Francaise de D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évelopp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Ministry of Foreign Affairs, Netherland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Managed by: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anada, Sweden, Austria, </a:t>
            </a:r>
            <a:br>
              <a:rPr sz="600"/>
            </a:b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Open Forum, Better Ai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5"/>
          <p:cNvSpPr/>
          <p:nvPr/>
        </p:nvSpPr>
        <p:spPr>
          <a:xfrm>
            <a:off x="3478320" y="453960"/>
            <a:ext cx="1438200" cy="2328840"/>
          </a:xfrm>
          <a:custGeom>
            <a:avLst/>
            <a:gdLst>
              <a:gd name="textAreaLeft" fmla="*/ 32040 w 1438200"/>
              <a:gd name="textAreaRight" fmla="*/ 1406160 w 1438200"/>
              <a:gd name="textAreaTop" fmla="*/ 32040 h 2328840"/>
              <a:gd name="textAreaBottom" fmla="*/ 2296800 h 2328840"/>
            </a:gdLst>
            <a:ahLst/>
            <a:rect l="textAreaLeft" t="textAreaTop" r="textAreaRight" b="textAreaBottom"/>
            <a:pathLst>
              <a:path w="21600" h="34973">
                <a:moveTo>
                  <a:pt x="1652" y="0"/>
                </a:moveTo>
                <a:arcTo wR="1652" hR="1652" stAng="16200000" swAng="-5400000"/>
                <a:lnTo>
                  <a:pt x="0" y="33321"/>
                </a:lnTo>
                <a:arcTo wR="1652" hR="1652" stAng="10800000" swAng="-5400000"/>
                <a:lnTo>
                  <a:pt x="19948" y="34973"/>
                </a:lnTo>
                <a:arcTo wR="1652" hR="1652" stAng="5400000" swAng="-5400000"/>
                <a:lnTo>
                  <a:pt x="21600" y="1652"/>
                </a:lnTo>
                <a:arcTo wR="1652" hR="1652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1"/>
          <p:cNvSpPr/>
          <p:nvPr/>
        </p:nvSpPr>
        <p:spPr>
          <a:xfrm>
            <a:off x="3521160" y="488880"/>
            <a:ext cx="13539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" spc="-1" strike="noStrike">
                <a:solidFill>
                  <a:srgbClr val="000000"/>
                </a:solidFill>
                <a:latin typeface="Arial"/>
              </a:rPr>
              <a:t>Open Forum on CSO Development Effectiven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2"/>
          <p:cNvSpPr/>
          <p:nvPr/>
        </p:nvSpPr>
        <p:spPr>
          <a:xfrm>
            <a:off x="3525840" y="5056200"/>
            <a:ext cx="1351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" spc="-1" strike="noStrike">
                <a:solidFill>
                  <a:srgbClr val="000000"/>
                </a:solidFill>
                <a:latin typeface="Arial"/>
              </a:rPr>
              <a:t>Better Aid Platfor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3"/>
          <p:cNvSpPr/>
          <p:nvPr/>
        </p:nvSpPr>
        <p:spPr>
          <a:xfrm>
            <a:off x="3521160" y="725400"/>
            <a:ext cx="13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Global Facilitation Grou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onsortiu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Secretariat hosted by CONCOR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ountry consultations and process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4"/>
          <p:cNvSpPr/>
          <p:nvPr/>
        </p:nvSpPr>
        <p:spPr>
          <a:xfrm>
            <a:off x="3516480" y="5167440"/>
            <a:ext cx="1369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568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Better Aid Coordinating Group (BACG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BACG Membership in OECD-DAC WP-EF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Reality of Aid country process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6"/>
          <p:cNvSpPr/>
          <p:nvPr/>
        </p:nvSpPr>
        <p:spPr>
          <a:xfrm>
            <a:off x="5319720" y="1047600"/>
            <a:ext cx="952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Outcomes of the proc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4"/>
          <p:cNvSpPr/>
          <p:nvPr/>
        </p:nvSpPr>
        <p:spPr>
          <a:xfrm>
            <a:off x="5141880" y="1190520"/>
            <a:ext cx="1366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Framework on CSO practices to implement Istanbul Principl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Guidelines and Indicators for CSO practices to implement Istanbul Principl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Minimum standards for Governments and donors to enable CSOs to implement the Istanbul Principl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5"/>
          <p:cNvSpPr/>
          <p:nvPr/>
        </p:nvSpPr>
        <p:spPr>
          <a:xfrm>
            <a:off x="5095800" y="3368520"/>
            <a:ext cx="1440000" cy="2417760"/>
          </a:xfrm>
          <a:custGeom>
            <a:avLst/>
            <a:gdLst>
              <a:gd name="textAreaLeft" fmla="*/ 32040 w 1440000"/>
              <a:gd name="textAreaRight" fmla="*/ 1407960 w 1440000"/>
              <a:gd name="textAreaTop" fmla="*/ 32040 h 2417760"/>
              <a:gd name="textAreaBottom" fmla="*/ 2385720 h 2417760"/>
            </a:gdLst>
            <a:ahLst/>
            <a:rect l="textAreaLeft" t="textAreaTop" r="textAreaRight" b="textAreaBottom"/>
            <a:pathLst>
              <a:path w="21600" h="36263">
                <a:moveTo>
                  <a:pt x="1652" y="0"/>
                </a:moveTo>
                <a:arcTo wR="1652" hR="1652" stAng="16200000" swAng="-5400000"/>
                <a:lnTo>
                  <a:pt x="0" y="34611"/>
                </a:lnTo>
                <a:arcTo wR="1652" hR="1652" stAng="10800000" swAng="-5400000"/>
                <a:lnTo>
                  <a:pt x="19948" y="36263"/>
                </a:lnTo>
                <a:arcTo wR="1652" hR="1652" stAng="5400000" swAng="-5400000"/>
                <a:lnTo>
                  <a:pt x="21600" y="1652"/>
                </a:lnTo>
                <a:arcTo wR="1652" hR="1652" stAng="0" swAng="-5400000"/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6"/>
          <p:cNvSpPr/>
          <p:nvPr/>
        </p:nvSpPr>
        <p:spPr>
          <a:xfrm>
            <a:off x="5160960" y="3670200"/>
            <a:ext cx="130176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Addressing the implementation of the Paris Declaration and the AAA, including  Article 20 relating to CSOs and an enabling environment from dono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Move the framework from “aid effectiveness” to “development effectiveness”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Monitor implementation at country level through multi-stakeholder dialogues and CSO assessment of 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Proposals for reform of the aid architecture for international cooperation and the future of the OECD-DAC WP-EFF and the UN within that architect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9"/>
          <p:cNvSpPr/>
          <p:nvPr/>
        </p:nvSpPr>
        <p:spPr>
          <a:xfrm>
            <a:off x="6351480" y="182556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AutoShape 70"/>
          <p:cNvCxnSpPr>
            <a:stCxn id="56" idx="3"/>
            <a:endCxn id="75" idx="1"/>
          </p:cNvCxnSpPr>
          <p:nvPr/>
        </p:nvCxnSpPr>
        <p:spPr>
          <a:xfrm>
            <a:off x="4916520" y="5448240"/>
            <a:ext cx="17964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AutoShape 71"/>
          <p:cNvCxnSpPr>
            <a:stCxn id="59" idx="3"/>
            <a:endCxn id="54" idx="1"/>
          </p:cNvCxnSpPr>
          <p:nvPr/>
        </p:nvCxnSpPr>
        <p:spPr>
          <a:xfrm>
            <a:off x="6535800" y="1590480"/>
            <a:ext cx="243360" cy="1688760"/>
          </a:xfrm>
          <a:prstGeom prst="bentConnector5">
            <a:avLst>
              <a:gd name="adj1" fmla="val 95407"/>
              <a:gd name="adj2" fmla="val -49168"/>
              <a:gd name="adj3" fmla="val -68785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Text Box 74"/>
          <p:cNvSpPr/>
          <p:nvPr/>
        </p:nvSpPr>
        <p:spPr>
          <a:xfrm>
            <a:off x="6759720" y="2462040"/>
            <a:ext cx="17906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March 2011: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Joint GFG and BACG Meeting, Swede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6"/>
          <p:cNvSpPr/>
          <p:nvPr/>
        </p:nvSpPr>
        <p:spPr>
          <a:xfrm>
            <a:off x="6759720" y="360216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Sep 2011: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IVICUS World Assembly on Development Effectiveness, Montreal. Opportunity for Open Forum and Better Aid Platform to consolidate messages for HLF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2"/>
          <p:cNvSpPr/>
          <p:nvPr/>
        </p:nvSpPr>
        <p:spPr>
          <a:xfrm>
            <a:off x="6759720" y="4137120"/>
            <a:ext cx="180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Open Forum and Better Aid Platform will organise independent and joint activities at HLF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4"/>
          <p:cNvSpPr/>
          <p:nvPr/>
        </p:nvSpPr>
        <p:spPr>
          <a:xfrm>
            <a:off x="6840360" y="5283360"/>
            <a:ext cx="142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Better Aid Platform will organise a CSO Parallel Forum in Busan </a:t>
            </a:r>
            <a:r>
              <a:rPr b="1" lang="en-GB" sz="600" spc="-1" strike="noStrike">
                <a:solidFill>
                  <a:srgbClr val="ff0000"/>
                </a:solidFill>
                <a:latin typeface="Arial"/>
              </a:rPr>
              <a:t>(Not confirm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0"/>
          <p:cNvSpPr/>
          <p:nvPr/>
        </p:nvSpPr>
        <p:spPr>
          <a:xfrm rot="16200000">
            <a:off x="6989760" y="2838240"/>
            <a:ext cx="385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High Level Forum,  Busan, South Korea </a:t>
            </a:r>
            <a:br>
              <a:rPr sz="800"/>
            </a:b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Political debates / Interactive sessio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2"/>
          <p:cNvSpPr/>
          <p:nvPr/>
        </p:nvSpPr>
        <p:spPr>
          <a:xfrm>
            <a:off x="8010360" y="6053040"/>
            <a:ext cx="974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luster A contributions for the preparation of HLF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Roundtable at HLF4 on CSOs and development effectiveness </a:t>
            </a:r>
            <a:r>
              <a:rPr b="1" lang="en-GB" sz="600" spc="-1" strike="noStrike">
                <a:solidFill>
                  <a:srgbClr val="ff0000"/>
                </a:solidFill>
                <a:latin typeface="Arial"/>
              </a:rPr>
              <a:t>(Not confirm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4"/>
          <p:cNvSpPr/>
          <p:nvPr/>
        </p:nvSpPr>
        <p:spPr>
          <a:xfrm>
            <a:off x="7575480" y="626904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7"/>
          <p:cNvSpPr/>
          <p:nvPr/>
        </p:nvSpPr>
        <p:spPr>
          <a:xfrm>
            <a:off x="6153120" y="626904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3"/>
          <p:cNvSpPr/>
          <p:nvPr/>
        </p:nvSpPr>
        <p:spPr>
          <a:xfrm>
            <a:off x="6210360" y="5913360"/>
            <a:ext cx="15112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Monitor the implementation of CSO related commitments in the AA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Facilitate multi-stakeholder engagement with the Open Forum and the Better Aid  Platform country process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Facilitate dialogue on enabling environ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AutoShape 145"/>
          <p:cNvCxnSpPr>
            <a:stCxn id="83" idx="3"/>
            <a:endCxn id="87" idx="1"/>
          </p:cNvCxnSpPr>
          <p:nvPr/>
        </p:nvCxnSpPr>
        <p:spPr>
          <a:xfrm>
            <a:off x="7759800" y="6361560"/>
            <a:ext cx="187560" cy="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Text Box 146"/>
          <p:cNvSpPr/>
          <p:nvPr/>
        </p:nvSpPr>
        <p:spPr>
          <a:xfrm>
            <a:off x="7947000" y="626904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AutoShape 148"/>
          <p:cNvCxnSpPr>
            <a:stCxn id="89" idx="3"/>
            <a:endCxn id="84" idx="1"/>
          </p:cNvCxnSpPr>
          <p:nvPr/>
        </p:nvCxnSpPr>
        <p:spPr>
          <a:xfrm>
            <a:off x="5931000" y="6361560"/>
            <a:ext cx="222480" cy="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Text Box 149"/>
          <p:cNvSpPr/>
          <p:nvPr/>
        </p:nvSpPr>
        <p:spPr>
          <a:xfrm>
            <a:off x="5746680" y="626904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0"/>
          <p:cNvSpPr/>
          <p:nvPr/>
        </p:nvSpPr>
        <p:spPr>
          <a:xfrm>
            <a:off x="4068720" y="6027840"/>
            <a:ext cx="177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Multi-stakeholder Task Team on CSO development effectiveness and the enabling environ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1"/>
          <p:cNvSpPr/>
          <p:nvPr/>
        </p:nvSpPr>
        <p:spPr>
          <a:xfrm>
            <a:off x="4068720" y="6332400"/>
            <a:ext cx="177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Members of the  Task Team are Better Aid, Open Forum, Donors and Developing Country Government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54"/>
          <p:cNvSpPr/>
          <p:nvPr/>
        </p:nvSpPr>
        <p:spPr>
          <a:xfrm>
            <a:off x="2025720" y="5985000"/>
            <a:ext cx="1625400" cy="752400"/>
          </a:xfrm>
          <a:prstGeom prst="roundRect">
            <a:avLst>
              <a:gd name="adj" fmla="val 7648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5"/>
          <p:cNvSpPr/>
          <p:nvPr/>
        </p:nvSpPr>
        <p:spPr>
          <a:xfrm>
            <a:off x="3981600" y="626904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AutoShape 156"/>
          <p:cNvCxnSpPr>
            <a:stCxn id="95" idx="3"/>
            <a:endCxn id="93" idx="1"/>
          </p:cNvCxnSpPr>
          <p:nvPr/>
        </p:nvCxnSpPr>
        <p:spPr>
          <a:xfrm>
            <a:off x="3651120" y="6361560"/>
            <a:ext cx="330840" cy="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" name="Text Box 157"/>
          <p:cNvSpPr/>
          <p:nvPr/>
        </p:nvSpPr>
        <p:spPr>
          <a:xfrm>
            <a:off x="3467160" y="626904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2"/>
          <p:cNvSpPr/>
          <p:nvPr/>
        </p:nvSpPr>
        <p:spPr>
          <a:xfrm>
            <a:off x="2068560" y="6045120"/>
            <a:ext cx="14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Cluster 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Ownership and  Mutual Accountability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4"/>
          <p:cNvSpPr/>
          <p:nvPr/>
        </p:nvSpPr>
        <p:spPr>
          <a:xfrm>
            <a:off x="2068560" y="6334200"/>
            <a:ext cx="14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Work Strea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SO development effectiveness and th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enabling environ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35"/>
          <p:cNvSpPr/>
          <p:nvPr/>
        </p:nvSpPr>
        <p:spPr>
          <a:xfrm>
            <a:off x="6759720" y="2057400"/>
            <a:ext cx="17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Joint participation and activities of the Open Forum and Better Aid Platform leading up to Busa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10"/>
          <p:cNvGrpSpPr/>
          <p:nvPr/>
        </p:nvGrpSpPr>
        <p:grpSpPr>
          <a:xfrm>
            <a:off x="447840" y="3498840"/>
            <a:ext cx="1687320" cy="690480"/>
            <a:chOff x="447840" y="3498840"/>
            <a:chExt cx="1687320" cy="690480"/>
          </a:xfrm>
        </p:grpSpPr>
        <p:sp>
          <p:nvSpPr>
            <p:cNvPr id="100" name="AutoShape 5"/>
            <p:cNvSpPr/>
            <p:nvPr/>
          </p:nvSpPr>
          <p:spPr>
            <a:xfrm>
              <a:off x="447840" y="3498840"/>
              <a:ext cx="1685880" cy="690480"/>
            </a:xfrm>
            <a:prstGeom prst="roundRect">
              <a:avLst>
                <a:gd name="adj" fmla="val 76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139"/>
            <p:cNvSpPr/>
            <p:nvPr/>
          </p:nvSpPr>
          <p:spPr>
            <a:xfrm>
              <a:off x="482760" y="3530520"/>
              <a:ext cx="16524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ptember 2008: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In the Accra Agenda for Action, official donors and governments "welcome CSOs’ proposal to engage with them in a CSO-led multi-stakeholder process to promote CSO development effectiveness“. </a:t>
              </a:r>
              <a:r>
                <a:rPr b="0" lang="en-GB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Advisory Group on Civil Society and Aid Effectiveness ceases to exist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150"/>
          <p:cNvSpPr/>
          <p:nvPr/>
        </p:nvSpPr>
        <p:spPr>
          <a:xfrm>
            <a:off x="2270160" y="115920"/>
            <a:ext cx="658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oadmap to 4</a:t>
            </a:r>
            <a:r>
              <a:rPr b="1" lang="en-GB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High Level Forum, Busan, South Korea, November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209"/>
          <p:cNvGrpSpPr/>
          <p:nvPr/>
        </p:nvGrpSpPr>
        <p:grpSpPr>
          <a:xfrm>
            <a:off x="447840" y="339840"/>
            <a:ext cx="1685880" cy="942840"/>
            <a:chOff x="447840" y="339840"/>
            <a:chExt cx="1685880" cy="942840"/>
          </a:xfrm>
        </p:grpSpPr>
        <p:sp>
          <p:nvSpPr>
            <p:cNvPr id="104" name="AutoShape 5"/>
            <p:cNvSpPr/>
            <p:nvPr/>
          </p:nvSpPr>
          <p:spPr>
            <a:xfrm>
              <a:off x="447840" y="339840"/>
              <a:ext cx="1685880" cy="942840"/>
            </a:xfrm>
            <a:prstGeom prst="roundRect">
              <a:avLst>
                <a:gd name="adj" fmla="val 76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0"/>
            <p:cNvSpPr/>
            <p:nvPr/>
          </p:nvSpPr>
          <p:spPr>
            <a:xfrm>
              <a:off x="482760" y="355680"/>
              <a:ext cx="16380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Arial"/>
                </a:rPr>
                <a:t>January 2007:</a:t>
              </a:r>
              <a:r>
                <a:rPr b="0" lang="en-GB" sz="600" spc="-1" strike="noStrike">
                  <a:solidFill>
                    <a:srgbClr val="000000"/>
                  </a:solidFill>
                  <a:latin typeface="Arial"/>
                </a:rPr>
                <a:t> The Advisory Group on Civil Society and Aid Effectiveness is established by the Organisation for Economic Cooperation and Development-Development Assistance Committee (OECD-DAC). CSOs are invited to contribute to the OECD-led process on aid effectiveness through a series of regional and international consultations. The Better Aid Platform is set up to engage in a meaningful way with this proces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01"/>
          <p:cNvGrpSpPr/>
          <p:nvPr/>
        </p:nvGrpSpPr>
        <p:grpSpPr>
          <a:xfrm>
            <a:off x="447840" y="1398600"/>
            <a:ext cx="1692000" cy="966600"/>
            <a:chOff x="447840" y="1398600"/>
            <a:chExt cx="1692000" cy="966600"/>
          </a:xfrm>
        </p:grpSpPr>
        <p:sp>
          <p:nvSpPr>
            <p:cNvPr id="107" name="AutoShape 5"/>
            <p:cNvSpPr/>
            <p:nvPr/>
          </p:nvSpPr>
          <p:spPr>
            <a:xfrm>
              <a:off x="447840" y="1398600"/>
              <a:ext cx="1685880" cy="966600"/>
            </a:xfrm>
            <a:prstGeom prst="roundRect">
              <a:avLst>
                <a:gd name="adj" fmla="val 76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482760" y="1427040"/>
              <a:ext cx="165708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Arial"/>
                </a:rPr>
                <a:t>February 2008:</a:t>
              </a:r>
              <a:r>
                <a:rPr b="0" lang="en-GB" sz="600" spc="-1" strike="noStrike">
                  <a:solidFill>
                    <a:srgbClr val="000000"/>
                  </a:solidFill>
                  <a:latin typeface="Arial"/>
                </a:rPr>
                <a:t> The final consultation of the Advisory Group takes place in Gatineau/ Ottawa. One key outcome of the consultation was CSOs did not consider the Paris Declaration applicable to them, but welcomed the intention of its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000000"/>
                  </a:solidFill>
                  <a:latin typeface="Arial"/>
                </a:rPr>
                <a:t>signatories to improve the technical and management dimensions of CSO effectiveness. During informal talks, CSO representatives resolved to start their own process to establish a global CSO-suitable effectiveness framework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200"/>
          <p:cNvGrpSpPr/>
          <p:nvPr/>
        </p:nvGrpSpPr>
        <p:grpSpPr>
          <a:xfrm>
            <a:off x="447840" y="2481120"/>
            <a:ext cx="1687320" cy="901440"/>
            <a:chOff x="447840" y="2481120"/>
            <a:chExt cx="1687320" cy="901440"/>
          </a:xfrm>
        </p:grpSpPr>
        <p:sp>
          <p:nvSpPr>
            <p:cNvPr id="110" name="AutoShape 5"/>
            <p:cNvSpPr/>
            <p:nvPr/>
          </p:nvSpPr>
          <p:spPr>
            <a:xfrm>
              <a:off x="447840" y="2481120"/>
              <a:ext cx="1685880" cy="901440"/>
            </a:xfrm>
            <a:prstGeom prst="roundRect">
              <a:avLst>
                <a:gd name="adj" fmla="val 76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139"/>
            <p:cNvSpPr/>
            <p:nvPr/>
          </p:nvSpPr>
          <p:spPr>
            <a:xfrm>
              <a:off x="482760" y="2509560"/>
              <a:ext cx="16524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June 2008:</a:t>
              </a:r>
              <a:r>
                <a:rPr b="0" lang="en-GB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Over 70 CSO representatives gather in Paris for the Exploratory Meeting on CSO Effectiveness to discuss how to take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orward the global process on agreeing a CSO-suitable effectiveness framework . They decided that it should take the shape of an open forum, accessible to all interested CSOs - the concept for the Open Forum for CSO Development Effectiveness is bor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198"/>
          <p:cNvGrpSpPr/>
          <p:nvPr/>
        </p:nvGrpSpPr>
        <p:grpSpPr>
          <a:xfrm>
            <a:off x="447840" y="4305240"/>
            <a:ext cx="1687320" cy="609480"/>
            <a:chOff x="447840" y="4305240"/>
            <a:chExt cx="1687320" cy="609480"/>
          </a:xfrm>
        </p:grpSpPr>
        <p:sp>
          <p:nvSpPr>
            <p:cNvPr id="113" name="AutoShape 5"/>
            <p:cNvSpPr/>
            <p:nvPr/>
          </p:nvSpPr>
          <p:spPr>
            <a:xfrm>
              <a:off x="447840" y="4305240"/>
              <a:ext cx="1685880" cy="609480"/>
            </a:xfrm>
            <a:prstGeom prst="roundRect">
              <a:avLst>
                <a:gd name="adj" fmla="val 76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139"/>
            <p:cNvSpPr/>
            <p:nvPr/>
          </p:nvSpPr>
          <p:spPr>
            <a:xfrm>
              <a:off x="482760" y="4333680"/>
              <a:ext cx="16524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pril 2009:</a:t>
              </a:r>
              <a:r>
                <a:rPr b="0" lang="en-GB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Discussions start with donors on their support and engagement in the Open Forum. A donor core group was formed – including bilateral aid agencies from Austria, Sweden, Canada and the UK - to coordinate donor engagement with the Open Foru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97"/>
          <p:cNvGrpSpPr/>
          <p:nvPr/>
        </p:nvGrpSpPr>
        <p:grpSpPr>
          <a:xfrm>
            <a:off x="447840" y="5030640"/>
            <a:ext cx="1687320" cy="885600"/>
            <a:chOff x="447840" y="5030640"/>
            <a:chExt cx="1687320" cy="885600"/>
          </a:xfrm>
        </p:grpSpPr>
        <p:sp>
          <p:nvSpPr>
            <p:cNvPr id="116" name="AutoShape 5"/>
            <p:cNvSpPr/>
            <p:nvPr/>
          </p:nvSpPr>
          <p:spPr>
            <a:xfrm>
              <a:off x="447840" y="5030640"/>
              <a:ext cx="1685880" cy="885600"/>
            </a:xfrm>
            <a:prstGeom prst="roundRect">
              <a:avLst>
                <a:gd name="adj" fmla="val 76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139"/>
            <p:cNvSpPr/>
            <p:nvPr/>
          </p:nvSpPr>
          <p:spPr>
            <a:xfrm>
              <a:off x="482760" y="5068440"/>
              <a:ext cx="16524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June 2009:</a:t>
              </a:r>
              <a:r>
                <a:rPr b="0" lang="en-GB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A multi-stakeholder Task Team - including donors, partner governments and CSOs - meet for the first time in Prague to discuss how to move forward  the discussions on development effectiveness and enabling environment. This multi-stakeholder Task Team is part of Cluster A on ownership and mutual accountability of the OECD-DAC Working Party on Aid Effectivenes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43"/>
          <p:cNvSpPr/>
          <p:nvPr/>
        </p:nvSpPr>
        <p:spPr>
          <a:xfrm>
            <a:off x="3521160" y="1168560"/>
            <a:ext cx="1368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November 2009 to March 2010: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"/>
            </a:b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he Open Forum conducts Regional seminars in five regions across the globe to consult with CSO and other stakeholders and to prepare for the Open Forum proc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3"/>
          <p:cNvSpPr/>
          <p:nvPr/>
        </p:nvSpPr>
        <p:spPr>
          <a:xfrm>
            <a:off x="3521160" y="1792440"/>
            <a:ext cx="1396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March 2010: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Launch of the Open Forum National consultations across the glob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3"/>
          <p:cNvSpPr/>
          <p:nvPr/>
        </p:nvSpPr>
        <p:spPr>
          <a:xfrm>
            <a:off x="3521160" y="2063880"/>
            <a:ext cx="1396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September 2010: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First Open Forum Global Assembly  in Istanbul and endorsement of the Istanbul Principles for CSO Development Effectiveness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3"/>
          <p:cNvSpPr/>
          <p:nvPr/>
        </p:nvSpPr>
        <p:spPr>
          <a:xfrm>
            <a:off x="3521160" y="2506680"/>
            <a:ext cx="1396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2011: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Regional gatherings and thematic consultations will continue until Ju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AutoShape 36"/>
          <p:cNvCxnSpPr>
            <a:stCxn id="123" idx="3"/>
            <a:endCxn id="59" idx="1"/>
          </p:cNvCxnSpPr>
          <p:nvPr/>
        </p:nvCxnSpPr>
        <p:spPr>
          <a:xfrm flipV="1">
            <a:off x="4923000" y="1590480"/>
            <a:ext cx="1731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Text Box 164"/>
          <p:cNvSpPr/>
          <p:nvPr/>
        </p:nvSpPr>
        <p:spPr>
          <a:xfrm>
            <a:off x="77760" y="6222960"/>
            <a:ext cx="1569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OECD-DAC Working Party on Aid Effectiveness has 5 clusters and numerous work stream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AutoShape 38"/>
          <p:cNvCxnSpPr>
            <a:stCxn id="55" idx="3"/>
            <a:endCxn id="126" idx="1"/>
          </p:cNvCxnSpPr>
          <p:nvPr/>
        </p:nvCxnSpPr>
        <p:spPr>
          <a:xfrm flipV="1">
            <a:off x="1720800" y="6361560"/>
            <a:ext cx="311400" cy="720"/>
          </a:xfrm>
          <a:prstGeom prst="bentConnector3">
            <a:avLst>
              <a:gd name="adj1" fmla="val 5081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Text Box 157"/>
          <p:cNvSpPr/>
          <p:nvPr/>
        </p:nvSpPr>
        <p:spPr>
          <a:xfrm>
            <a:off x="2031840" y="626904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AutoShape 70"/>
          <p:cNvCxnSpPr>
            <a:stCxn id="71" idx="3"/>
            <a:endCxn id="54" idx="1"/>
          </p:cNvCxnSpPr>
          <p:nvPr/>
        </p:nvCxnSpPr>
        <p:spPr>
          <a:xfrm flipV="1">
            <a:off x="6535800" y="3278880"/>
            <a:ext cx="243360" cy="1298880"/>
          </a:xfrm>
          <a:prstGeom prst="bentConnector3">
            <a:avLst>
              <a:gd name="adj1" fmla="val 5007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AutoShape 70"/>
          <p:cNvCxnSpPr>
            <a:stCxn id="54" idx="3"/>
            <a:endCxn id="129" idx="1"/>
          </p:cNvCxnSpPr>
          <p:nvPr/>
        </p:nvCxnSpPr>
        <p:spPr>
          <a:xfrm flipV="1">
            <a:off x="8488440" y="3278520"/>
            <a:ext cx="181080" cy="720"/>
          </a:xfrm>
          <a:prstGeom prst="bentConnector3">
            <a:avLst>
              <a:gd name="adj1" fmla="val 5139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Text Box 46"/>
          <p:cNvSpPr/>
          <p:nvPr/>
        </p:nvSpPr>
        <p:spPr>
          <a:xfrm>
            <a:off x="5342040" y="3483000"/>
            <a:ext cx="952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000000"/>
                </a:solidFill>
                <a:latin typeface="Arial"/>
              </a:rPr>
              <a:t>Outcomes of the proc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70"/>
          <p:cNvCxnSpPr>
            <a:stCxn id="132" idx="3"/>
            <a:endCxn id="49" idx="1"/>
          </p:cNvCxnSpPr>
          <p:nvPr/>
        </p:nvCxnSpPr>
        <p:spPr>
          <a:xfrm flipV="1">
            <a:off x="6529320" y="5413320"/>
            <a:ext cx="24984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Text Box 146"/>
          <p:cNvSpPr/>
          <p:nvPr/>
        </p:nvSpPr>
        <p:spPr>
          <a:xfrm>
            <a:off x="6345360" y="532116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38"/>
          <p:cNvCxnSpPr>
            <a:stCxn id="134" idx="3"/>
            <a:endCxn id="135" idx="1"/>
          </p:cNvCxnSpPr>
          <p:nvPr/>
        </p:nvCxnSpPr>
        <p:spPr>
          <a:xfrm>
            <a:off x="2192400" y="3278520"/>
            <a:ext cx="184320" cy="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AutoShape 38"/>
          <p:cNvCxnSpPr>
            <a:stCxn id="137" idx="3"/>
            <a:endCxn id="56" idx="0"/>
          </p:cNvCxnSpPr>
          <p:nvPr/>
        </p:nvCxnSpPr>
        <p:spPr>
          <a:xfrm>
            <a:off x="4087800" y="3278520"/>
            <a:ext cx="109800" cy="1751040"/>
          </a:xfrm>
          <a:prstGeom prst="bentConnector4">
            <a:avLst>
              <a:gd name="adj1" fmla="val 207236"/>
              <a:gd name="adj2" fmla="val 5251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Text Box 146"/>
          <p:cNvSpPr/>
          <p:nvPr/>
        </p:nvSpPr>
        <p:spPr>
          <a:xfrm>
            <a:off x="2008080" y="318600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46"/>
          <p:cNvSpPr/>
          <p:nvPr/>
        </p:nvSpPr>
        <p:spPr>
          <a:xfrm>
            <a:off x="2376360" y="318600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AutoShape 38"/>
          <p:cNvCxnSpPr>
            <a:stCxn id="139" idx="3"/>
            <a:endCxn id="140" idx="1"/>
          </p:cNvCxnSpPr>
          <p:nvPr/>
        </p:nvCxnSpPr>
        <p:spPr>
          <a:xfrm>
            <a:off x="222120" y="3278520"/>
            <a:ext cx="178200" cy="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Text Box 146"/>
          <p:cNvSpPr/>
          <p:nvPr/>
        </p:nvSpPr>
        <p:spPr>
          <a:xfrm>
            <a:off x="38160" y="318600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46"/>
          <p:cNvSpPr/>
          <p:nvPr/>
        </p:nvSpPr>
        <p:spPr>
          <a:xfrm>
            <a:off x="399960" y="318600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AutoShape 38"/>
          <p:cNvCxnSpPr>
            <a:stCxn id="137" idx="3"/>
            <a:endCxn id="64" idx="2"/>
          </p:cNvCxnSpPr>
          <p:nvPr/>
        </p:nvCxnSpPr>
        <p:spPr>
          <a:xfrm flipV="1">
            <a:off x="4087800" y="2782800"/>
            <a:ext cx="109800" cy="4960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Text Box 146"/>
          <p:cNvSpPr/>
          <p:nvPr/>
        </p:nvSpPr>
        <p:spPr>
          <a:xfrm>
            <a:off x="5095800" y="535608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AutoShape 70"/>
          <p:cNvCxnSpPr>
            <a:stCxn id="49" idx="3"/>
            <a:endCxn id="50" idx="2"/>
          </p:cNvCxnSpPr>
          <p:nvPr/>
        </p:nvCxnSpPr>
        <p:spPr>
          <a:xfrm flipV="1">
            <a:off x="8488440" y="5068800"/>
            <a:ext cx="384480" cy="344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AutoShape 70"/>
          <p:cNvCxnSpPr>
            <a:stCxn id="144" idx="0"/>
            <a:endCxn id="50" idx="2"/>
          </p:cNvCxnSpPr>
          <p:nvPr/>
        </p:nvCxnSpPr>
        <p:spPr>
          <a:xfrm flipV="1">
            <a:off x="8872560" y="5068800"/>
            <a:ext cx="360" cy="921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Text Box 146"/>
          <p:cNvSpPr/>
          <p:nvPr/>
        </p:nvSpPr>
        <p:spPr>
          <a:xfrm>
            <a:off x="8780400" y="598968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6"/>
          <p:cNvSpPr/>
          <p:nvPr/>
        </p:nvSpPr>
        <p:spPr>
          <a:xfrm>
            <a:off x="8669160" y="318600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6"/>
          <p:cNvSpPr/>
          <p:nvPr/>
        </p:nvSpPr>
        <p:spPr>
          <a:xfrm>
            <a:off x="3903840" y="318600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AutoShape 38"/>
          <p:cNvCxnSpPr>
            <a:stCxn id="104" idx="2"/>
            <a:endCxn id="107" idx="0"/>
          </p:cNvCxnSpPr>
          <p:nvPr/>
        </p:nvCxnSpPr>
        <p:spPr>
          <a:xfrm>
            <a:off x="1290600" y="1282680"/>
            <a:ext cx="360" cy="116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AutoShape 38"/>
          <p:cNvCxnSpPr>
            <a:stCxn id="107" idx="2"/>
            <a:endCxn id="110" idx="0"/>
          </p:cNvCxnSpPr>
          <p:nvPr/>
        </p:nvCxnSpPr>
        <p:spPr>
          <a:xfrm>
            <a:off x="1290600" y="2365200"/>
            <a:ext cx="360" cy="116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AutoShape 38"/>
          <p:cNvCxnSpPr>
            <a:stCxn id="110" idx="2"/>
            <a:endCxn id="100" idx="0"/>
          </p:cNvCxnSpPr>
          <p:nvPr/>
        </p:nvCxnSpPr>
        <p:spPr>
          <a:xfrm>
            <a:off x="1290600" y="3382560"/>
            <a:ext cx="360" cy="116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AutoShape 38"/>
          <p:cNvCxnSpPr>
            <a:stCxn id="100" idx="2"/>
            <a:endCxn id="113" idx="0"/>
          </p:cNvCxnSpPr>
          <p:nvPr/>
        </p:nvCxnSpPr>
        <p:spPr>
          <a:xfrm>
            <a:off x="1290600" y="4189320"/>
            <a:ext cx="360" cy="116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AutoShape 38"/>
          <p:cNvCxnSpPr>
            <a:stCxn id="113" idx="2"/>
            <a:endCxn id="116" idx="0"/>
          </p:cNvCxnSpPr>
          <p:nvPr/>
        </p:nvCxnSpPr>
        <p:spPr>
          <a:xfrm>
            <a:off x="1290600" y="4914720"/>
            <a:ext cx="360" cy="116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Text Box 146"/>
          <p:cNvSpPr/>
          <p:nvPr/>
        </p:nvSpPr>
        <p:spPr>
          <a:xfrm>
            <a:off x="4738680" y="149868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0:24:52Z</dcterms:created>
  <dc:creator>mstraub</dc:creator>
  <dc:description/>
  <dc:language>en-US</dc:language>
  <cp:lastModifiedBy>Paola Simonetti</cp:lastModifiedBy>
  <dcterms:modified xsi:type="dcterms:W3CDTF">2010-11-12T12:06:55Z</dcterms:modified>
  <cp:revision>53</cp:revision>
  <dc:subject/>
  <dc:title>Slide 1</dc:title>
</cp:coreProperties>
</file>