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5"/>
          </p:nvPr>
        </p:nvSpPr>
        <p:spPr>
          <a:xfrm>
            <a:off x="3843360" y="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917640" y="774720"/>
            <a:ext cx="4951440" cy="371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03240" y="4719240"/>
            <a:ext cx="4975200" cy="44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6"/>
          </p:nvPr>
        </p:nvSpPr>
        <p:spPr>
          <a:xfrm>
            <a:off x="0" y="944100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7"/>
          </p:nvPr>
        </p:nvSpPr>
        <p:spPr>
          <a:xfrm>
            <a:off x="3843360" y="944100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7233A9-0112-4CE3-B11C-A4F57FA2DBC6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69357B-7194-4703-84CA-403B588BE6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DCA3CCB-6DF2-4362-9300-CD7123FE37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6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7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8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49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0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1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2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hat/human-rights/human-rights-defenders_en.htm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4687920" y="1760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900000" y="2276640"/>
            <a:ext cx="7086600" cy="2288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b1b6b"/>
                </a:solidFill>
                <a:latin typeface="Verdana"/>
              </a:rPr>
              <a:t>The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b1b6b"/>
                </a:solidFill>
                <a:latin typeface="Verdana"/>
              </a:rPr>
              <a:t>European Instrument for Democracy and Human Rights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1479240" y="19368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4932360" y="6308640"/>
            <a:ext cx="35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b1b6b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1b1b6b"/>
                </a:solidFill>
                <a:latin typeface="Arial"/>
              </a:rPr>
              <a:t>EuropeAid/F2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1656000" y="235080"/>
            <a:ext cx="593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Human Right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826920" y="119700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Objective 2 of the Strategy Paper (SP) 2007-2010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826920" y="1671480"/>
            <a:ext cx="734544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Strengthening the role of civil society in promoting human rights and democratic reform, in facilitating the peaceful conciliation of group interests and consolidating political participation and representa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=&gt; Country-based support schemes (CBSS)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=&gt; Transnational and transregional action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Allocation CBSS 2007-2010: approx. €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200 M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Allocation Transnational actions 2007-2010: € 30 M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66ff"/>
                </a:solidFill>
                <a:uFillTx/>
                <a:latin typeface="Arial"/>
              </a:rPr>
              <a:t>Calls for proposals to be launched by Delegations</a:t>
            </a:r>
            <a:r>
              <a:rPr b="1" lang="en-GB" sz="1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92 countries foreseen for 2010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Eligibility of applicants and scope of actions/specific </a:t>
            </a:r>
            <a:br>
              <a:rPr sz="1800"/>
            </a:b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objectives within strategic objective defined locall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1656000" y="235080"/>
            <a:ext cx="593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Human Right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755640" y="105264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Objective 3 of the Strategy Paper (SP) 2007-2010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:</a:t>
            </a: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611280" y="1484280"/>
            <a:ext cx="8532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Supporting actions on human rights and democracy </a:t>
            </a:r>
            <a:br>
              <a:rPr sz="2000"/>
            </a:b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issues on which EU Guidelines have been adopt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Allocation 2007-2010: approx. € 90 M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Human rights dialogue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Human rights defender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New call for proposals to be launched by HQ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first semester 2010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Same flexibility as objective 1 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840e02"/>
                </a:solidFill>
                <a:latin typeface="Arial"/>
              </a:rPr>
              <a:t>Info on support, including protection in urgent situations at: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c.europa.eu/europeaid/what/human-rights/human-rights-defenders_en.htm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Tor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Latest call f or proposals launched by HQ in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July 2009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Rehabilitation and prevention, integrated approach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Death penalty 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Children’s rights and children in armed conflict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1656000" y="235080"/>
            <a:ext cx="593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Human Right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684360" y="1557360"/>
            <a:ext cx="80643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Supporting and strengthening the internationa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and regional framework for the protection of human rights,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justice, the rule of law and the promotion of democracy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Allocation 2007-2010: approx. € 60 M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 Civil society support to ICC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Call for proposals launched by HQ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Nov. 2009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Global campaigns - € 4 million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 Regional HR&amp;D Masters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Call for proposals launched by HQ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Dec. 2009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Targeting different world regions - € 5 million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Targeted projects – IOs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Contributions to International Organisation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Project approach with </a:t>
            </a:r>
            <a:r>
              <a:rPr b="1" lang="fr-BE" sz="1800" spc="-1" strike="noStrike">
                <a:solidFill>
                  <a:srgbClr val="333399"/>
                </a:solidFill>
                <a:latin typeface="Arial"/>
              </a:rPr>
              <a:t>ICC, CoE, 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etc. </a:t>
            </a:r>
            <a:br>
              <a:rPr sz="1600"/>
            </a:b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Contribution to budget of </a:t>
            </a:r>
            <a:r>
              <a:rPr b="1" lang="fr-BE" sz="1800" spc="-1" strike="noStrike">
                <a:solidFill>
                  <a:srgbClr val="333399"/>
                </a:solidFill>
                <a:latin typeface="Arial"/>
              </a:rPr>
              <a:t>OHCHR 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(€ 4 M per year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826920" y="1125360"/>
            <a:ext cx="705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a1f1d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Objective 4 of the Strategy Paper (SP) 2007-2010: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1656000" y="235080"/>
            <a:ext cx="593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Human Right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2" name="Line 4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826920" y="1989000"/>
            <a:ext cx="768384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Building confidence in and enhancing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the reliability and transparency of democratic electoral  </a:t>
            </a:r>
            <a:br>
              <a:rPr sz="2000"/>
            </a:b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     processes,  in particular through election observa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Allocation 2007-2010: approx. € 130 M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826920" y="112536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Objective 5 of the Strategy Paper (SP) 2007-2010: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1406160" y="4221000"/>
            <a:ext cx="456804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333399"/>
                </a:solidFill>
                <a:latin typeface="Arial"/>
              </a:rPr>
              <a:t>EU Election Observation Missions mainly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656000" y="235080"/>
            <a:ext cx="593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Human Right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8" name="Line 4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76320" y="351324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900000" y="1484280"/>
            <a:ext cx="6985080" cy="48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a1f1d"/>
                </a:solidFill>
                <a:latin typeface="Arial"/>
              </a:rPr>
              <a:t>Eligibility of organisations – applicants and partner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a1f1d"/>
                </a:solidFill>
                <a:latin typeface="Arial"/>
              </a:rPr>
              <a:t>(Article 10 of the Regulation)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a1f1d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Specific to each call for proposals</a:t>
            </a:r>
            <a:br>
              <a:rPr sz="2000"/>
            </a:b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Civil society organisations (NGOs, independent </a:t>
            </a:r>
            <a:br>
              <a:rPr sz="2000"/>
            </a:b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 political foundations, private sector non-profit </a:t>
            </a:r>
            <a:br>
              <a:rPr sz="2000"/>
            </a:b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 agencies…)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Public sector non-profit agencies, institutions, …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Parliamentary bodies, when necessary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International inter-governmental organisation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Natural person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Funding of political parties is exclude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2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179280" y="1557360"/>
            <a:ext cx="381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Verdana"/>
              </a:rPr>
              <a:t>IMPLEMENTA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826920" y="2806560"/>
            <a:ext cx="8317080" cy="32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Verdana"/>
              </a:rPr>
              <a:t>More than 1500 projects ongoing by the end of 2009</a:t>
            </a:r>
            <a:br>
              <a:rPr sz="1600"/>
            </a:br>
            <a:r>
              <a:rPr b="1" lang="en-GB" sz="1600" spc="-1" strike="noStrike">
                <a:solidFill>
                  <a:srgbClr val="0066ff"/>
                </a:solidFill>
                <a:latin typeface="Verdana"/>
              </a:rPr>
              <a:t>(grants CSOs +joint management IOs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Verdana"/>
              </a:rPr>
              <a:t>2006 -  474 contracts signe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Verdana"/>
              </a:rPr>
              <a:t>2007 – 332 (mostly micro-projects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Verdana"/>
              </a:rPr>
              <a:t>2008 – 388 (of which 9 were targeted projects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Verdana"/>
              </a:rPr>
              <a:t>2009 – Approx. 430 signed by the end of 2009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2927160" y="141192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b1b6b"/>
                </a:solidFill>
                <a:latin typeface="Verdana"/>
              </a:rPr>
              <a:t>SOME FIGURES 2009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1269000" y="189000"/>
            <a:ext cx="60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The European Instrument/Initiative for Democracy an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8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1765080" y="18900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1619280" y="134136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b1b6b"/>
                </a:solidFill>
                <a:latin typeface="Verdana"/>
              </a:rPr>
              <a:t>CBSS in 2009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2286000" y="310824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755640" y="2394360"/>
            <a:ext cx="7561440" cy="29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2560" indent="-95256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More than 60 calls for proposals launched by Delegations in 2009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More than 2000 proposals received and assesse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66"/>
                </a:solidFill>
                <a:latin typeface="Verdana"/>
              </a:rPr>
              <a:t>More than 300 new local projects signed in 2009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77 country allocations in AAP 2009 and </a:t>
            </a:r>
            <a:br>
              <a:rPr sz="1800"/>
            </a:b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92 foreseen for AAP 2010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179280" y="1700280"/>
            <a:ext cx="381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Verdana"/>
              </a:rPr>
              <a:t>IMPLEMENTA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5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0" y="1700280"/>
            <a:ext cx="53964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I  M P  L  E M E N T A T   I  O 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1692360" y="39538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1633320" y="184320"/>
            <a:ext cx="535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Human Rights (EIDHR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69" name="Chart 2" descr=""/>
          <p:cNvPicPr/>
          <p:nvPr/>
        </p:nvPicPr>
        <p:blipFill>
          <a:blip r:embed="rId1"/>
          <a:stretch/>
        </p:blipFill>
        <p:spPr>
          <a:xfrm>
            <a:off x="682560" y="1122480"/>
            <a:ext cx="763920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0" y="1700280"/>
            <a:ext cx="53964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I  M P  L  E M E N T A T   I  O 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1692360" y="2581920"/>
            <a:ext cx="655308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I: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Overview of EIDHR implementation 2000-2006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II. 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Overview of EIDHR implementation 2007-April 2009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III: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Present situa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IV: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 More Information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3570480" y="14119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b1b6b"/>
                </a:solidFill>
                <a:latin typeface="Verdana"/>
              </a:rPr>
              <a:t>INDEX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1633320" y="184320"/>
            <a:ext cx="535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Human Rights (EIDHR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76" name="Graphique 4" descr=""/>
          <p:cNvPicPr/>
          <p:nvPr/>
        </p:nvPicPr>
        <p:blipFill>
          <a:blip r:embed="rId1"/>
          <a:stretch/>
        </p:blipFill>
        <p:spPr>
          <a:xfrm>
            <a:off x="914400" y="1414440"/>
            <a:ext cx="7381800" cy="4754520"/>
          </a:xfrm>
          <a:prstGeom prst="rect">
            <a:avLst/>
          </a:prstGeom>
          <a:ln w="0">
            <a:noFill/>
          </a:ln>
        </p:spPr>
      </p:pic>
      <p:pic>
        <p:nvPicPr>
          <p:cNvPr id="277" name="Chart 2" descr=""/>
          <p:cNvPicPr/>
          <p:nvPr/>
        </p:nvPicPr>
        <p:blipFill>
          <a:blip r:embed="rId2"/>
          <a:stretch/>
        </p:blipFill>
        <p:spPr>
          <a:xfrm>
            <a:off x="689040" y="1268280"/>
            <a:ext cx="7723080" cy="53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76320" y="2131920"/>
            <a:ext cx="457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Verdana"/>
              </a:rPr>
              <a:t>INFORMA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9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0" name="Line 5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2743200" y="1692720"/>
            <a:ext cx="39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b1b6b"/>
                </a:solidFill>
                <a:latin typeface="Verdana"/>
              </a:rPr>
              <a:t>More Information</a:t>
            </a:r>
            <a:r>
              <a:rPr b="0" lang="en-GB" sz="2400" spc="-1" strike="noStrike">
                <a:solidFill>
                  <a:srgbClr val="1b1b6b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716040" y="2276640"/>
            <a:ext cx="780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http://ec.europa.eu/europeaid/what/human-rights/index_en.htm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755640" y="2968560"/>
            <a:ext cx="820908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40e02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840e02"/>
                </a:solidFill>
                <a:latin typeface="Verdana"/>
              </a:rPr>
              <a:t>Compendia</a:t>
            </a:r>
            <a:r>
              <a:rPr b="0" lang="en-GB" sz="2400" spc="-1" strike="noStrike">
                <a:solidFill>
                  <a:srgbClr val="1b1b6b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http://ec.europa.eu/europeaid/what/human-rights/projects_en.htm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40e02"/>
                </a:solidFill>
                <a:latin typeface="Arial"/>
              </a:rPr>
              <a:t>Calls for Proposals (new site):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http://ec.europa.eu/europeaid/work/funding/index_en.htm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40e02"/>
                </a:solidFill>
                <a:latin typeface="Arial"/>
              </a:rPr>
              <a:t>Support to Human Rights Defenders: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http://ec.europa.eu/europeaid/what/human-rights/human-rights-defenders_en.htm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4" name="Rectangle 10"/>
          <p:cNvSpPr/>
          <p:nvPr/>
        </p:nvSpPr>
        <p:spPr>
          <a:xfrm>
            <a:off x="1765080" y="18900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52280" y="2819520"/>
            <a:ext cx="381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692360" y="2924280"/>
            <a:ext cx="655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I: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Introduc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II. 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Project cycl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III: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Implementation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IV:</a:t>
            </a:r>
            <a:r>
              <a:rPr b="1" lang="en-GB" sz="18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000cc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More Informa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3570480" y="14119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b1b6b"/>
                </a:solidFill>
                <a:latin typeface="Verdana"/>
              </a:rPr>
              <a:t>INDEX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1765080" y="18900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1833120" y="235080"/>
            <a:ext cx="561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Overview of the new financial instrument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 rot="16200000">
            <a:off x="4304160" y="-1775520"/>
            <a:ext cx="463680" cy="7272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 rot="16200000">
            <a:off x="4126320" y="-1598760"/>
            <a:ext cx="454680" cy="70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strument for Stabilit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2843280" y="5445000"/>
            <a:ext cx="223920" cy="20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3203640" y="5373720"/>
            <a:ext cx="443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eographical instrument with a specific legal basis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2843280" y="5734080"/>
            <a:ext cx="223920" cy="200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203640" y="5661000"/>
            <a:ext cx="443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rizontal instrument with a specific legal basis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2843280" y="5967360"/>
            <a:ext cx="223920" cy="198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3203640" y="5950080"/>
            <a:ext cx="443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atic programme included in DCI legal basis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124" name="Group 13"/>
          <p:cNvGrpSpPr/>
          <p:nvPr/>
        </p:nvGrpSpPr>
        <p:grpSpPr>
          <a:xfrm>
            <a:off x="900000" y="1125000"/>
            <a:ext cx="7272000" cy="454680"/>
            <a:chOff x="900000" y="1125000"/>
            <a:chExt cx="7272000" cy="454680"/>
          </a:xfrm>
        </p:grpSpPr>
        <p:sp>
          <p:nvSpPr>
            <p:cNvPr id="125" name="Rectangle 14"/>
            <p:cNvSpPr/>
            <p:nvPr/>
          </p:nvSpPr>
          <p:spPr>
            <a:xfrm rot="16200000">
              <a:off x="4318920" y="-2284560"/>
              <a:ext cx="434160" cy="72720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26" name="Text Box 15"/>
            <p:cNvSpPr/>
            <p:nvPr/>
          </p:nvSpPr>
          <p:spPr>
            <a:xfrm rot="16200000">
              <a:off x="4351680" y="-2240280"/>
              <a:ext cx="454680" cy="71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uropean Instrument for Democracy and Human Rights </a:t>
              </a: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900000" y="2276640"/>
            <a:ext cx="7343280" cy="3097080"/>
            <a:chOff x="900000" y="2276640"/>
            <a:chExt cx="7343280" cy="3097080"/>
          </a:xfrm>
        </p:grpSpPr>
        <p:grpSp>
          <p:nvGrpSpPr>
            <p:cNvPr id="128" name="Group 17"/>
            <p:cNvGrpSpPr/>
            <p:nvPr/>
          </p:nvGrpSpPr>
          <p:grpSpPr>
            <a:xfrm>
              <a:off x="900000" y="2276640"/>
              <a:ext cx="7343280" cy="3097080"/>
              <a:chOff x="900000" y="2276640"/>
              <a:chExt cx="7343280" cy="3097080"/>
            </a:xfrm>
          </p:grpSpPr>
          <p:sp>
            <p:nvSpPr>
              <p:cNvPr id="129" name="Rectangle 18"/>
              <p:cNvSpPr/>
              <p:nvPr/>
            </p:nvSpPr>
            <p:spPr>
              <a:xfrm>
                <a:off x="900000" y="2276640"/>
                <a:ext cx="574560" cy="3097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grpSp>
            <p:nvGrpSpPr>
              <p:cNvPr id="130" name="Group 19"/>
              <p:cNvGrpSpPr/>
              <p:nvPr/>
            </p:nvGrpSpPr>
            <p:grpSpPr>
              <a:xfrm>
                <a:off x="1834920" y="2421000"/>
                <a:ext cx="6408360" cy="2816280"/>
                <a:chOff x="1834920" y="2421000"/>
                <a:chExt cx="6408360" cy="2816280"/>
              </a:xfrm>
            </p:grpSpPr>
            <p:sp>
              <p:nvSpPr>
                <p:cNvPr id="131" name="Rectangle 20"/>
                <p:cNvSpPr/>
                <p:nvPr/>
              </p:nvSpPr>
              <p:spPr>
                <a:xfrm>
                  <a:off x="1834920" y="4725360"/>
                  <a:ext cx="6408360" cy="504720"/>
                </a:xfrm>
                <a:prstGeom prst="rect">
                  <a:avLst/>
                </a:prstGeom>
                <a:solidFill>
                  <a:srgbClr val="3d22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8080"/>
                    </a:solidFill>
                    <a:latin typeface="Arial"/>
                  </a:endParaRPr>
                </a:p>
              </p:txBody>
            </p:sp>
            <p:sp>
              <p:nvSpPr>
                <p:cNvPr id="132" name="Rectangle 21"/>
                <p:cNvSpPr/>
                <p:nvPr/>
              </p:nvSpPr>
              <p:spPr>
                <a:xfrm>
                  <a:off x="1834920" y="4149360"/>
                  <a:ext cx="6408360" cy="504360"/>
                </a:xfrm>
                <a:prstGeom prst="rect">
                  <a:avLst/>
                </a:prstGeom>
                <a:solidFill>
                  <a:srgbClr val="3d22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8080"/>
                    </a:solidFill>
                    <a:latin typeface="Arial"/>
                  </a:endParaRPr>
                </a:p>
              </p:txBody>
            </p:sp>
            <p:sp>
              <p:nvSpPr>
                <p:cNvPr id="133" name="Text Box 22"/>
                <p:cNvSpPr/>
                <p:nvPr/>
              </p:nvSpPr>
              <p:spPr>
                <a:xfrm rot="16200000">
                  <a:off x="5187960" y="2256840"/>
                  <a:ext cx="454680" cy="550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Non-State Actors and Local Authorities</a:t>
                  </a:r>
                  <a:endParaRPr b="0" lang="en-US" sz="1800" spc="-1" strike="noStrike">
                    <a:solidFill>
                      <a:srgbClr val="808080"/>
                    </a:solidFill>
                    <a:latin typeface="Arial"/>
                  </a:endParaRPr>
                </a:p>
              </p:txBody>
            </p:sp>
            <p:sp>
              <p:nvSpPr>
                <p:cNvPr id="134" name="Text Box 23"/>
                <p:cNvSpPr/>
                <p:nvPr/>
              </p:nvSpPr>
              <p:spPr>
                <a:xfrm rot="16200000">
                  <a:off x="6698160" y="3203280"/>
                  <a:ext cx="454680" cy="248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Food Security</a:t>
                  </a:r>
                  <a:endParaRPr b="0" lang="en-US" sz="1800" spc="-1" strike="noStrike">
                    <a:solidFill>
                      <a:srgbClr val="808080"/>
                    </a:solidFill>
                    <a:latin typeface="Arial"/>
                  </a:endParaRPr>
                </a:p>
              </p:txBody>
            </p:sp>
            <p:sp>
              <p:nvSpPr>
                <p:cNvPr id="135" name="Rectangle 24"/>
                <p:cNvSpPr/>
                <p:nvPr/>
              </p:nvSpPr>
              <p:spPr>
                <a:xfrm>
                  <a:off x="1834920" y="3574800"/>
                  <a:ext cx="6408360" cy="504720"/>
                </a:xfrm>
                <a:prstGeom prst="rect">
                  <a:avLst/>
                </a:prstGeom>
                <a:solidFill>
                  <a:srgbClr val="3d22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8080"/>
                    </a:solidFill>
                    <a:latin typeface="Arial"/>
                  </a:endParaRPr>
                </a:p>
              </p:txBody>
            </p:sp>
            <p:sp>
              <p:nvSpPr>
                <p:cNvPr id="136" name="Text Box 25"/>
                <p:cNvSpPr/>
                <p:nvPr/>
              </p:nvSpPr>
              <p:spPr>
                <a:xfrm rot="16200000">
                  <a:off x="5558040" y="1442520"/>
                  <a:ext cx="454680" cy="47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Environment and Natural Resources</a:t>
                  </a:r>
                  <a:endParaRPr b="0" lang="en-US" sz="1800" spc="-1" strike="noStrike">
                    <a:solidFill>
                      <a:srgbClr val="80808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26"/>
                <p:cNvSpPr/>
                <p:nvPr/>
              </p:nvSpPr>
              <p:spPr>
                <a:xfrm>
                  <a:off x="1834920" y="2998800"/>
                  <a:ext cx="6408360" cy="504360"/>
                </a:xfrm>
                <a:prstGeom prst="rect">
                  <a:avLst/>
                </a:prstGeom>
                <a:solidFill>
                  <a:srgbClr val="3d22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8080"/>
                    </a:solidFill>
                    <a:latin typeface="Arial"/>
                  </a:endParaRPr>
                </a:p>
              </p:txBody>
            </p:sp>
            <p:sp>
              <p:nvSpPr>
                <p:cNvPr id="138" name="Text Box 27"/>
                <p:cNvSpPr/>
                <p:nvPr/>
              </p:nvSpPr>
              <p:spPr>
                <a:xfrm rot="16200000">
                  <a:off x="5558040" y="866160"/>
                  <a:ext cx="454680" cy="47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Migration and Asylum</a:t>
                  </a:r>
                  <a:endParaRPr b="0" lang="en-US" sz="1800" spc="-1" strike="noStrike">
                    <a:solidFill>
                      <a:srgbClr val="808080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28"/>
                <p:cNvSpPr/>
                <p:nvPr/>
              </p:nvSpPr>
              <p:spPr>
                <a:xfrm>
                  <a:off x="1834920" y="2421000"/>
                  <a:ext cx="6408360" cy="504720"/>
                </a:xfrm>
                <a:prstGeom prst="rect">
                  <a:avLst/>
                </a:prstGeom>
                <a:solidFill>
                  <a:srgbClr val="3d22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8080"/>
                    </a:solidFill>
                    <a:latin typeface="Arial"/>
                  </a:endParaRPr>
                </a:p>
              </p:txBody>
            </p:sp>
            <p:sp>
              <p:nvSpPr>
                <p:cNvPr id="140" name="Text Box 29"/>
                <p:cNvSpPr/>
                <p:nvPr/>
              </p:nvSpPr>
              <p:spPr>
                <a:xfrm rot="16200000">
                  <a:off x="5558040" y="288360"/>
                  <a:ext cx="454680" cy="47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Investing in People</a:t>
                  </a:r>
                  <a:endParaRPr b="0" lang="en-US" sz="1800" spc="-1" strike="noStrike">
                    <a:solidFill>
                      <a:srgbClr val="80808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" name="Rectangle 30"/>
              <p:cNvSpPr/>
              <p:nvPr/>
            </p:nvSpPr>
            <p:spPr>
              <a:xfrm>
                <a:off x="2052360" y="2276640"/>
                <a:ext cx="574920" cy="3097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42" name="Rectangle 31"/>
              <p:cNvSpPr/>
              <p:nvPr/>
            </p:nvSpPr>
            <p:spPr>
              <a:xfrm>
                <a:off x="2771640" y="2276640"/>
                <a:ext cx="574560" cy="3097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43" name="Rectangle 32"/>
              <p:cNvSpPr/>
              <p:nvPr/>
            </p:nvSpPr>
            <p:spPr>
              <a:xfrm>
                <a:off x="3492360" y="2276640"/>
                <a:ext cx="574560" cy="3097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  <p:sp>
          <p:nvSpPr>
            <p:cNvPr id="144" name="Text Box 33"/>
            <p:cNvSpPr/>
            <p:nvPr/>
          </p:nvSpPr>
          <p:spPr>
            <a:xfrm>
              <a:off x="948600" y="2421000"/>
              <a:ext cx="45468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PA</a:t>
              </a: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45" name="Text Box 34"/>
            <p:cNvSpPr/>
            <p:nvPr/>
          </p:nvSpPr>
          <p:spPr>
            <a:xfrm>
              <a:off x="2100960" y="2421000"/>
              <a:ext cx="45468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F</a:t>
              </a: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46" name="Text Box 35"/>
            <p:cNvSpPr/>
            <p:nvPr/>
          </p:nvSpPr>
          <p:spPr>
            <a:xfrm>
              <a:off x="2820240" y="2421000"/>
              <a:ext cx="45468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PI</a:t>
              </a: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47" name="Text Box 36"/>
            <p:cNvSpPr/>
            <p:nvPr/>
          </p:nvSpPr>
          <p:spPr>
            <a:xfrm>
              <a:off x="3540960" y="2421000"/>
              <a:ext cx="45468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I</a:t>
              </a: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9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79280" y="1844640"/>
            <a:ext cx="381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1765080" y="18900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0" y="0"/>
            <a:ext cx="8109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971640" y="2133720"/>
            <a:ext cx="7705800" cy="35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Legal base: EIDHR Regulation (EC) 1889/2006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Size (without Election Observation):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pprox.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€ 450 million</a:t>
            </a:r>
            <a:br>
              <a:rPr sz="1800"/>
            </a:b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 for 2007-2010, approx. € 111 million foreseen in 2010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Characteristics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: Financing instrument for the promotion of democracy and human rights through the support to civil society and to victims of human rights abuses and through existing international framework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Coverage: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orldwid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1187280" y="1413000"/>
            <a:ext cx="59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840e0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40e02"/>
                </a:solidFill>
                <a:latin typeface="Verdana"/>
              </a:rPr>
              <a:t>‘</a:t>
            </a:r>
            <a:r>
              <a:rPr b="1" lang="en-GB" sz="2000" spc="-1" strike="noStrike">
                <a:solidFill>
                  <a:srgbClr val="840e02"/>
                </a:solidFill>
                <a:latin typeface="Verdana"/>
              </a:rPr>
              <a:t>Identity Card’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179280" y="1773360"/>
            <a:ext cx="381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79280" y="1844640"/>
            <a:ext cx="3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1765080" y="18900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160" name="Diagram 11"/>
          <p:cNvGrpSpPr/>
          <p:nvPr/>
        </p:nvGrpSpPr>
        <p:grpSpPr>
          <a:xfrm>
            <a:off x="1374840" y="2215800"/>
            <a:ext cx="6466680" cy="4182840"/>
            <a:chOff x="1374840" y="2215800"/>
            <a:chExt cx="6466680" cy="4182840"/>
          </a:xfrm>
        </p:grpSpPr>
        <p:sp>
          <p:nvSpPr>
            <p:cNvPr id="161" name="_s1028"/>
            <p:cNvSpPr/>
            <p:nvPr/>
          </p:nvSpPr>
          <p:spPr>
            <a:xfrm flipH="1" flipV="1">
              <a:off x="3050640" y="3782160"/>
              <a:ext cx="785520" cy="26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62" name="_s1029"/>
            <p:cNvSpPr/>
            <p:nvPr/>
          </p:nvSpPr>
          <p:spPr>
            <a:xfrm>
              <a:off x="1374840" y="3000600"/>
              <a:ext cx="1794240" cy="1045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9999"/>
                  </a:solidFill>
                  <a:latin typeface="Arial"/>
                  <a:ea typeface="Arial"/>
                </a:rPr>
                <a:t>Independent / </a:t>
              </a:r>
              <a:br>
                <a:rPr sz="1300"/>
              </a:br>
              <a:r>
                <a:rPr b="1" lang="en-US" sz="1300" spc="-1" strike="noStrike">
                  <a:solidFill>
                    <a:srgbClr val="009999"/>
                  </a:solidFill>
                  <a:latin typeface="Arial"/>
                  <a:ea typeface="Arial"/>
                </a:rPr>
                <a:t>civil society</a:t>
              </a:r>
              <a:endParaRPr b="0" lang="en-US" sz="13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63" name="_s1030"/>
            <p:cNvSpPr/>
            <p:nvPr/>
          </p:nvSpPr>
          <p:spPr>
            <a:xfrm flipH="1">
              <a:off x="3050640" y="4565520"/>
              <a:ext cx="78552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64" name="_s1031"/>
            <p:cNvSpPr/>
            <p:nvPr/>
          </p:nvSpPr>
          <p:spPr>
            <a:xfrm>
              <a:off x="1377360" y="4570920"/>
              <a:ext cx="1794240" cy="10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66ff"/>
                  </a:solidFill>
                  <a:latin typeface="Arial"/>
                  <a:ea typeface="Arial"/>
                </a:rPr>
                <a:t>CBSS</a:t>
              </a:r>
              <a:endParaRPr b="0" lang="en-US" sz="13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65" name="_s1032"/>
            <p:cNvSpPr/>
            <p:nvPr/>
          </p:nvSpPr>
          <p:spPr>
            <a:xfrm>
              <a:off x="4606920" y="4825440"/>
              <a:ext cx="0" cy="52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66" name="_s1033"/>
            <p:cNvSpPr/>
            <p:nvPr/>
          </p:nvSpPr>
          <p:spPr>
            <a:xfrm>
              <a:off x="3714120" y="5353920"/>
              <a:ext cx="1794240" cy="10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40e02"/>
                  </a:solidFill>
                  <a:latin typeface="Arial"/>
                  <a:ea typeface="Arial"/>
                </a:rPr>
                <a:t>Worldwide</a:t>
              </a:r>
              <a:endParaRPr b="0" lang="en-US" sz="13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67" name="_s1034"/>
            <p:cNvSpPr/>
            <p:nvPr/>
          </p:nvSpPr>
          <p:spPr>
            <a:xfrm>
              <a:off x="5380200" y="4565520"/>
              <a:ext cx="78264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68" name="_s1035"/>
            <p:cNvSpPr/>
            <p:nvPr/>
          </p:nvSpPr>
          <p:spPr>
            <a:xfrm>
              <a:off x="6047280" y="4567320"/>
              <a:ext cx="1794240" cy="10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9999"/>
                  </a:solidFill>
                  <a:latin typeface="Arial"/>
                  <a:ea typeface="Arial"/>
                </a:rPr>
                <a:t>Sensitive and risky</a:t>
              </a:r>
              <a:endParaRPr b="0" lang="en-US" sz="13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69" name="_s1036"/>
            <p:cNvSpPr/>
            <p:nvPr/>
          </p:nvSpPr>
          <p:spPr>
            <a:xfrm flipV="1">
              <a:off x="5380200" y="3782160"/>
              <a:ext cx="78264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70" name="_s1037"/>
            <p:cNvSpPr/>
            <p:nvPr/>
          </p:nvSpPr>
          <p:spPr>
            <a:xfrm>
              <a:off x="6044400" y="2999160"/>
              <a:ext cx="1794240" cy="10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66ff"/>
                  </a:solidFill>
                  <a:latin typeface="Arial"/>
                  <a:ea typeface="Arial"/>
                </a:rPr>
                <a:t>Flexible</a:t>
              </a:r>
              <a:br>
                <a:rPr sz="1300"/>
              </a:br>
              <a:r>
                <a:rPr b="1" lang="en-US" sz="1300" spc="-1" strike="noStrike">
                  <a:solidFill>
                    <a:srgbClr val="0066ff"/>
                  </a:solidFill>
                  <a:latin typeface="Arial"/>
                  <a:ea typeface="Arial"/>
                </a:rPr>
                <a:t> and innovative</a:t>
              </a:r>
              <a:endParaRPr b="0" lang="en-US" sz="13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71" name="_s1038"/>
            <p:cNvSpPr/>
            <p:nvPr/>
          </p:nvSpPr>
          <p:spPr>
            <a:xfrm flipV="1">
              <a:off x="4606920" y="3259080"/>
              <a:ext cx="0" cy="52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72" name="_s1039"/>
            <p:cNvSpPr/>
            <p:nvPr/>
          </p:nvSpPr>
          <p:spPr>
            <a:xfrm>
              <a:off x="3710520" y="2215800"/>
              <a:ext cx="1794960" cy="10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0000"/>
                  </a:solidFill>
                  <a:latin typeface="Arial"/>
                  <a:ea typeface="Arial"/>
                </a:rPr>
                <a:t>Complementary</a:t>
              </a:r>
              <a:endParaRPr b="0" lang="en-US" sz="13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73" name="_s1040"/>
            <p:cNvSpPr/>
            <p:nvPr/>
          </p:nvSpPr>
          <p:spPr>
            <a:xfrm>
              <a:off x="3710520" y="3785760"/>
              <a:ext cx="1794960" cy="10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EIDHR</a:t>
              </a: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174" name="Text Box 26"/>
          <p:cNvSpPr/>
          <p:nvPr/>
        </p:nvSpPr>
        <p:spPr>
          <a:xfrm>
            <a:off x="755640" y="126828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840e02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40e02"/>
                </a:solidFill>
                <a:latin typeface="Verdana"/>
              </a:rPr>
              <a:t>Key Words </a:t>
            </a:r>
            <a:br>
              <a:rPr sz="2000"/>
            </a:br>
            <a:r>
              <a:rPr b="1" lang="en-GB" sz="2000" spc="-1" strike="noStrike">
                <a:solidFill>
                  <a:srgbClr val="840e0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179280" y="1773360"/>
            <a:ext cx="381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79280" y="1773360"/>
            <a:ext cx="381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765080" y="18900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5370480" cy="2759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7"/>
          <p:cNvSpPr/>
          <p:nvPr/>
        </p:nvSpPr>
        <p:spPr>
          <a:xfrm>
            <a:off x="1476360" y="443700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3780000" y="162864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800000"/>
                </a:solidFill>
                <a:latin typeface="Arial"/>
              </a:rPr>
              <a:t>EIDHR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1908000" y="213372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litical dialogu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1692360" y="4292640"/>
            <a:ext cx="23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ther instruments,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ographical an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matic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6084720" y="1773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plomatic demarch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5724360" y="393372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S + Other donor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1908000" y="5589720"/>
            <a:ext cx="60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40e02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840e02"/>
                </a:solidFill>
                <a:latin typeface="Arial"/>
              </a:rPr>
              <a:t>COMPLEMENTARY” 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9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52280" y="2819520"/>
            <a:ext cx="381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1765080" y="18900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1116000" y="1557360"/>
            <a:ext cx="7559640" cy="52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40e02"/>
                </a:solidFill>
                <a:latin typeface="Arial"/>
              </a:rPr>
              <a:t>Some other key issues under EIDHR: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-    Informal partner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-    Re-granting</a:t>
            </a: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-    Call for proposals permanently opened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-    Support to Human Rights Defenders in urgent situation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-    Giving space to the initiative of civil societ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      </a:t>
            </a: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vs. need to be specific/strategic to achieve impac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-    Special attention to confidentiality and securit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79280" y="1557360"/>
            <a:ext cx="381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Verdana"/>
              </a:rPr>
              <a:t>IMPLEMENTA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663560" y="193680"/>
            <a:ext cx="508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6112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0" y="1847880"/>
            <a:ext cx="45720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Verdana"/>
              </a:rPr>
              <a:t>PROJECT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Verdana"/>
              </a:rPr>
              <a:t>CYCL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198" name="Group 6"/>
          <p:cNvGrpSpPr/>
          <p:nvPr/>
        </p:nvGrpSpPr>
        <p:grpSpPr>
          <a:xfrm>
            <a:off x="900000" y="2060640"/>
            <a:ext cx="7238880" cy="4232160"/>
            <a:chOff x="900000" y="2060640"/>
            <a:chExt cx="7238880" cy="4232160"/>
          </a:xfrm>
        </p:grpSpPr>
        <p:sp>
          <p:nvSpPr>
            <p:cNvPr id="199" name="Rectangle 7"/>
            <p:cNvSpPr/>
            <p:nvPr/>
          </p:nvSpPr>
          <p:spPr>
            <a:xfrm>
              <a:off x="3643200" y="2060640"/>
              <a:ext cx="1981080" cy="455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Multi-annual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strategy paper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0" name="Line 8"/>
            <p:cNvSpPr/>
            <p:nvPr/>
          </p:nvSpPr>
          <p:spPr>
            <a:xfrm flipV="1">
              <a:off x="2377440" y="2175120"/>
              <a:ext cx="1007280" cy="68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1" name="Rectangle 9"/>
            <p:cNvSpPr/>
            <p:nvPr/>
          </p:nvSpPr>
          <p:spPr>
            <a:xfrm>
              <a:off x="900000" y="3166920"/>
              <a:ext cx="1981080" cy="45576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Evaluation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2" name="Rectangle 10"/>
            <p:cNvSpPr/>
            <p:nvPr/>
          </p:nvSpPr>
          <p:spPr>
            <a:xfrm>
              <a:off x="900000" y="4730760"/>
              <a:ext cx="1981080" cy="4554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Contracts, follow-up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&amp; payment</a:t>
              </a: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3" name="Rectangle 11"/>
            <p:cNvSpPr/>
            <p:nvPr/>
          </p:nvSpPr>
          <p:spPr>
            <a:xfrm>
              <a:off x="6233760" y="4730760"/>
              <a:ext cx="1905120" cy="4554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Calls for 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Proposals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4" name="Rectangle 12"/>
            <p:cNvSpPr/>
            <p:nvPr/>
          </p:nvSpPr>
          <p:spPr>
            <a:xfrm>
              <a:off x="6233760" y="3166920"/>
              <a:ext cx="1905120" cy="4557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Annual Action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5" name="Rectangle 13"/>
            <p:cNvSpPr/>
            <p:nvPr/>
          </p:nvSpPr>
          <p:spPr>
            <a:xfrm>
              <a:off x="3566880" y="5837040"/>
              <a:ext cx="1905120" cy="4557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Assessment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&amp; selection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6" name="Line 14"/>
            <p:cNvSpPr/>
            <p:nvPr/>
          </p:nvSpPr>
          <p:spPr>
            <a:xfrm>
              <a:off x="6919560" y="3660840"/>
              <a:ext cx="1800" cy="84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7" name="Line 15"/>
            <p:cNvSpPr/>
            <p:nvPr/>
          </p:nvSpPr>
          <p:spPr>
            <a:xfrm flipV="1">
              <a:off x="2195280" y="366084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8" name="Line 16"/>
            <p:cNvSpPr/>
            <p:nvPr/>
          </p:nvSpPr>
          <p:spPr>
            <a:xfrm flipV="1">
              <a:off x="5730120" y="5233680"/>
              <a:ext cx="1007280" cy="687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9" name="Line 17"/>
            <p:cNvSpPr/>
            <p:nvPr/>
          </p:nvSpPr>
          <p:spPr>
            <a:xfrm flipH="1" flipV="1">
              <a:off x="2359080" y="5263200"/>
              <a:ext cx="1044000" cy="62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10" name="Line 18"/>
            <p:cNvSpPr/>
            <p:nvPr/>
          </p:nvSpPr>
          <p:spPr>
            <a:xfrm>
              <a:off x="5904360" y="2144880"/>
              <a:ext cx="963360" cy="74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211" name="Text Box 19"/>
          <p:cNvSpPr/>
          <p:nvPr/>
        </p:nvSpPr>
        <p:spPr>
          <a:xfrm>
            <a:off x="6732720" y="2349360"/>
            <a:ext cx="1800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EuropeAid HQ in charge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3708360" y="155736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3300"/>
                </a:solidFill>
                <a:latin typeface="Arial"/>
              </a:rPr>
              <a:t>DG RELEX  in charge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3" name="Text Box 21"/>
          <p:cNvSpPr/>
          <p:nvPr/>
        </p:nvSpPr>
        <p:spPr>
          <a:xfrm>
            <a:off x="826920" y="422100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a50021"/>
                </a:solidFill>
                <a:latin typeface="Arial"/>
              </a:rPr>
              <a:t>Delegation mostly in charge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4" name="Text Box 22"/>
          <p:cNvSpPr/>
          <p:nvPr/>
        </p:nvSpPr>
        <p:spPr>
          <a:xfrm>
            <a:off x="5940360" y="4076640"/>
            <a:ext cx="32036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EuropeAid HQ in charge – Global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a50021"/>
                </a:solidFill>
                <a:latin typeface="Arial"/>
              </a:rPr>
              <a:t>Delegations in charge – CBSS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5" name="Text Box 23"/>
          <p:cNvSpPr/>
          <p:nvPr/>
        </p:nvSpPr>
        <p:spPr>
          <a:xfrm>
            <a:off x="3276720" y="638172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Contributions: RELEX &amp; DEV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324000" y="2349360"/>
            <a:ext cx="259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HQ/Delegation/partners :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shared responsibility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7" name="Text Box 25"/>
          <p:cNvSpPr/>
          <p:nvPr/>
        </p:nvSpPr>
        <p:spPr>
          <a:xfrm>
            <a:off x="6300720" y="530064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Contributions: RELEX &amp; DEV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8" name="Text Box 26"/>
          <p:cNvSpPr/>
          <p:nvPr/>
        </p:nvSpPr>
        <p:spPr>
          <a:xfrm>
            <a:off x="3564000" y="5157720"/>
            <a:ext cx="2232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EuropeAid HQ and/or Delegations  in charge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9" name="Rectangle 27"/>
          <p:cNvSpPr/>
          <p:nvPr/>
        </p:nvSpPr>
        <p:spPr>
          <a:xfrm>
            <a:off x="1476360" y="1341360"/>
            <a:ext cx="417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1656000" y="235080"/>
            <a:ext cx="593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Human Right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2" name="Line 4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900000" y="126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Objective 1 of the Strategy Paper (SP) 2007-2010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755640" y="1844640"/>
            <a:ext cx="7345440" cy="58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Enhancing respect for human rights and fundamental freedoms in countries and regions where they are most at risk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Allocation 2007-2010: approx. €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60 M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 u="sng">
                <a:solidFill>
                  <a:srgbClr val="0066ff"/>
                </a:solidFill>
                <a:uFillTx/>
                <a:latin typeface="Arial"/>
              </a:rPr>
              <a:t>Call for proposals launched by HQ and permanently opened</a:t>
            </a:r>
            <a:endParaRPr b="0" lang="en-US" sz="19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Two deadlines per year for selection of received proposals – latest 30 October 2009 and next 30 April 2010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No list of countries/regions – pertinence to be justified by applicant on the bases of independent external indicators and/or report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No national or geographical restrictions for activities and/or organisation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Re-granting possible as well as reimbursement of incurred expenditure by organisations without legal entit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Special attention to confidentiality and securit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4:28:50Z</dcterms:created>
  <dc:creator>newmajo</dc:creator>
  <dc:description/>
  <dc:language>en-US</dc:language>
  <cp:lastModifiedBy>Mamadou Diallo</cp:lastModifiedBy>
  <cp:lastPrinted>2006-01-29T19:49:04Z</cp:lastPrinted>
  <dcterms:modified xsi:type="dcterms:W3CDTF">2010-03-02T14:02:08Z</dcterms:modified>
  <cp:revision>821</cp:revision>
  <dc:subject/>
  <dc:title>No Slide Title</dc:title>
</cp:coreProperties>
</file>