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5"/>
          </p:nvPr>
        </p:nvSpPr>
        <p:spPr>
          <a:xfrm>
            <a:off x="3843360" y="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17640" y="774720"/>
            <a:ext cx="4951440" cy="37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03240" y="4719240"/>
            <a:ext cx="4975200" cy="44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6"/>
          </p:nvPr>
        </p:nvSpPr>
        <p:spPr>
          <a:xfrm>
            <a:off x="0" y="944100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7"/>
          </p:nvPr>
        </p:nvSpPr>
        <p:spPr>
          <a:xfrm>
            <a:off x="3843360" y="944100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43FD33-F343-4573-A88D-042EBA3381E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3590C1-6B77-43E3-B28A-F6381007E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6A49B9-15EF-4689-9901-B970E8E96B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7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8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49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0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1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human-rights/human-rights-defenders_en.ht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4687920" y="1760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900000" y="2276640"/>
            <a:ext cx="7086600" cy="2288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b1b6b"/>
                </a:solidFill>
                <a:latin typeface="Verdana"/>
              </a:rPr>
              <a:t>The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b1b6b"/>
                </a:solidFill>
                <a:latin typeface="Verdana"/>
              </a:rPr>
              <a:t>European Instrument for Democracy and Human Right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479240" y="19368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932360" y="630864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b1b6b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1b1b6b"/>
                </a:solidFill>
                <a:latin typeface="Arial"/>
              </a:rPr>
              <a:t>EuropeAid/F2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826920" y="1197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bjective 2 of the Strategy Paper (SP) 2007-2010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826920" y="1671480"/>
            <a:ext cx="734544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Strengthening the role of civil society in promoting human rights and democratic reform, in facilitating the peaceful conciliation of group interests and consolidating political participation and represent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=&gt; Country-based support schemes (CBSS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=&gt; Transnational and transregional actio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CBSS 2007-2010: approx. €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200 M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Transnational actions 2007-2010: € 30 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ff"/>
                </a:solidFill>
                <a:uFillTx/>
                <a:latin typeface="Arial"/>
              </a:rPr>
              <a:t>Calls for proposals to be launched by Delegations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92 countries foreseen for 201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Eligibility of applicants and scope of actions/specific </a:t>
            </a:r>
            <a:br>
              <a:rPr sz="1800"/>
            </a:b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objectives within strategic objective defined locall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55640" y="105264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bjective 3 of the Strategy Paper (SP) 2007-2010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11280" y="1484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Supporting actions on human rights and democracy </a:t>
            </a:r>
            <a:br>
              <a:rPr sz="2000"/>
            </a:b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issues on which EU Guidelines have been adopt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 90 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Human rights dialogu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Human rights defender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New call for proposals to be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first semester 2010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Same flexibility as objective 1 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840e02"/>
                </a:solidFill>
                <a:latin typeface="Arial"/>
              </a:rPr>
              <a:t>Info on support, including protection in urgent situations at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uropeaid/what/human-rights/human-rights-defenders_en.ht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Tor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Latest call f or proposals launched by HQ in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July 2009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Rehabilitation and prevention, integrated approach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Death penalty 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Children’s rights and children in armed conflic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684360" y="1557360"/>
            <a:ext cx="8064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Supporting and strengthening the internati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and regional framework for the protection of human rights,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justice, the rule of law and the promotion of democracy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 60 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 Civil society support to ICC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Call for proposals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Nov. 2009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Global campaigns - € 4 million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 Regional HR&amp;D Master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Call for proposals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Dec. 2009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Targeting different world regions - € 5 million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Targeted projects – IO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Contributions to International Organisation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Project approach with </a:t>
            </a:r>
            <a:r>
              <a:rPr b="1" lang="fr-BE" sz="1800" spc="-1" strike="noStrike">
                <a:solidFill>
                  <a:srgbClr val="333399"/>
                </a:solidFill>
                <a:latin typeface="Arial"/>
              </a:rPr>
              <a:t>ICC, CoE, 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etc. </a:t>
            </a:r>
            <a:br>
              <a:rPr sz="1600"/>
            </a:b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Contribution to budget of </a:t>
            </a:r>
            <a:r>
              <a:rPr b="1" lang="fr-BE" sz="1800" spc="-1" strike="noStrike">
                <a:solidFill>
                  <a:srgbClr val="333399"/>
                </a:solidFill>
                <a:latin typeface="Arial"/>
              </a:rPr>
              <a:t>OHCHR 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(€ 4 M per year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826920" y="1125360"/>
            <a:ext cx="705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bjective 4 of the Strategy Paper (SP) 2007-2010: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826920" y="1989000"/>
            <a:ext cx="768384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Building confidence in and enhancing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the reliability and transparency of democratic electoral  </a:t>
            </a:r>
            <a:br>
              <a:rPr sz="2000"/>
            </a:b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processes,  in particular through election observ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 130 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826920" y="11253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bjective 5 of the Strategy Paper (SP) 2007-2010: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1406160" y="4221000"/>
            <a:ext cx="45680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EU Election Observation Missions mainly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76320" y="351324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900000" y="1484280"/>
            <a:ext cx="698508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Eligibility of organisations – applicants and partner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(Article 10 of the Regulation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Specific to each call for proposals</a:t>
            </a:r>
            <a:br>
              <a:rPr sz="2000"/>
            </a:b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ivil society organisations (NGOs, independent </a:t>
            </a:r>
            <a:br>
              <a:rPr sz="20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political foundations, private sector non-profit </a:t>
            </a:r>
            <a:br>
              <a:rPr sz="20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agencies…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ublic sector non-profit agencies, institutions, …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arliamentary bodies, when necessary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International inter-governmental organisatio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Natural perso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Funding of political parties is exclud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79280" y="155736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826920" y="2806560"/>
            <a:ext cx="831708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Verdana"/>
              </a:rPr>
              <a:t>More than 1500 projects ongoing by the end of 2009</a:t>
            </a:r>
            <a:br>
              <a:rPr sz="1600"/>
            </a:br>
            <a:r>
              <a:rPr b="1" lang="en-GB" sz="1600" spc="-1" strike="noStrike">
                <a:solidFill>
                  <a:srgbClr val="0066ff"/>
                </a:solidFill>
                <a:latin typeface="Verdana"/>
              </a:rPr>
              <a:t>(grants CSOs +joint management IOs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6 -  474 contracts sign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7 – 332 (mostly micro-projects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8 – 388 (of which 9 were targeted projects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9 – Approx. 430 signed by the end of 20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927160" y="141192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b1b6b"/>
                </a:solidFill>
                <a:latin typeface="Verdana"/>
              </a:rPr>
              <a:t>SOME FIGURES 2009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269000" y="189000"/>
            <a:ext cx="60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/Initiative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1619280" y="1341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b1b6b"/>
                </a:solidFill>
                <a:latin typeface="Verdana"/>
              </a:rPr>
              <a:t>CBSS in 2009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755640" y="2394360"/>
            <a:ext cx="756144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More than 60 calls for proposals launched by Delegations in 20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More than 2000 proposals received and assess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66"/>
                </a:solidFill>
                <a:latin typeface="Verdana"/>
              </a:rPr>
              <a:t>More than 300 new local projects signed in 20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77 country allocations in AAP 2009 and 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92 foreseen for AAP 201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79280" y="170028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1700280"/>
            <a:ext cx="5396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I  M P  L  E M E N T A T   I  O 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692360" y="3953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1633320" y="18432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69" name="Chart 2" descr=""/>
          <p:cNvPicPr/>
          <p:nvPr/>
        </p:nvPicPr>
        <p:blipFill>
          <a:blip r:embed="rId1"/>
          <a:stretch/>
        </p:blipFill>
        <p:spPr>
          <a:xfrm>
            <a:off x="682560" y="1122480"/>
            <a:ext cx="76392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0" y="1700280"/>
            <a:ext cx="5396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I  M P  L  E M E N T A T   I  O 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692360" y="2581920"/>
            <a:ext cx="655308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I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Overview of EIDHR implementation 2000-2006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II.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Overview of EIDHR implementation 2007-April 2009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III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Present situ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IV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More Information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570480" y="1411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b1b6b"/>
                </a:solidFill>
                <a:latin typeface="Verdana"/>
              </a:rPr>
              <a:t>INDEX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633320" y="18432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76" name="Graphique 4" descr=""/>
          <p:cNvPicPr/>
          <p:nvPr/>
        </p:nvPicPr>
        <p:blipFill>
          <a:blip r:embed="rId1"/>
          <a:stretch/>
        </p:blipFill>
        <p:spPr>
          <a:xfrm>
            <a:off x="914400" y="1414440"/>
            <a:ext cx="7381800" cy="4754520"/>
          </a:xfrm>
          <a:prstGeom prst="rect">
            <a:avLst/>
          </a:prstGeom>
          <a:ln w="0">
            <a:noFill/>
          </a:ln>
        </p:spPr>
      </p:pic>
      <p:pic>
        <p:nvPicPr>
          <p:cNvPr id="277" name="Chart 2" descr=""/>
          <p:cNvPicPr/>
          <p:nvPr/>
        </p:nvPicPr>
        <p:blipFill>
          <a:blip r:embed="rId2"/>
          <a:stretch/>
        </p:blipFill>
        <p:spPr>
          <a:xfrm>
            <a:off x="689040" y="1268280"/>
            <a:ext cx="772308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76320" y="2131920"/>
            <a:ext cx="457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NFORM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0" name="Line 5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2743200" y="1692720"/>
            <a:ext cx="39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b1b6b"/>
                </a:solidFill>
                <a:latin typeface="Verdana"/>
              </a:rPr>
              <a:t>More Information</a:t>
            </a:r>
            <a:r>
              <a:rPr b="0" lang="en-GB" sz="2400" spc="-1" strike="noStrike">
                <a:solidFill>
                  <a:srgbClr val="1b1b6b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716040" y="2276640"/>
            <a:ext cx="780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http://ec.europa.eu/europeaid/what/human-rights/index_en.htm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755640" y="2968560"/>
            <a:ext cx="8209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40e02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40e02"/>
                </a:solidFill>
                <a:latin typeface="Verdana"/>
              </a:rPr>
              <a:t>Compendia</a:t>
            </a:r>
            <a:r>
              <a:rPr b="0" lang="en-GB" sz="2400" spc="-1" strike="noStrike">
                <a:solidFill>
                  <a:srgbClr val="1b1b6b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ttp://ec.europa.eu/europeaid/what/human-rights/projects_en.ht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40e02"/>
                </a:solidFill>
                <a:latin typeface="Arial"/>
              </a:rPr>
              <a:t>Calls for Proposals (new site)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ttp://ec.europa.eu/europeaid/work/funding/index_en.ht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40e02"/>
                </a:solidFill>
                <a:latin typeface="Arial"/>
              </a:rPr>
              <a:t>Support to Human Rights Defenders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ttp://ec.europa.eu/europeaid/what/human-rights/human-rights-defenders_en.ht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52280" y="2819520"/>
            <a:ext cx="381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692360" y="292428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: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ntrodu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I.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Project cycl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II: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mplementation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V:</a:t>
            </a:r>
            <a:r>
              <a:rPr b="1" lang="en-GB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More Inform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570480" y="1411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b1b6b"/>
                </a:solidFill>
                <a:latin typeface="Verdana"/>
              </a:rPr>
              <a:t>INDEX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833120" y="235080"/>
            <a:ext cx="56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Overview of the new financial instrumen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 rot="16200000">
            <a:off x="4304160" y="-1775520"/>
            <a:ext cx="463680" cy="7272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 rot="16200000">
            <a:off x="4126320" y="-1598760"/>
            <a:ext cx="454680" cy="70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strument for Stabil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843280" y="5445000"/>
            <a:ext cx="223920" cy="20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203640" y="537372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ographical instrument with a specific legal basi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843280" y="5734080"/>
            <a:ext cx="22392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203640" y="566100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rizontal instrument with a specific legal basi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2843280" y="5967360"/>
            <a:ext cx="223920" cy="19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203640" y="595008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atic programme included in DCI legal basi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24" name="Group 13"/>
          <p:cNvGrpSpPr/>
          <p:nvPr/>
        </p:nvGrpSpPr>
        <p:grpSpPr>
          <a:xfrm>
            <a:off x="900000" y="1125000"/>
            <a:ext cx="7272000" cy="454680"/>
            <a:chOff x="900000" y="1125000"/>
            <a:chExt cx="7272000" cy="454680"/>
          </a:xfrm>
        </p:grpSpPr>
        <p:sp>
          <p:nvSpPr>
            <p:cNvPr id="125" name="Rectangle 14"/>
            <p:cNvSpPr/>
            <p:nvPr/>
          </p:nvSpPr>
          <p:spPr>
            <a:xfrm rot="16200000">
              <a:off x="4318920" y="-2284560"/>
              <a:ext cx="434160" cy="7272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26" name="Text Box 15"/>
            <p:cNvSpPr/>
            <p:nvPr/>
          </p:nvSpPr>
          <p:spPr>
            <a:xfrm rot="16200000">
              <a:off x="4351680" y="-2240280"/>
              <a:ext cx="454680" cy="71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uropean Instrument for Democracy and Human Rights 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900000" y="2276640"/>
            <a:ext cx="7343280" cy="3097080"/>
            <a:chOff x="900000" y="2276640"/>
            <a:chExt cx="7343280" cy="3097080"/>
          </a:xfrm>
        </p:grpSpPr>
        <p:grpSp>
          <p:nvGrpSpPr>
            <p:cNvPr id="128" name="Group 17"/>
            <p:cNvGrpSpPr/>
            <p:nvPr/>
          </p:nvGrpSpPr>
          <p:grpSpPr>
            <a:xfrm>
              <a:off x="900000" y="2276640"/>
              <a:ext cx="7343280" cy="3097080"/>
              <a:chOff x="900000" y="2276640"/>
              <a:chExt cx="7343280" cy="3097080"/>
            </a:xfrm>
          </p:grpSpPr>
          <p:sp>
            <p:nvSpPr>
              <p:cNvPr id="129" name="Rectangle 18"/>
              <p:cNvSpPr/>
              <p:nvPr/>
            </p:nvSpPr>
            <p:spPr>
              <a:xfrm>
                <a:off x="90000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grpSp>
            <p:nvGrpSpPr>
              <p:cNvPr id="130" name="Group 19"/>
              <p:cNvGrpSpPr/>
              <p:nvPr/>
            </p:nvGrpSpPr>
            <p:grpSpPr>
              <a:xfrm>
                <a:off x="1834920" y="2421000"/>
                <a:ext cx="6408360" cy="2816280"/>
                <a:chOff x="1834920" y="2421000"/>
                <a:chExt cx="6408360" cy="2816280"/>
              </a:xfrm>
            </p:grpSpPr>
            <p:sp>
              <p:nvSpPr>
                <p:cNvPr id="131" name="Rectangle 20"/>
                <p:cNvSpPr/>
                <p:nvPr/>
              </p:nvSpPr>
              <p:spPr>
                <a:xfrm>
                  <a:off x="1834920" y="472536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21"/>
                <p:cNvSpPr/>
                <p:nvPr/>
              </p:nvSpPr>
              <p:spPr>
                <a:xfrm>
                  <a:off x="1834920" y="4149360"/>
                  <a:ext cx="6408360" cy="50436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3" name="Text Box 22"/>
                <p:cNvSpPr/>
                <p:nvPr/>
              </p:nvSpPr>
              <p:spPr>
                <a:xfrm rot="16200000">
                  <a:off x="5187960" y="2256840"/>
                  <a:ext cx="454680" cy="55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on-State Actors and Local Authorities</a:t>
                  </a: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3"/>
                <p:cNvSpPr/>
                <p:nvPr/>
              </p:nvSpPr>
              <p:spPr>
                <a:xfrm rot="16200000">
                  <a:off x="6698160" y="3203280"/>
                  <a:ext cx="454680" cy="248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ood Security</a:t>
                  </a: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5" name="Rectangle 24"/>
                <p:cNvSpPr/>
                <p:nvPr/>
              </p:nvSpPr>
              <p:spPr>
                <a:xfrm>
                  <a:off x="1834920" y="357480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25"/>
                <p:cNvSpPr/>
                <p:nvPr/>
              </p:nvSpPr>
              <p:spPr>
                <a:xfrm rot="16200000">
                  <a:off x="5558040" y="144252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Environment and Natural Resources</a:t>
                  </a: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26"/>
                <p:cNvSpPr/>
                <p:nvPr/>
              </p:nvSpPr>
              <p:spPr>
                <a:xfrm>
                  <a:off x="1834920" y="2998800"/>
                  <a:ext cx="6408360" cy="50436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7"/>
                <p:cNvSpPr/>
                <p:nvPr/>
              </p:nvSpPr>
              <p:spPr>
                <a:xfrm rot="16200000">
                  <a:off x="5558040" y="86616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igration and Asylum</a:t>
                  </a: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28"/>
                <p:cNvSpPr/>
                <p:nvPr/>
              </p:nvSpPr>
              <p:spPr>
                <a:xfrm>
                  <a:off x="1834920" y="242100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40" name="Text Box 29"/>
                <p:cNvSpPr/>
                <p:nvPr/>
              </p:nvSpPr>
              <p:spPr>
                <a:xfrm rot="16200000">
                  <a:off x="5558040" y="28836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Investing in People</a:t>
                  </a: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Rectangle 30"/>
              <p:cNvSpPr/>
              <p:nvPr/>
            </p:nvSpPr>
            <p:spPr>
              <a:xfrm>
                <a:off x="2052360" y="2276640"/>
                <a:ext cx="57492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42" name="Rectangle 31"/>
              <p:cNvSpPr/>
              <p:nvPr/>
            </p:nvSpPr>
            <p:spPr>
              <a:xfrm>
                <a:off x="277164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43" name="Rectangle 32"/>
              <p:cNvSpPr/>
              <p:nvPr/>
            </p:nvSpPr>
            <p:spPr>
              <a:xfrm>
                <a:off x="349236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  <p:sp>
          <p:nvSpPr>
            <p:cNvPr id="144" name="Text Box 33"/>
            <p:cNvSpPr/>
            <p:nvPr/>
          </p:nvSpPr>
          <p:spPr>
            <a:xfrm>
              <a:off x="94860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A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5" name="Text Box 34"/>
            <p:cNvSpPr/>
            <p:nvPr/>
          </p:nvSpPr>
          <p:spPr>
            <a:xfrm>
              <a:off x="210096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F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6" name="Text Box 35"/>
            <p:cNvSpPr/>
            <p:nvPr/>
          </p:nvSpPr>
          <p:spPr>
            <a:xfrm>
              <a:off x="282024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PI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7" name="Text Box 36"/>
            <p:cNvSpPr/>
            <p:nvPr/>
          </p:nvSpPr>
          <p:spPr>
            <a:xfrm>
              <a:off x="354096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I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79280" y="1844640"/>
            <a:ext cx="381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0" y="0"/>
            <a:ext cx="8109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971640" y="2133720"/>
            <a:ext cx="770580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Legal base: EIDHR Regulation (EC) 1889/2006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Size (without Election Observation):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x.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€ 450 million</a:t>
            </a:r>
            <a:br>
              <a:rPr sz="1800"/>
            </a:b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 for 2007-2010, approx. € 111 million foreseen in 201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Characteristics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: Financing instrument for the promotion of democracy and human rights through the support to civil society and to victims of human rights abuses and through existing international framework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Coverage: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orldwid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1187280" y="1413000"/>
            <a:ext cx="59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840e0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40e02"/>
                </a:solidFill>
                <a:latin typeface="Verdana"/>
              </a:rPr>
              <a:t>‘</a:t>
            </a:r>
            <a:r>
              <a:rPr b="1" lang="en-GB" sz="2000" spc="-1" strike="noStrike">
                <a:solidFill>
                  <a:srgbClr val="840e02"/>
                </a:solidFill>
                <a:latin typeface="Verdana"/>
              </a:rPr>
              <a:t>Identity Card’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79280" y="184464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60" name="Diagram 11"/>
          <p:cNvGrpSpPr/>
          <p:nvPr/>
        </p:nvGrpSpPr>
        <p:grpSpPr>
          <a:xfrm>
            <a:off x="1374840" y="2215800"/>
            <a:ext cx="6466680" cy="4182840"/>
            <a:chOff x="1374840" y="2215800"/>
            <a:chExt cx="6466680" cy="4182840"/>
          </a:xfrm>
        </p:grpSpPr>
        <p:sp>
          <p:nvSpPr>
            <p:cNvPr id="161" name="_s1028"/>
            <p:cNvSpPr/>
            <p:nvPr/>
          </p:nvSpPr>
          <p:spPr>
            <a:xfrm flipH="1" flipV="1">
              <a:off x="3050640" y="3782160"/>
              <a:ext cx="78552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2" name="_s1029"/>
            <p:cNvSpPr/>
            <p:nvPr/>
          </p:nvSpPr>
          <p:spPr>
            <a:xfrm>
              <a:off x="1374840" y="3000600"/>
              <a:ext cx="1794240" cy="104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9999"/>
                  </a:solidFill>
                  <a:latin typeface="Arial"/>
                  <a:ea typeface="Arial"/>
                </a:rPr>
                <a:t>Independent / </a:t>
              </a:r>
              <a:br>
                <a:rPr sz="1300"/>
              </a:br>
              <a:r>
                <a:rPr b="1" lang="en-US" sz="1300" spc="-1" strike="noStrike">
                  <a:solidFill>
                    <a:srgbClr val="009999"/>
                  </a:solidFill>
                  <a:latin typeface="Arial"/>
                  <a:ea typeface="Arial"/>
                </a:rPr>
                <a:t>civil society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3" name="_s1030"/>
            <p:cNvSpPr/>
            <p:nvPr/>
          </p:nvSpPr>
          <p:spPr>
            <a:xfrm flipH="1">
              <a:off x="3050640" y="4565520"/>
              <a:ext cx="78552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4" name="_s1031"/>
            <p:cNvSpPr/>
            <p:nvPr/>
          </p:nvSpPr>
          <p:spPr>
            <a:xfrm>
              <a:off x="1377360" y="45709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ff"/>
                  </a:solidFill>
                  <a:latin typeface="Arial"/>
                  <a:ea typeface="Arial"/>
                </a:rPr>
                <a:t>CBSS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5" name="_s1032"/>
            <p:cNvSpPr/>
            <p:nvPr/>
          </p:nvSpPr>
          <p:spPr>
            <a:xfrm>
              <a:off x="4606920" y="4825440"/>
              <a:ext cx="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714120" y="53539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40e02"/>
                  </a:solidFill>
                  <a:latin typeface="Arial"/>
                  <a:ea typeface="Arial"/>
                </a:rPr>
                <a:t>Worldwide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7" name="_s1034"/>
            <p:cNvSpPr/>
            <p:nvPr/>
          </p:nvSpPr>
          <p:spPr>
            <a:xfrm>
              <a:off x="5380200" y="4565520"/>
              <a:ext cx="7826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8" name="_s1035"/>
            <p:cNvSpPr/>
            <p:nvPr/>
          </p:nvSpPr>
          <p:spPr>
            <a:xfrm>
              <a:off x="6047280" y="45673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9999"/>
                  </a:solidFill>
                  <a:latin typeface="Arial"/>
                  <a:ea typeface="Arial"/>
                </a:rPr>
                <a:t>Sensitive and risky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9" name="_s1036"/>
            <p:cNvSpPr/>
            <p:nvPr/>
          </p:nvSpPr>
          <p:spPr>
            <a:xfrm flipV="1">
              <a:off x="5380200" y="3782160"/>
              <a:ext cx="7826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0" name="_s1037"/>
            <p:cNvSpPr/>
            <p:nvPr/>
          </p:nvSpPr>
          <p:spPr>
            <a:xfrm>
              <a:off x="6044400" y="299916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ff"/>
                  </a:solidFill>
                  <a:latin typeface="Arial"/>
                  <a:ea typeface="Arial"/>
                </a:rPr>
                <a:t>Flexible</a:t>
              </a:r>
              <a:br>
                <a:rPr sz="1300"/>
              </a:br>
              <a:r>
                <a:rPr b="1" lang="en-US" sz="1300" spc="-1" strike="noStrike">
                  <a:solidFill>
                    <a:srgbClr val="0066ff"/>
                  </a:solidFill>
                  <a:latin typeface="Arial"/>
                  <a:ea typeface="Arial"/>
                </a:rPr>
                <a:t> and innovative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1" name="_s1038"/>
            <p:cNvSpPr/>
            <p:nvPr/>
          </p:nvSpPr>
          <p:spPr>
            <a:xfrm flipV="1">
              <a:off x="4606920" y="3259080"/>
              <a:ext cx="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2" name="_s1039"/>
            <p:cNvSpPr/>
            <p:nvPr/>
          </p:nvSpPr>
          <p:spPr>
            <a:xfrm>
              <a:off x="3710520" y="2215800"/>
              <a:ext cx="179496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00"/>
                  </a:solidFill>
                  <a:latin typeface="Arial"/>
                  <a:ea typeface="Arial"/>
                </a:rPr>
                <a:t>Complementary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3" name="_s1040"/>
            <p:cNvSpPr/>
            <p:nvPr/>
          </p:nvSpPr>
          <p:spPr>
            <a:xfrm>
              <a:off x="3710520" y="3785760"/>
              <a:ext cx="179496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EIDHR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74" name="Text Box 26"/>
          <p:cNvSpPr/>
          <p:nvPr/>
        </p:nvSpPr>
        <p:spPr>
          <a:xfrm>
            <a:off x="755640" y="1268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840e02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40e02"/>
                </a:solidFill>
                <a:latin typeface="Verdana"/>
              </a:rPr>
              <a:t>Key Words </a:t>
            </a:r>
            <a:br>
              <a:rPr sz="2000"/>
            </a:br>
            <a:r>
              <a:rPr b="1" lang="en-GB" sz="2000" spc="-1" strike="noStrike">
                <a:solidFill>
                  <a:srgbClr val="840e0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370480" cy="2759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1476360" y="4437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780000" y="1628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800000"/>
                </a:solidFill>
                <a:latin typeface="Arial"/>
              </a:rPr>
              <a:t>EIDH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1908000" y="2133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itical dialogu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692360" y="4292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ther instruments,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ographical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mati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08472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plomatic demarch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5724360" y="3933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 + Other dono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1908000" y="5589720"/>
            <a:ext cx="60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40e02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840e02"/>
                </a:solidFill>
                <a:latin typeface="Arial"/>
              </a:rPr>
              <a:t>COMPLEMENTARY” 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2280" y="2819520"/>
            <a:ext cx="381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116000" y="1557360"/>
            <a:ext cx="755964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40e02"/>
                </a:solidFill>
                <a:latin typeface="Arial"/>
              </a:rPr>
              <a:t>Some other key issues under EIDHR: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Informal partne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Re-granting</a:t>
            </a: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Call for proposals permanently opened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Support to Human Rights Defenders in urgent situa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Giving space to the initiative of civil socie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vs. need to be specific/strategic to achieve impac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Special attention to confidentiality and secur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79280" y="155736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63560" y="193680"/>
            <a:ext cx="508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0" y="1847880"/>
            <a:ext cx="4572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PROJEC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CYCL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98" name="Group 6"/>
          <p:cNvGrpSpPr/>
          <p:nvPr/>
        </p:nvGrpSpPr>
        <p:grpSpPr>
          <a:xfrm>
            <a:off x="900000" y="2060640"/>
            <a:ext cx="7238880" cy="4232160"/>
            <a:chOff x="900000" y="2060640"/>
            <a:chExt cx="7238880" cy="4232160"/>
          </a:xfrm>
        </p:grpSpPr>
        <p:sp>
          <p:nvSpPr>
            <p:cNvPr id="199" name="Rectangle 7"/>
            <p:cNvSpPr/>
            <p:nvPr/>
          </p:nvSpPr>
          <p:spPr>
            <a:xfrm>
              <a:off x="3643200" y="2060640"/>
              <a:ext cx="1981080" cy="455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Multi-annual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strategy paper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 flipV="1">
              <a:off x="2377440" y="2175120"/>
              <a:ext cx="1007280" cy="68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1" name="Rectangle 9"/>
            <p:cNvSpPr/>
            <p:nvPr/>
          </p:nvSpPr>
          <p:spPr>
            <a:xfrm>
              <a:off x="900000" y="3166920"/>
              <a:ext cx="1981080" cy="4557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Evaluation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2" name="Rectangle 10"/>
            <p:cNvSpPr/>
            <p:nvPr/>
          </p:nvSpPr>
          <p:spPr>
            <a:xfrm>
              <a:off x="900000" y="4730760"/>
              <a:ext cx="1981080" cy="4554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Contracts, follow-up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&amp; payment</a:t>
              </a: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3" name="Rectangle 11"/>
            <p:cNvSpPr/>
            <p:nvPr/>
          </p:nvSpPr>
          <p:spPr>
            <a:xfrm>
              <a:off x="6233760" y="4730760"/>
              <a:ext cx="1905120" cy="455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Calls for 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4" name="Rectangle 12"/>
            <p:cNvSpPr/>
            <p:nvPr/>
          </p:nvSpPr>
          <p:spPr>
            <a:xfrm>
              <a:off x="6233760" y="3166920"/>
              <a:ext cx="1905120" cy="4557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Annual Action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3566880" y="5837040"/>
              <a:ext cx="1905120" cy="4557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Assessment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&amp; selection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6919560" y="3660840"/>
              <a:ext cx="1800" cy="84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 flipV="1">
              <a:off x="2195280" y="366084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 flipV="1">
              <a:off x="5730120" y="5233680"/>
              <a:ext cx="1007280" cy="68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9" name="Line 17"/>
            <p:cNvSpPr/>
            <p:nvPr/>
          </p:nvSpPr>
          <p:spPr>
            <a:xfrm flipH="1" flipV="1">
              <a:off x="2359080" y="5263200"/>
              <a:ext cx="1044000" cy="62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>
              <a:off x="5904360" y="2144880"/>
              <a:ext cx="963360" cy="74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211" name="Text Box 19"/>
          <p:cNvSpPr/>
          <p:nvPr/>
        </p:nvSpPr>
        <p:spPr>
          <a:xfrm>
            <a:off x="6732720" y="234936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in charge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3708360" y="155736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3300"/>
                </a:solidFill>
                <a:latin typeface="Arial"/>
              </a:rPr>
              <a:t>DG RELEX  in charge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826920" y="422100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a50021"/>
                </a:solidFill>
                <a:latin typeface="Arial"/>
              </a:rPr>
              <a:t>Delegation mostly in charge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5940360" y="4076640"/>
            <a:ext cx="32036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in charge – Global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Delegations in charge – CBS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3276720" y="638172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ontributions: RELEX &amp; DEV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324000" y="2349360"/>
            <a:ext cx="25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HQ/Delegation/partners :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shared responsibility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6300720" y="530064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ontributions: RELEX &amp; DEV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3564000" y="5157720"/>
            <a:ext cx="2232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and/or Delegations  in charge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Rectangle 27"/>
          <p:cNvSpPr/>
          <p:nvPr/>
        </p:nvSpPr>
        <p:spPr>
          <a:xfrm>
            <a:off x="1476360" y="1341360"/>
            <a:ext cx="417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900000" y="126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bjective 1 of the Strategy Paper (SP) 2007-2010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55640" y="1844640"/>
            <a:ext cx="734544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Enhancing respect for human rights and fundamental freedoms in countries and regions where they are most at risk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60 M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66ff"/>
                </a:solidFill>
                <a:uFillTx/>
                <a:latin typeface="Arial"/>
              </a:rPr>
              <a:t>Call for proposals launched by HQ and permanently opened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Two deadlines per year for selection of received proposals – latest 30 October 2009 and next 30 April 201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No list of countries/regions – pertinence to be justified by applicant on the bases of independent external indicators and/or repor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No national or geographical restrictions for activities and/or organisa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Re-granting possible as well as reimbursement of incurred expenditure by organisations without legal ent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Special attention to confidentiality and secur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Mamadou Diallo</cp:lastModifiedBy>
  <cp:lastPrinted>2006-01-29T19:49:04Z</cp:lastPrinted>
  <dcterms:modified xsi:type="dcterms:W3CDTF">2010-03-02T14:02:08Z</dcterms:modified>
  <cp:revision>821</cp:revision>
  <dc:subject/>
  <dc:title>No Slide Title</dc:title>
</cp:coreProperties>
</file>