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792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C93-5BE8-458D-9BE2-4765A55BE6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259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igible a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th NSA and Local Authorities from EU and acceding countries with minimum of 3 years experience (NMS = 2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-financ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ax 75%; (NMS = max 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ze of pro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C contribution between 100.000€-1.000.000€ (NMS = minimum 25.000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-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C03-985E-48D6-BD17-8B03848E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00A-4698-4F39-A83B-0C38F234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D87-5D88-4B84-85FE-FEE1CF6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EFD-9241-4996-A1B1-A40A481F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F3C-07D6-4901-AC85-7B626DAC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8034-5D66-42DD-9615-42A7CCBE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EE93-7603-4290-BE13-4D18F4C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CCC5-2A8D-4E24-B651-30F1CB49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4DC-F7AD-49C8-9A79-6876634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598-7216-4088-B9CF-C20AEA46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0A0-7800-4D9A-9FF7-7959F67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3E9-78F7-429C-80DC-8BA22DB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86C-BF92-4680-BBEE-AFC63F40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1008-86D1-4674-953B-BD9F97D4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6FCC-0BB5-4471-A9A9-786D26F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DAC-3E0B-41A1-BA30-676D9DB9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A6B-DDB0-4176-8957-277B1145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098-920A-498F-8453-0B3DF5BA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E9D-C302-4593-8F94-AA192743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C42-00BB-4414-921E-95B19EA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AA9-8247-4FF7-AC77-BB558870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641-5061-48FD-BF8A-4932034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D41-0115-4E95-8632-B519BB8F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D62-DE0E-4A27-B990-E118B36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39F3-8381-44A4-B19A-05F0C078C3BE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779-9F4E-4092-9851-9D1311DE1BE9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arkus.pirchner@ec.europa.eu" TargetMode="External"/><Relationship Id="rId2" Type="http://schemas.openxmlformats.org/officeDocument/2006/relationships/hyperlink" Target="http://ec.europa.eu/europeaid/what/civil-society/index_e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662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103c72"/>
              </a:solidFill>
              <a:latin typeface="Arial Unicode MS"/>
              <a:ea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844640"/>
            <a:ext cx="73296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Development Education and Awareness Raising Programme of European Union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Markus Pirchner</a:t>
            </a:r>
            <a:br>
              <a:rPr sz="18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Head of Sector</a:t>
            </a: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EuropeAid / Unit F1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257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"/>
              </a:rPr>
              <a:t>Bruxelles, 20 Nov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ITUC Training Seminar for NMS Trade Union Organizations on External Assistance Instruments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Enhancing the European Investment Bank’s (EIB) ability to deliver on development goals through awareness raising on its current and potential role in developing countries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EE Bankwatch Netwok, Les Amis de la Terre, Urgewald, ActionAid UK, Mani Te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5 MEURO, EC contribution 71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To ensure a strong and coherent framework that guides the EIB’s agenda to eradicate poverty, foster sustainable development and achieve the millenium development goals (MDGs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publications and educational materia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stud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meetings, workshops and confer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4. dossiers for decision-makers, dialog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. internet, pr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arkus PIRCHN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uropean Commission – EuropeAid Co-operation Office, AIDCO/F/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nit "Relations with civil society and coordination"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L-41 02/166, B-1049 Brussels</a:t>
            </a:r>
            <a:br>
              <a:rPr sz="2000"/>
            </a:b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Tel:</a:t>
            </a:r>
            <a:r>
              <a:rPr b="0" lang="sv-SE" sz="2000" spc="-1" strike="noStrike">
                <a:solidFill>
                  <a:srgbClr val="103c72"/>
                </a:solidFill>
                <a:latin typeface="Verdana"/>
              </a:rPr>
              <a:t> +32-2-29 87016, Fax: +32-2-29 66044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c72"/>
                </a:solidFill>
                <a:latin typeface="Verdana"/>
              </a:rPr>
              <a:t>E-mail: 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arkus.pirchner@ec.europa.e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europeaid/what/civil-society/index_en.ht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2c8"/>
                </a:solidFill>
                <a:uFillTx/>
                <a:latin typeface="Verdana"/>
              </a:rPr>
              <a:t>1. Part: What the EC do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ogramming period 2007-2013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 Development Cooperation Instrument (DCI)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81080"/>
            <a:ext cx="84247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eographic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0044"/>
                </a:solidFill>
                <a:latin typeface="Verdana"/>
              </a:rPr>
              <a:t>5 thematic programme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(complementary to geographical progra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vesting 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044"/>
                </a:solidFill>
                <a:latin typeface="Verdana"/>
              </a:rPr>
              <a:t>Non State Actors and Local Authorities (NSA &amp; 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o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igration and Asylum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pport to sugar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NSA &amp; LA in Development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             Budget &amp; specific Objectives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569960"/>
            <a:ext cx="8388360" cy="4341240"/>
            <a:chOff x="250920" y="1569960"/>
            <a:chExt cx="8388360" cy="4341240"/>
          </a:xfrm>
        </p:grpSpPr>
        <p:cxnSp>
          <p:nvCxnSpPr>
            <p:cNvPr id="110" name="_s112645"/>
            <p:cNvCxnSpPr>
              <a:stCxn id="111" idx="1"/>
              <a:endCxn id="112" idx="2"/>
            </p:cNvCxnSpPr>
            <p:nvPr/>
          </p:nvCxnSpPr>
          <p:spPr>
            <a:xfrm rot="10800000">
              <a:off x="2766600" y="2358360"/>
              <a:ext cx="839520" cy="31582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3" name="_s112646"/>
            <p:cNvCxnSpPr>
              <a:stCxn id="114" idx="1"/>
              <a:endCxn id="112" idx="2"/>
            </p:cNvCxnSpPr>
            <p:nvPr/>
          </p:nvCxnSpPr>
          <p:spPr>
            <a:xfrm rot="10800000">
              <a:off x="2766600" y="2358360"/>
              <a:ext cx="839520" cy="19738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5" name="_s112647"/>
            <p:cNvCxnSpPr>
              <a:stCxn id="116" idx="1"/>
              <a:endCxn id="112" idx="2"/>
            </p:cNvCxnSpPr>
            <p:nvPr/>
          </p:nvCxnSpPr>
          <p:spPr>
            <a:xfrm rot="10800000">
              <a:off x="2766600" y="2358360"/>
              <a:ext cx="839520" cy="78984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sp>
          <p:nvSpPr>
            <p:cNvPr id="112" name="_s112648"/>
            <p:cNvSpPr/>
            <p:nvPr/>
          </p:nvSpPr>
          <p:spPr>
            <a:xfrm>
              <a:off x="250920" y="156996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03c72"/>
                  </a:solidFill>
                  <a:latin typeface="Arial"/>
                </a:rPr>
                <a:t>903 m € for 2007-20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3c72"/>
                  </a:solidFill>
                  <a:latin typeface="Arial"/>
                </a:rPr>
                <a:t>218,6 m €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99"/>
                  </a:solidFill>
                  <a:latin typeface="Arial"/>
                </a:rPr>
                <a:t>in 2009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649"/>
            <p:cNvSpPr/>
            <p:nvPr/>
          </p:nvSpPr>
          <p:spPr>
            <a:xfrm>
              <a:off x="3606120" y="275400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03c72"/>
                  </a:solidFill>
                  <a:latin typeface="Arial"/>
                </a:rPr>
                <a:t>Obj 1. Development actions aiming at promoting inclusive and empowered society in partner countries &amp; regions (741 m € = 82%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2650"/>
            <p:cNvSpPr/>
            <p:nvPr/>
          </p:nvSpPr>
          <p:spPr>
            <a:xfrm>
              <a:off x="3606120" y="393804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2651"/>
            <p:cNvSpPr/>
            <p:nvPr/>
          </p:nvSpPr>
          <p:spPr>
            <a:xfrm>
              <a:off x="3606120" y="512208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8002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Obj 3. Coordination and networking in Europe </a:t>
              </a:r>
              <a:br>
                <a:rPr sz="1600"/>
              </a:b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(18 m € = 2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6453360"/>
            <a:ext cx="691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00000">
            <a:off x="3657600" y="3997080"/>
            <a:ext cx="473400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Obj 2. Awareness raising and development education in Europe (126 m € = 1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78644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Objective 2: DE &amp; AR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216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Objective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wareness raising and development education in the EU and acceding countries for development 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Prioritie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ublic support for MDG agenda, in part. Sub Saharan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herence for development in areas of public interest: migration, trade, security, social dimension…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Media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8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72400" y="3352680"/>
            <a:ext cx="7779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Statistics last CfP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 Stage: Concept Note – Full Propos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666880"/>
          <a:ext cx="8001000" cy="1419480"/>
        </p:xfrm>
        <a:graphic>
          <a:graphicData uri="http://schemas.openxmlformats.org/drawingml/2006/table">
            <a:tbl>
              <a:tblPr/>
              <a:tblGrid>
                <a:gridCol w="865080"/>
                <a:gridCol w="865440"/>
                <a:gridCol w="865080"/>
                <a:gridCol w="1081080"/>
                <a:gridCol w="1081080"/>
                <a:gridCol w="1081080"/>
                <a:gridCol w="1081080"/>
                <a:gridCol w="1081080"/>
              </a:tblGrid>
              <a:tr h="92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 Refer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pre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Aplications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 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: selected vs received 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Two interesting projects as exampl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“Jobs Jobs Jobs, Decent work for all, the key to eradicating poverty”</a:t>
            </a:r>
            <a:br>
              <a:rPr sz="2000"/>
            </a:b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Solidar, War on Want, Olaf Palme Centre, Progetto Svilupp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4 MEURO, EC contribution 75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reation of decent work for women and men as a key factor to reduce poverty in developing countri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research &amp; materials: case studies (informal economy in Zambia, Agriculture in South Africa…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dissemination: website, presswork, electronic newslet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advocacy: roundtables, international confere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rchma</cp:lastModifiedBy>
  <dcterms:modified xsi:type="dcterms:W3CDTF">2009-11-19T16:21:00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