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07920" y="74268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397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DF83-34AE-478B-B643-91B3A27561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259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ligible acto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th NSA and Local Authorities from EU and acceding countries with minimum of 3 years experience (NMS = 2 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-financ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max 75%; (NMS = max 9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ze of pro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EC contribution between 100.000€-1.000.000€ (NMS = minimum 25.000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u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-3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3F8-205D-4A17-9594-4702C5A4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22F7-69A3-4C39-84FD-0B3DB0C0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649-DADB-44F3-934E-207BD3E6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7A8-61D7-4BD3-BA69-A789BCE1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D5DE-80E4-42EA-946F-4DB276BD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DA5F-CC38-46C0-9B4E-9A4E8AB6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CDCE-DE51-4823-88B0-95B059AC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0AED-9AAD-4D51-A5C2-4384D173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9651-86A0-4BB8-B064-0977E8A2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C746-D10E-4FAF-A9AB-6FE847E7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07C0-AB03-4622-95A7-C171083C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9FF-D3BC-473A-AB8E-764B8427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A11A-BC82-4B18-B866-2F9A225A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3B8E-1396-4E06-886C-FADA2D88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A0A9-9D53-4C80-9F2D-8D7A1BCB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AB32-D865-407F-89B5-80BE7912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19B7-1A4E-4612-B1A7-B8385FCC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D0A-C3D6-4B01-B41A-B6EF8DFC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C02-290A-421F-BD69-548CBC2E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CF9-E703-4A94-A318-6E9CC006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771-3DC4-45E1-8405-4C03E4A9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24A-FE81-46B3-BB58-67DD34F3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F13-8B28-4619-A2E9-7032E180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A6E-E76C-46A6-8853-F6CB89CF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ED5F-40BC-4D59-94D2-9B8331CA295C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87F3-6899-4B8A-99D9-E90879496194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markus.pirchner@ec.europa.eu" TargetMode="External"/><Relationship Id="rId2" Type="http://schemas.openxmlformats.org/officeDocument/2006/relationships/hyperlink" Target="http://ec.europa.eu/europeaid/what/civil-society/index_en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ebgate.ec.europa.eu/europeaid/online-services/index.cfm?ADSSChck=1258626749850&amp;do=publi.welcome&amp;userlanguage=en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ebgate.ec.europa.eu/europeaid/online-services/index.cfm?ADSSChck=1258626749850&amp;do=publi.welcome&amp;userlanguage=e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475920"/>
            <a:ext cx="662436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000" spc="-1" strike="noStrike">
              <a:solidFill>
                <a:srgbClr val="103c72"/>
              </a:solidFill>
              <a:latin typeface="Arial Unicode MS"/>
              <a:ea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400" y="1844640"/>
            <a:ext cx="73296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3c72"/>
                </a:solidFill>
                <a:latin typeface="Arial Unicode MS"/>
                <a:ea typeface="Arial Unicode MS"/>
              </a:rPr>
              <a:t>Development Education and Awareness Raising Programme of European Union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BE" sz="1800" spc="-1" strike="noStrike">
                <a:solidFill>
                  <a:srgbClr val="103c72"/>
                </a:solidFill>
                <a:latin typeface="Arial Unicode MS"/>
                <a:ea typeface="Arial Unicode MS"/>
              </a:rPr>
              <a:t>Markus Pirchner</a:t>
            </a:r>
            <a:br>
              <a:rPr sz="1800"/>
            </a:br>
            <a:r>
              <a:rPr b="1" lang="fr-BE" sz="1800" spc="-1" strike="noStrike">
                <a:solidFill>
                  <a:srgbClr val="103c72"/>
                </a:solidFill>
                <a:latin typeface="Arial Unicode MS"/>
                <a:ea typeface="Arial Unicode MS"/>
              </a:rPr>
              <a:t>Head of Sector</a:t>
            </a:r>
            <a:r>
              <a:rPr b="1" lang="fr-BE" sz="1800" spc="-1" strike="noStrike">
                <a:solidFill>
                  <a:srgbClr val="103c72"/>
                </a:solidFill>
                <a:latin typeface="Arial Unicode MS"/>
                <a:ea typeface="Arial Unicode MS"/>
              </a:rPr>
              <a:t>	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03c72"/>
                </a:solidFill>
                <a:latin typeface="Arial Unicode MS"/>
                <a:ea typeface="Arial Unicode MS"/>
              </a:rPr>
              <a:t>EuropeAid / Unit F1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2578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03c72"/>
                </a:solidFill>
                <a:latin typeface="Arial"/>
              </a:rPr>
              <a:t>Bruxelles, 20 Nov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</a:rPr>
              <a:t>ITUC Training Seminar for NMS Trade Union Organizations on External Assistance Instruments of the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Enhancing the European Investment Bank’s (EIB) ability to deliver on development goals through awareness raising on its current and potential role in developing countries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Partner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CEE Bankwatch Netwok, Les Amis de la Terre, Urgewald, ActionAid UK, Mani Tes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Budge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1,5 MEURO, EC contribution 71%, 3 yea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Overall Objective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To ensure a strong and coherent framework that guides the EIB’s agenda to eradicate poverty, foster sustainable development and achieve the millenium development goals (MDGs)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Activitie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. publications and educational material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. stud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3. meetings, workshops and conferen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4. dossiers for decision-makers, dialogu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5. internet, pres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Thank you for your attention!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arkus PIRCHN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European Commission – EuropeAid Co-operation Office, AIDCO/F/1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Unit "Relations with civil society and coordination"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L-41 02/166, B-1049 Brussels</a:t>
            </a:r>
            <a:br>
              <a:rPr sz="2000"/>
            </a:br>
            <a:r>
              <a:rPr b="0" lang="fr-FR" sz="2000" spc="-1" strike="noStrike">
                <a:solidFill>
                  <a:srgbClr val="103c72"/>
                </a:solidFill>
                <a:latin typeface="Verdana"/>
              </a:rPr>
              <a:t>Tel:</a:t>
            </a:r>
            <a:r>
              <a:rPr b="0" lang="sv-SE" sz="2000" spc="-1" strike="noStrike">
                <a:solidFill>
                  <a:srgbClr val="103c72"/>
                </a:solidFill>
                <a:latin typeface="Verdana"/>
              </a:rPr>
              <a:t> +32-2-29 87016, Fax: +32-2-29 66044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03c72"/>
                </a:solidFill>
                <a:latin typeface="Verdana"/>
              </a:rPr>
              <a:t>E-mail:  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markus.pirchner@ec.europa.eu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europeaid/what/civil-society/index_en.ht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82c8"/>
                </a:solidFill>
                <a:uFillTx/>
                <a:latin typeface="Verdana"/>
              </a:rPr>
              <a:t>1. Part: What the EC does:</a:t>
            </a:r>
            <a:br>
              <a:rPr sz="2000"/>
            </a:b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Programming period 2007-2013: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 Development Cooperation Instrument (DCI)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981080"/>
            <a:ext cx="842472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eographic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a80044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80044"/>
                </a:solidFill>
                <a:latin typeface="Verdana"/>
              </a:rPr>
              <a:t>5 thematic programmes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 (complementary to geographical program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vesting i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a80044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80044"/>
                </a:solidFill>
                <a:latin typeface="Verdana"/>
              </a:rPr>
              <a:t>Non State Actors and Local Authorities (NSA &amp; 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o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Migration and Asylum</a:t>
            </a: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103c72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upport to sugar 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50" autoRev="1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0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NSA &amp; LA in Development </a:t>
            </a:r>
            <a:br>
              <a:rPr sz="2000"/>
            </a:b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               Budget &amp; specific Objectives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82c8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0920" y="1569960"/>
            <a:ext cx="8388360" cy="4341240"/>
            <a:chOff x="250920" y="1569960"/>
            <a:chExt cx="8388360" cy="4341240"/>
          </a:xfrm>
        </p:grpSpPr>
        <p:cxnSp>
          <p:nvCxnSpPr>
            <p:cNvPr id="110" name="_s112645"/>
            <p:cNvCxnSpPr>
              <a:stCxn id="111" idx="1"/>
              <a:endCxn id="112" idx="2"/>
            </p:cNvCxnSpPr>
            <p:nvPr/>
          </p:nvCxnSpPr>
          <p:spPr>
            <a:xfrm rot="10800000">
              <a:off x="2766600" y="2358360"/>
              <a:ext cx="839520" cy="3158280"/>
            </a:xfrm>
            <a:prstGeom prst="bentConnector2">
              <a:avLst/>
            </a:prstGeom>
            <a:ln w="25560">
              <a:solidFill>
                <a:srgbClr val="000080"/>
              </a:solidFill>
              <a:miter/>
            </a:ln>
          </p:spPr>
        </p:cxnSp>
        <p:cxnSp>
          <p:nvCxnSpPr>
            <p:cNvPr id="113" name="_s112646"/>
            <p:cNvCxnSpPr>
              <a:stCxn id="114" idx="1"/>
              <a:endCxn id="112" idx="2"/>
            </p:cNvCxnSpPr>
            <p:nvPr/>
          </p:nvCxnSpPr>
          <p:spPr>
            <a:xfrm rot="10800000">
              <a:off x="2766600" y="2358360"/>
              <a:ext cx="839520" cy="1973880"/>
            </a:xfrm>
            <a:prstGeom prst="bentConnector2">
              <a:avLst/>
            </a:prstGeom>
            <a:ln w="25560">
              <a:solidFill>
                <a:srgbClr val="000080"/>
              </a:solidFill>
              <a:miter/>
            </a:ln>
          </p:spPr>
        </p:cxnSp>
        <p:cxnSp>
          <p:nvCxnSpPr>
            <p:cNvPr id="115" name="_s112647"/>
            <p:cNvCxnSpPr>
              <a:stCxn id="116" idx="1"/>
              <a:endCxn id="112" idx="2"/>
            </p:cNvCxnSpPr>
            <p:nvPr/>
          </p:nvCxnSpPr>
          <p:spPr>
            <a:xfrm rot="10800000">
              <a:off x="2766600" y="2358360"/>
              <a:ext cx="839520" cy="789840"/>
            </a:xfrm>
            <a:prstGeom prst="bentConnector2">
              <a:avLst/>
            </a:prstGeom>
            <a:ln w="25560">
              <a:solidFill>
                <a:srgbClr val="000080"/>
              </a:solidFill>
              <a:miter/>
            </a:ln>
          </p:spPr>
        </p:cxnSp>
        <p:sp>
          <p:nvSpPr>
            <p:cNvPr id="112" name="_s112648"/>
            <p:cNvSpPr/>
            <p:nvPr/>
          </p:nvSpPr>
          <p:spPr>
            <a:xfrm>
              <a:off x="250920" y="1569960"/>
              <a:ext cx="5033160" cy="789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03c72"/>
                  </a:solidFill>
                  <a:latin typeface="Arial"/>
                </a:rPr>
                <a:t>903 m € for 2007-20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103c72"/>
                  </a:solidFill>
                  <a:latin typeface="Arial"/>
                </a:rPr>
                <a:t>218,6 m € 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3399"/>
                  </a:solidFill>
                  <a:latin typeface="Arial"/>
                </a:rPr>
                <a:t>in 2009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12649"/>
            <p:cNvSpPr/>
            <p:nvPr/>
          </p:nvSpPr>
          <p:spPr>
            <a:xfrm>
              <a:off x="3606120" y="2754000"/>
              <a:ext cx="5033160" cy="789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03c72"/>
                  </a:solidFill>
                  <a:latin typeface="Arial"/>
                </a:rPr>
                <a:t>Obj 1. Development actions aiming at promoting inclusive and empowered society in partner countries &amp; regions (741 m € = 82%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12650"/>
            <p:cNvSpPr/>
            <p:nvPr/>
          </p:nvSpPr>
          <p:spPr>
            <a:xfrm>
              <a:off x="3606120" y="3938040"/>
              <a:ext cx="5033160" cy="789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12651"/>
            <p:cNvSpPr/>
            <p:nvPr/>
          </p:nvSpPr>
          <p:spPr>
            <a:xfrm>
              <a:off x="3606120" y="5122080"/>
              <a:ext cx="5033160" cy="789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8002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03c72"/>
                  </a:solidFill>
                  <a:latin typeface="Arial"/>
                </a:rPr>
                <a:t>Obj 3. Coordination and networking in Europe </a:t>
              </a:r>
              <a:br>
                <a:rPr sz="1600"/>
              </a:br>
              <a:r>
                <a:rPr b="0" lang="en-GB" sz="1600" spc="-1" strike="noStrike">
                  <a:solidFill>
                    <a:srgbClr val="103c72"/>
                  </a:solidFill>
                  <a:latin typeface="Arial"/>
                </a:rPr>
                <a:t>(18 m € = 2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9640" y="6453360"/>
            <a:ext cx="6912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10800000">
            <a:off x="3657600" y="3997080"/>
            <a:ext cx="473400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Obj 2. Awareness raising and development education in Europe (126 m € = 14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778644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Objective 2: DE &amp; AR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216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99"/>
                </a:solidFill>
                <a:uFillTx/>
                <a:latin typeface="Verdana"/>
              </a:rPr>
              <a:t>Objective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wareness raising and development education in the EU and acceding countries for development issu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99"/>
                </a:solidFill>
                <a:uFillTx/>
                <a:latin typeface="Verdana"/>
              </a:rPr>
              <a:t>Priorities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Public support for MDG agenda, in part. Sub Saharan Afric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Coherence for development in areas of public interest: migration, trade, security, social dimension…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838080" indent="-380880">
              <a:lnSpc>
                <a:spcPts val="2798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Media and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6165720"/>
            <a:ext cx="583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72400" y="3352680"/>
            <a:ext cx="77796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mplementation of Programm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rough Call for Proposals(Cf)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ast CfP: EuropeAid/127765/C/ACT/Multi, published 18/12/2008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ere to find info: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s://webgate.ec.europa.eu/europeaid/online-services/index.cfm?ADSSChck=1258626749850&amp;do=publi.welcome&amp;userlanguage=en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 Reference: 127765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ext CfP March/April 2010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Implementation of Programm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rough Call for Proposals(Cf)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ast CfP: EuropeAid/127765/C/ACT/Multi, published 18/12/2008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ere to find info: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s://webgate.ec.europa.eu/europeaid/online-services/index.cfm?ADSSChck=1258626749850&amp;do=publi.welcome&amp;userlanguage=en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 Reference: 127765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ext CfP March/April 2010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Statistics last CfP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2 Stage: Concept Note – Full Proposa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2666880"/>
          <a:ext cx="8001000" cy="1419480"/>
        </p:xfrm>
        <a:graphic>
          <a:graphicData uri="http://schemas.openxmlformats.org/drawingml/2006/table">
            <a:tbl>
              <a:tblPr/>
              <a:tblGrid>
                <a:gridCol w="865080"/>
                <a:gridCol w="865440"/>
                <a:gridCol w="865080"/>
                <a:gridCol w="1081080"/>
                <a:gridCol w="1081080"/>
                <a:gridCol w="1081080"/>
                <a:gridCol w="1081080"/>
                <a:gridCol w="1081080"/>
              </a:tblGrid>
              <a:tr h="927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l Refer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N preselec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ccess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Aplications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 selec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ccess rate: selected vs received C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Two interesting projects as examples:</a:t>
            </a:r>
            <a:br>
              <a:rPr sz="2000"/>
            </a:br>
            <a:r>
              <a:rPr b="1" lang="en-GB" sz="2000" spc="-1" strike="noStrike">
                <a:solidFill>
                  <a:srgbClr val="0082c8"/>
                </a:solidFill>
                <a:latin typeface="Verdana"/>
              </a:rPr>
              <a:t>“Jobs Jobs Jobs, Decent work for all, the key to eradicating poverty”</a:t>
            </a:r>
            <a:br>
              <a:rPr sz="2000"/>
            </a:br>
            <a:endParaRPr b="1" lang="en-US" sz="20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Partner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Solidar, War on Want, Olaf Palme Centre, Progetto Svilupp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Budge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1,4 MEURO, EC contribution 75%, 3 yea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Overall Objective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Creation of decent work for women and men as a key factor to reduce poverty in developing countrie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103c72"/>
                </a:solidFill>
                <a:uFillTx/>
                <a:latin typeface="Verdana"/>
              </a:rPr>
              <a:t>Activities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1. research &amp; materials: case studies (informal economy in Zambia, Agriculture in South Africa…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2. dissemination: website, presswork, electronic newslett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3. advocacy: roundtables, international confere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rchma</cp:lastModifiedBy>
  <dcterms:modified xsi:type="dcterms:W3CDTF">2009-11-19T16:21:00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