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792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138-DD1B-4705-9756-25330BABCF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259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ligible a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th NSA and Local Authorities from EU and acceding countries with minimum of 3 years experience (NMS = 2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-financ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ax 75%; (NMS = max 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ze of pro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C contribution between 100.000€-1.000.000€ (NMS = minimum 25.000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-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1A9-F52D-4B94-B6F8-50CCD9A9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45E-7A1A-4A83-89D6-178CD8D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08B-BFED-4AFB-842A-A199C04B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83A-2884-4C83-8846-7AE11E41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02F-932B-4CAB-AEF7-850B4E58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5090-566B-41A1-9A73-7D5B207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765-688A-42F7-B372-CF052D5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3DA8-E7CF-4167-9923-05F2D15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D94-1F76-40D5-9714-210E71B7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D6F-E233-4B5E-A4BA-CF8401C1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A4CE-D550-4BD1-8005-E46CEA9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867-0B67-45AB-8E3A-A0B91772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9822-5613-469B-A6D0-A8870D9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F33E-07D8-4ABB-8534-0FBF8EC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0EE-3621-4F7A-B644-2C4067F7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4AA3-173F-49B8-9D48-12D951D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47A6-2E45-4E4A-AA79-BA68C428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E90-801B-4E71-8629-6EC5647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8F6-DD21-4D5E-9EBE-C9EEF74B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53A-1693-41AC-825E-83FA9E4A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C43-2544-41B3-8F8E-B1E838F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B50-94E4-42EA-AD02-0D90864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D0A-E216-4885-844D-F754BEC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368-1A65-455F-B18D-994E2C1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1339-F9B4-42F3-9E67-AF21C9C0894A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807E-98E3-4C32-A317-5962A77CB8D3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arkus.pirchner@ec.europa.eu" TargetMode="External"/><Relationship Id="rId2" Type="http://schemas.openxmlformats.org/officeDocument/2006/relationships/hyperlink" Target="http://ec.europa.eu/europeaid/what/civil-society/index_e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online-services/index.cfm?ADSSChck=1258626749850&amp;do=publi.welcome&amp;userlanguage=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online-services/index.cfm?ADSSChck=1258626749850&amp;do=publi.welcome&amp;userlanguage=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662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103c72"/>
              </a:solidFill>
              <a:latin typeface="Arial Unicode MS"/>
              <a:ea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844640"/>
            <a:ext cx="73296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Development Education and Awareness Raising Programme of European Union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Markus Pirchner</a:t>
            </a:r>
            <a:br>
              <a:rPr sz="1800"/>
            </a:b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Head of Sector</a:t>
            </a: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EuropeAid / Unit F1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2578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Arial"/>
              </a:rPr>
              <a:t>Bruxelles, 20 Nov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ITUC Training Seminar for NMS Trade Union Organizations on External Assistance Instruments of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Enhancing the European Investment Bank’s (EIB) ability to deliver on development goals through awareness raising on its current and potential role in developing countries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Partner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CEE Bankwatch Netwok, Les Amis de la Terre, Urgewald, ActionAid UK, Mani Te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dge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1,5 MEURO, EC contribution 71%, 3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To ensure a strong and coherent framework that guides the EIB’s agenda to eradicate poverty, foster sustainable development and achieve the millenium development goals (MDGs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 publications and educational materia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 stud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 meetings, workshops and confer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4. dossiers for decision-makers, dialog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. internet, pr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arkus PIRCHN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uropean Commission – EuropeAid Co-operation Office, AIDCO/F/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nit "Relations with civil society and coordination"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L-41 02/166, B-1049 Brussels</a:t>
            </a:r>
            <a:br>
              <a:rPr sz="2000"/>
            </a:b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Tel:</a:t>
            </a:r>
            <a:r>
              <a:rPr b="0" lang="sv-SE" sz="2000" spc="-1" strike="noStrike">
                <a:solidFill>
                  <a:srgbClr val="103c72"/>
                </a:solidFill>
                <a:latin typeface="Verdana"/>
              </a:rPr>
              <a:t> +32-2-29 87016, Fax: +32-2-29 66044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c72"/>
                </a:solidFill>
                <a:latin typeface="Verdana"/>
              </a:rPr>
              <a:t>E-mail: 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markus.pirchner@ec.europa.e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europeaid/what/civil-society/index_en.ht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2c8"/>
                </a:solidFill>
                <a:uFillTx/>
                <a:latin typeface="Verdana"/>
              </a:rPr>
              <a:t>1. Part: What the EC does: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ogramming period 2007-2013: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 Development Cooperation Instrument (DCI)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981080"/>
            <a:ext cx="84247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eographic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a8004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0044"/>
                </a:solidFill>
                <a:latin typeface="Verdana"/>
              </a:rPr>
              <a:t>5 thematic programme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(complementary to geographical progra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vesting 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a8004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80044"/>
                </a:solidFill>
                <a:latin typeface="Verdana"/>
              </a:rPr>
              <a:t>Non State Actors and Local Authorities (NSA &amp; 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o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igration and Asylum</a:t>
            </a: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pport to sugar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NSA &amp; LA in Development </a:t>
            </a:r>
            <a:br>
              <a:rPr sz="2000"/>
            </a:b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             Budget &amp; specific Objectives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1569960"/>
            <a:ext cx="8388360" cy="4341240"/>
            <a:chOff x="250920" y="1569960"/>
            <a:chExt cx="8388360" cy="4341240"/>
          </a:xfrm>
        </p:grpSpPr>
        <p:cxnSp>
          <p:nvCxnSpPr>
            <p:cNvPr id="110" name="_s112645"/>
            <p:cNvCxnSpPr>
              <a:stCxn id="111" idx="1"/>
              <a:endCxn id="112" idx="2"/>
            </p:cNvCxnSpPr>
            <p:nvPr/>
          </p:nvCxnSpPr>
          <p:spPr>
            <a:xfrm rot="10800000">
              <a:off x="2766600" y="2358360"/>
              <a:ext cx="839520" cy="315828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cxnSp>
          <p:nvCxnSpPr>
            <p:cNvPr id="113" name="_s112646"/>
            <p:cNvCxnSpPr>
              <a:stCxn id="114" idx="1"/>
              <a:endCxn id="112" idx="2"/>
            </p:cNvCxnSpPr>
            <p:nvPr/>
          </p:nvCxnSpPr>
          <p:spPr>
            <a:xfrm rot="10800000">
              <a:off x="2766600" y="2358360"/>
              <a:ext cx="839520" cy="197388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cxnSp>
          <p:nvCxnSpPr>
            <p:cNvPr id="115" name="_s112647"/>
            <p:cNvCxnSpPr>
              <a:stCxn id="116" idx="1"/>
              <a:endCxn id="112" idx="2"/>
            </p:cNvCxnSpPr>
            <p:nvPr/>
          </p:nvCxnSpPr>
          <p:spPr>
            <a:xfrm rot="10800000">
              <a:off x="2766600" y="2358360"/>
              <a:ext cx="839520" cy="78984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sp>
          <p:nvSpPr>
            <p:cNvPr id="112" name="_s112648"/>
            <p:cNvSpPr/>
            <p:nvPr/>
          </p:nvSpPr>
          <p:spPr>
            <a:xfrm>
              <a:off x="250920" y="156996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03c72"/>
                  </a:solidFill>
                  <a:latin typeface="Arial"/>
                </a:rPr>
                <a:t>903 m € for 2007-20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3c72"/>
                  </a:solidFill>
                  <a:latin typeface="Arial"/>
                </a:rPr>
                <a:t>218,6 m €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99"/>
                  </a:solidFill>
                  <a:latin typeface="Arial"/>
                </a:rPr>
                <a:t>in 2009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649"/>
            <p:cNvSpPr/>
            <p:nvPr/>
          </p:nvSpPr>
          <p:spPr>
            <a:xfrm>
              <a:off x="3606120" y="275400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03c72"/>
                  </a:solidFill>
                  <a:latin typeface="Arial"/>
                </a:rPr>
                <a:t>Obj 1. Development actions aiming at promoting inclusive and empowered society in partner countries &amp; regions (741 m € = 82%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12650"/>
            <p:cNvSpPr/>
            <p:nvPr/>
          </p:nvSpPr>
          <p:spPr>
            <a:xfrm>
              <a:off x="3606120" y="393804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12651"/>
            <p:cNvSpPr/>
            <p:nvPr/>
          </p:nvSpPr>
          <p:spPr>
            <a:xfrm>
              <a:off x="3606120" y="512208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8002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03c72"/>
                  </a:solidFill>
                  <a:latin typeface="Arial"/>
                </a:rPr>
                <a:t>Obj 3. Coordination and networking in Europe </a:t>
              </a:r>
              <a:br>
                <a:rPr sz="1600"/>
              </a:br>
              <a:r>
                <a:rPr b="0" lang="en-GB" sz="1600" spc="-1" strike="noStrike">
                  <a:solidFill>
                    <a:srgbClr val="103c72"/>
                  </a:solidFill>
                  <a:latin typeface="Arial"/>
                </a:rPr>
                <a:t>(18 m € = 2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6453360"/>
            <a:ext cx="691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00000">
            <a:off x="3657600" y="3997080"/>
            <a:ext cx="473400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Obj 2. Awareness raising and development education in Europe (126 m € = 1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78644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Objective 2: DE &amp; AR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216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Verdana"/>
              </a:rPr>
              <a:t>Objective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wareness raising and development education in the EU and acceding countries for development issu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Verdana"/>
              </a:rPr>
              <a:t>Prioritie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ublic support for MDG agenda, in part. Sub Saharan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herence for development in areas of public interest: migration, trade, security, social dimension…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Media and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83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72400" y="3352680"/>
            <a:ext cx="7779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mplementation of Programm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ough Call for Proposals(Cf)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st CfP: EuropeAid/127765/C/ACT/Multi, published 18/12/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ere to find inf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s://webgate.ec.europa.eu/europeaid/online-services/index.cfm?ADSSChck=1258626749850&amp;do=publi.welcome&amp;userlanguage=en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Reference: 12776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xt CfP March/April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mplementation of Programm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ough Call for Proposals(Cf)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st CfP: EuropeAid/127765/C/ACT/Multi, published 18/12/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ere to find inf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s://webgate.ec.europa.eu/europeaid/online-services/index.cfm?ADSSChck=1258626749850&amp;do=publi.welcome&amp;userlanguage=en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Reference: 12776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xt CfP March/April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Statistics last CfP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2 Stage: Concept Note – Full Propos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666880"/>
          <a:ext cx="8001000" cy="1419480"/>
        </p:xfrm>
        <a:graphic>
          <a:graphicData uri="http://schemas.openxmlformats.org/drawingml/2006/table">
            <a:tbl>
              <a:tblPr/>
              <a:tblGrid>
                <a:gridCol w="865080"/>
                <a:gridCol w="865440"/>
                <a:gridCol w="865080"/>
                <a:gridCol w="1081080"/>
                <a:gridCol w="1081080"/>
                <a:gridCol w="1081080"/>
                <a:gridCol w="1081080"/>
                <a:gridCol w="1081080"/>
              </a:tblGrid>
              <a:tr h="92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 Refer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presel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Aplications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 sel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 rate: selected vs received 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Two interesting projects as examples: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“Jobs Jobs Jobs, Decent work for all, the key to eradicating poverty”</a:t>
            </a:r>
            <a:br>
              <a:rPr sz="2000"/>
            </a:b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Partner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Solidar, War on Want, Olaf Palme Centre, Progetto Svilupp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dge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1,4 MEURO, EC contribution 75%, 3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Creation of decent work for women and men as a key factor to reduce poverty in developing countri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 research &amp; materials: case studies (informal economy in Zambia, Agriculture in South Africa…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 dissemination: website, presswork, electronic newslet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 advocacy: roundtables, international confere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rchma</cp:lastModifiedBy>
  <dcterms:modified xsi:type="dcterms:W3CDTF">2009-11-19T16:21:00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