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84BA-4EDD-4A8D-8784-D4EDDBE96A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9F29F2D4-F848-41EF-975B-1574173A5C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738F896E-2567-477E-A604-EC91776972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124FF7C5-CD16-41D4-B0D1-16C06E0387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EBF5AD0B-FC2C-4167-A0B8-EBE8031C0A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9143000A-D262-4802-B3DD-1C3EE243D4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1D9A94CE-D96E-4EAC-A1CB-0D9E49E47B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542D4803-E3E1-4480-A6E7-267C4B5D57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A532010B-5F7F-4A78-9E99-3910A22BCE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6652D2F0-7278-4179-A588-719183C386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E0EE1D56-BC1E-47B3-BA35-1292DA9776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E40B5A94-62C4-4492-90BF-C1D36558B2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708F-46D0-4D2E-BBF7-509FA5FA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38D3-6D95-4081-BF90-23D384F9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C0DE-D511-433D-B2BB-E4E4564F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D49B-1245-4B0A-80A2-FF43D626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90E4-3823-4981-A3DC-0E98326A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DE2D-3217-4898-A64E-9DD4C085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7921-9DCD-4990-BF69-0877B39B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4E13-A880-4788-A441-F380D26F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769D-002A-4B8F-B62C-0B0079AD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CD05-497E-4387-B3BE-EBF062CD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C60F-E28A-4F30-9739-F89AFDB6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8CDA-4435-43D1-AA9F-0BA7BB77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C4E4-EBD4-4B6E-94A3-CE8CD21C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C3B4-572D-46CD-B12C-F242FA95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60EB-A6AE-4DC3-8971-124AB0D1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C688-86DE-4041-85C5-7F0D0EA6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2D4F-A500-48F1-BA3B-249EB7B6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0241-2E15-4C55-99A6-0EF14918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2857-D96D-4F20-A03A-7381D738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DB7A-3D25-411A-AE38-DB113F84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9200-0CCC-42BA-AD02-EEE38131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BFF5-D902-4DCA-9ADF-C493D893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399-AEB4-46C0-92D6-08A7EDC9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8487-DA6F-4E3A-81E9-4E4E5FA1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ec.europa.eu/avservices/download/events_download_en.cfm?idphoto=5699&amp;nump=p-012531-00-01&amp;src=1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E5E5-01B3-4658-A75E-465A19D50F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click to downloa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0B2D-23CD-4A2F-89BC-3BD9428925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DEAF-07EC-4C4F-A84C-12C5D6B8EB78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03280" y="472428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ert Nelson, Regional Programm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vil Society Facility – Horizont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Planned Regional activities (2.1)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ople 2 People” Programme (€4 Million)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se EU visits for groups of people belonging to existing organisations, individuals who play a central role in disseminating information on EU policies and are reputed promoters of civil society rights and ro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ising awareness on relevant EU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inging the understanding of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cqu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loser to citize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imulating NGOs influence and dissemination of knowled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elling relationship between CSOs, CSOs and the public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Planned Regional activities (2.2)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ople 2 People” Programme 2008 events in Bruss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1-14 November - EU decision-making process and institutions for young branches of political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8-21 November - Intercultural dialo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4-27 November- Children’s Rights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-4 December - Health Challenges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9-12 December -Employment and Social Dialo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aiex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Planned Regional activities (2.3)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341360"/>
            <a:ext cx="849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72960" indent="-37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ople 2 People” Programme 2009: events planned (Tai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icipatory democracy, lobbying and advocacy towards different levels of governance, stimulation citizens' participations in Civil Socie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feguarding and promotion of rights for inclusion of dis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cial aspects in agricultural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ole of the civil society in combating corru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ole of the civil society in the inclusion of the Ro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bating discrimination in all forms. Legislation and goo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ss to justice. Legal 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ights and Fundamental Freedo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earch Potential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mer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Planned Regional activities (3)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76920" indent="-37692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artnership Actions (€4.5 Million)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nvironmental Forum (€0.3 mill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t up NGO/EC platform / system of information and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nvironment, Energy Efficiency, Health and Security at Work (€4.0 mill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ing networks and partnership in the region and at the 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ouraging intervention and transparency of public administr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stering public awareness on good practices and legal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Fight Against Corruption, Organised Crime and Trafficking (€4.5 mill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wareness of citizens, CSOs and media about needs in the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structure for constant monitoring of implementation of r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and develop CSO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Ideas on Regional activities 2009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s for Proposals that group all sorts of CSOs, socio-economic partners, public administrations, education institutes, etc. acting in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ransnat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n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mes could 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d and product saf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on, Research &amp;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social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cio-economic) Integration of disadvantag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n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Implementation and duration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197000"/>
            <a:ext cx="8425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ical Assistance: Service Contract (24 month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2P” Programme: Service Contract on an annual ba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nership Actions: Calls for Propos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Environment Forum: Service contract (24 month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Environment, Energy Efficiency, Health and Security at Work: Grants up to 24 mont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Fight against Crime, Corruption and Trafficking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nts up to 24 mont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Planned National Activities</a:t>
            </a:r>
            <a:br>
              <a:rPr sz="2800"/>
            </a:b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1375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plementar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375"/>
              </a:spcBef>
              <a:spcAft>
                <a:spcPts val="13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ey challeng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to strengthen the civil society dialogue in  the overall process of the countries’ acce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375"/>
              </a:spcBef>
              <a:spcAft>
                <a:spcPts val="13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ivil society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capacity building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will gain in impor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375"/>
              </a:spcBef>
              <a:spcAft>
                <a:spcPts val="13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lemented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eithe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by EC Delegations </a:t>
            </a:r>
            <a:br>
              <a:rPr sz="2200"/>
            </a:b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Croatia and Turkey by the Beneficiary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“decentralised management” (DIS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Planned National Activities in 2008</a:t>
            </a:r>
            <a:br>
              <a:rPr sz="2800"/>
            </a:b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ly Calls for Proposals for grants to Civil Society Organisatio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snia and Herzegovi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€3.5 Mill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at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€3.0 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rmer Yugoslav Republic of Macedon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€1.2 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b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€2.0 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sovo (under UNSCR 124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€1.7 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€3.2 Mill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bania and Montenegro are concentrating on existing support under CARDS and will programme new activities under the Civil Society Facility in 200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OTHER INITIATIVES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A: Cross-Border Cooperation (CB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an Initiative for Democracy and Human Rights (EIDH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Programm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ph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 for Citize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Albania </a:t>
            </a:r>
            <a:br>
              <a:rPr sz="2800"/>
            </a:b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National Activities in 2008</a:t>
            </a:r>
            <a:br>
              <a:rPr sz="2800"/>
            </a:b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veral CARDS projects provide support to CS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apacity-building and greater involvement in EU policy debate (€1.0 Millio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rticipation in protection schemes for victims of human trafficking and in social service delivery (€0.7 Millio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rengthening advocacy role and CSO contribution to the protection of basic rights, gender equality and marginalised persons (€1.2 M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fore no new actions have been programmed in 200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Project Background (1)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just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005/2006 Commission Communi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 the “Western Balkans” and on “Civil Society Dialogue in Candidate Countries”: the importance of extended relationship between CSOs from Europe and from the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007/2008 Enlargement Strategy Pap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commitments by the European Commission to improve the quality of enlargement process by emphasising fundamental issues such as civil society development and people-to-people contacts within the region and with the E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Bosnia and Herzegovina</a:t>
            </a:r>
            <a:br>
              <a:rPr sz="2800"/>
            </a:b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 National Activities in 2008</a:t>
            </a:r>
            <a:br>
              <a:rPr sz="2800"/>
            </a:b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7168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IPA 2008 programme (€3.5 Million) will consist of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pporting the cooperation of CSOs with municipal author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tablishing a permanent NGO fee-based training Cent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aising the capacity of CSOs in addressing environmental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ating and implementing the National Youth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 will be implemented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call for proposal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 to provide support in fields not covered by the regional T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grant agreement with UND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Croatia </a:t>
            </a:r>
            <a:br>
              <a:rPr sz="2800"/>
            </a:b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National Activities in 2008</a:t>
            </a:r>
            <a:br>
              <a:rPr sz="2800"/>
            </a:b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7168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im: Improving CSO capacity to monitor and implement EU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acqui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transparency and accountability, the fight against corruption, anti-discrimination strategy and sustainable develop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ach grant will include capacity-building and networking encouraging contacts with EU counterpar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lemented via 3 grant schemes (each €1.15 Millio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alls for Proposals: 1st quarter  -  contracts to be signed in 4th quarter of 200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ff6600"/>
                </a:solidFill>
                <a:uFillTx/>
                <a:latin typeface="Arial"/>
              </a:rPr>
              <a:t>fYRoM </a:t>
            </a:r>
            <a:br>
              <a:rPr sz="2800"/>
            </a:br>
            <a:r>
              <a:rPr b="1" lang="en-GB" sz="2800" spc="-1" strike="noStrike" u="sng">
                <a:solidFill>
                  <a:srgbClr val="ff6600"/>
                </a:solidFill>
                <a:uFillTx/>
                <a:latin typeface="Arial"/>
              </a:rPr>
              <a:t>National Activities in 2008</a:t>
            </a:r>
            <a:br>
              <a:rPr sz="2800"/>
            </a:b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68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pport (€1.2 Million) to CSOs in decision-making and providing social services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pport the implementation of the strategy for cooperation between the Government and the civil secto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e the involvement of civil society in the process of policy-making particularly those connected to EU integratio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participation of civil society in providing social assist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jects will start in 200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Kosovo (under UNSCR 1244/99) </a:t>
            </a:r>
            <a:br>
              <a:rPr sz="2800"/>
            </a:b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Planned National Activities in 2008</a:t>
            </a:r>
            <a:br>
              <a:rPr sz="2800"/>
            </a:b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 IPA 2008: grant scheme of €1.7 Million to support the civil society sect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kely area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vironment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qual opportunities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sion of social services to specific vulnerable group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expected that contracts will be signed in early 200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Montenegro </a:t>
            </a:r>
            <a:br>
              <a:rPr sz="2800"/>
            </a:b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National Activities in 2008</a:t>
            </a:r>
            <a:br>
              <a:rPr sz="2800"/>
            </a:b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the IPA 2008 no new CSO actions programm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PA 2007: CSO projects started in 2008 to facilitate dialogue and partnership between local and EU CSOs, particularly in social, health and cultural fiel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PA 2009: to provide feedback for extra support (€3 Mill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tivities envisaged to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aise awareness on EU environmental policy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pport anti-discrimination initiatives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hance cultural dialogue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pport the Government Office for Cooperation with NG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tivities are expected to begin in 201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Serbia </a:t>
            </a:r>
            <a:br>
              <a:rPr sz="2800"/>
            </a:b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National Activities in 2008</a:t>
            </a:r>
            <a:br>
              <a:rPr sz="2800"/>
            </a:b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168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der the IPA 2008 €2 Million for C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im to strengthen dialogue and partnership between the Serbian government and civil society as well as to promote and reinforce the capacity of CS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l projects ready for tendering in the 1st quarter of 2009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Turkey </a:t>
            </a:r>
            <a:br>
              <a:rPr sz="2800"/>
            </a:b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National Activities in 2008</a:t>
            </a:r>
            <a:br>
              <a:rPr sz="2800"/>
            </a:b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68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ddition to the current implementation of Civil Society Dialogue programme, the IPA 2008–2010 will offer a further opportunity for strengthening dialogue (€30 ‑ 45 Million) and will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ilitate domestic development of civil society and its involvement in the shaping public policies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inforce social dialogue and trade union rights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mote cultural diversity and minority rights;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 social inclusion of vulnerable persons, including Ro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2009 and 2010, projects will be launched to reinforce the democratic participation of civil socie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Project Background (2)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7: Launch of the New Civil Society Facility through three str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 algn="just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Civic Initiatives and Capacity Buil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 algn="just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“People to People”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 algn="just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Partnership 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 algn="just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: Commission Communication on Western Balkans: creating conditions conducive to further growth of CSOs’ activities that complement positive steps made so far in the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 algn="just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Project Objective and Purpose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rengthen civil society within a participative democracy, stimulating a civil society friendly 'environment' and cul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e the overall capacities, accountability and credibility of C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hance CSOs' services and role in the democratic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inforce dialogue and strengthen ties between CSOs within the region and with their counterparts in the E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lop CSOs’ consultation towards citizens and public bo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Points of concern: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itimacy and credibility of CSOs are recognise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 framework facilitating CSO activit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fficient absorption capacity of CS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ed cooperation between CS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al policies supportive to CSOs’ catalytic ro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tizens’ trust of CSO activit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nors continue engagement in supporting civil soci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Expected results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d capacities and capabilities of C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onger networking (local &amp; interna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tter understanding of EU affairs and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hanced visibility, participation, influenc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re participation of society in CSOs and their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CIVIL SOCIETY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Measurable indicators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number of advisory services provided by CS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mutual cooperation among CSOs, and with public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number of new partnerships at network, national or regional, and EU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number of new EU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number of good practices, information and communications exchanges in the region and the EU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evel of democracy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Conclusions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ivil Society Facility will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harmonise civil society support under IP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aims to combine the regional and national approa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ulti-beneficiary programme may prepare the grounds for national programm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some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the same time, it will complement national programmes by providing multi-country cooperation and exchange opportunities for C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539640" y="1413000"/>
            <a:ext cx="82296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Planned Regional activities (1)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 priority needs of the civil society sector in the reg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and deliver training program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 communication tools, e.g. website and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ise on ad hoc basis individual C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aluate the impact of (donor funded)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 and disseminate project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ise on further actions (Call for proposal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chnical Assistance (€8 Mill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8:42:32Z</dcterms:created>
  <dc:creator>Caitriona Ni Raghallaigh</dc:creator>
  <dc:description/>
  <dc:language>en-US</dc:language>
  <cp:lastModifiedBy>vissehk</cp:lastModifiedBy>
  <dcterms:modified xsi:type="dcterms:W3CDTF">2009-10-05T09:20:33Z</dcterms:modified>
  <cp:revision>18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