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56E-48A5-4553-9BFA-DF08630E9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75180B7-19B2-4E60-91E2-A82CF5C7F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A80AE85-8C5E-4FCF-923A-74CDFFBE8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8217C33-58BD-4DB3-AC91-66B886D15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7FB6E3F-4C79-4B64-9CDA-983604776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28FC51A-6ED1-4BDE-B5DB-31980A8C3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4937E37-4A58-44EB-AF50-89E3D587E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2666014-EE60-48FD-A18C-2AB3E60F1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832D12F-8645-4B29-93A4-8D139B546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A35CDD0-78D1-4D3A-913C-A18FE0E96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2573CB3-2794-4F80-A3DC-3D2E7E5D8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C704FB8-2725-44FB-B89C-A45EB997D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4F3-4AAE-4D37-8DC1-973C04D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C0E-E9C3-4A05-A861-33872599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0C7-3474-41DB-88F4-96196C69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851-6084-4137-B8ED-9314EA51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B18E-B725-4AC0-B5E6-CFE7A912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825-94B1-4C1F-BB8E-4C13B0C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8DC-6601-44A0-9CAA-F18E1276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CD39-3E41-4B5A-BE34-49D2D04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44C-7BE1-4457-A802-3BCFFC4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8E41-2938-4E80-A7C5-0152252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370-47C2-4114-8615-B38135B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345-120A-42F3-AF57-D14FD467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ECB3-9060-4B9B-AC02-EE0662E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5E3-49A5-4F48-9471-2489FE5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F08-A93F-4455-9DAE-1E60B85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469-1918-4381-9C12-3C02AA2E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38E-4192-4E87-879C-7331394E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A91-6EB2-4B81-A541-4DE61B11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DAC-9986-49FF-888D-A40AD6ED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6B2-EA40-419D-B20B-354DFFC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008-500B-4ED8-A17E-9A04C83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9EB-3479-4FCB-B23A-06FDD11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3CC-A978-4833-A21F-EC30894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B59-B734-4179-987A-ADD7310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.europa.eu/avservices/download/events_download_en.cfm?idphoto=5699&amp;nump=p-012531-00-01&amp;src=1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DE5-3D77-4424-B857-2D498A216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click to downloa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711-0A21-4DE7-8755-5551E7156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DB1D-BE11-4402-9087-32B56156D01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72428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Nelson, Regional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 Society Facility – Horizo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(€4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EU visits for groups of people belonging to existing organisations, individuals who play a central role in disseminating information on EU policies and are reputed promoters of civil society rights and 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ing awareness on relevant EU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the 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oser to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NGOs influence and dissemination of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ling relationship between CSOs, CSOs and the public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8 events in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-14 November - EU decision-making process and institutions for young branches of political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21 November - Intercultur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-27 November- Children’s Right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4 December - Health Challeng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-12 December -Employment and Soci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aiex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34136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9: events planned (Tai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tory democracy, lobbying and advocacy towards different levels of governance, stimulation citizens' participations in Civi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guarding and promotion of rights for inclusion of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aspects in agricultur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combating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the inclusion of the R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ating discrimination in all forms. Legislation and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o justice. Legal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nd Fundamental Freedo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Potential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artnership Actions (€4.5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al Forum (€0.3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up NGO/EC platform / system of information an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, Energy Efficiency, Health and Security at Work (€4.0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ing networks and partnership in the region and at the 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intervention and transparency of public administ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ing public awareness on good practices and legal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ght Against Corruption, Organised Crime and Trafficking (€4.5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wareness of citizens, CSOs and media about needs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structure for constant monitoring of implementation of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develop CSO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deas on Regional activities 2009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or Proposals that group all sorts of CSOs, socio-economic partners, public administrations, education institutes, etc. acting 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c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product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, Research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cio-economic) Integration of disadvanta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lementation and dur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8425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” Programme: Service Contract on an annual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hip Actions: Calls for Propos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Environment Forum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Environment, Energy Efficiency, Health and Security at Work: 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ight against Crime, Corruption and Traffick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1375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y challeng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o strengthen the civil society dialogue in  the overall process of the countries’ acc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vil society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apacity build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ll gain in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y EC Delegation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roatia and Turkey by the Beneficiary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“decentralised management” (DIS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Calls for Proposals for grants to Civil Society Organis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nia and Herzegov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5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2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2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sovo (under UNSCR 124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7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2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ania and Montenegro are concentrating on existing support under CARDS and will programme new activities under the Civil Society Facility in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THER INITIATIVE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: Cross-Border Cooperation (C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Initiative for Democracy and Human Rights (EID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rogramm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for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lban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veral CARDS projects provide support to C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pacity-building and greater involvement in EU policy debate (€1.0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n protection schemes for victims of human trafficking and in social service delivery (€0.7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advocacy role and CSO contribution to the protection of basic rights, gender equality and marginalised persons (€1.2 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fore no new actions have been programmed in 2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5/2006 Commission Commun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“Western Balkans” and on “Civil Society Dialogue in Candidate Countries”: the importance of extended relationship between CSOs from Europe and from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7/2008 Enlargement Strategy Pa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ommitments by the European Commission to improve the quality of enlargement process by emphasising fundamental issues such as civil society development and people-to-people contacts within the region and with the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osnia and Herzegovina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IPA 2008 programme (€3.5 Million) will consist of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ing the cooperation of CSOs with municipal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blishing a permanent NGO fee-based training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ing the capacity of CSOs in addressing environment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ng and implementing the National Youth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be implemen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all for proposal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to provide support in fields not covered by the regional 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grant agreement with UND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roat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: Improving CSO capacity to monitor and implement EU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transparency and accountability, the fight against corruption, anti-discrimination strategy and sustainable develop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grant will include capacity-building and networking encouraging contacts with EU counterpa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via 3 grant schemes (each €1.15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ls for Proposals: 1st quarter  -  contracts to be signed in 4th quarter of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fYRoM </a:t>
            </a:r>
            <a:br>
              <a:rPr sz="2800"/>
            </a:b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(€1.2 Million) to CSOs in decision-making and providing social services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implementation of the strategy for cooperation between the Government and the civil sect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involvement of civil society in the process of policy-making particularly those connected to EU integr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ticipation of civil society in providing social as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s will start in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Kosovo (under UNSCR 1244/99)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IPA 2008: grant scheme of €1.7 Million to support the civil society sec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ly ar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social services to specific vulnerable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expected that contracts will be signed in early 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ontenegro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IPA 2008 no new CSO actions programm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7: CSO projects started in 2008 to facilitate dialogue and partnership between local and EU CSOs, particularly in social, health and cultural fiel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9: to provide feedback for extra support (€3 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envisaged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e awareness on EU environmental polic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anti-discrimination initiativ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ultural dialogu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Government Office for Cooperation with NG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re expected to begin in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erb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 the IPA 2008 €2 Million for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 to strengthen dialogue and partnership between the Serbian government and civil society as well as to promote and reinforce the capacity of C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projects ready for tendering in the 1st quarter of 200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urkey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ddition to the current implementation of Civil Society Dialogue programme, the IPA 2008–2010 will offer a further opportunity for strengthening dialogue (€30 ‑ 45 Million) and wil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 domestic development of civil society and its involvement in the shaping public polici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inforce social dialogue and trade union righ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cultural diversity and minority right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social inclusion of vulnerable persons, including Ro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9 and 2010, projects will be launched to reinforce the democratic participation of civil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7: Launch of the New Civil Society Facility through three str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ivic Initiatives and Capacity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“People to People”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artnership 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: Commission Communication on Western Balkans: creating conditions conducive to further growth of CSOs’ activities that complement positive steps made so far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Objective and Purpos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civil society within a participative democracy, stimulating a civil society friendly 'environment' and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overall capacities, accountability and credibility of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SOs' services and role in the democratic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inforce dialogue and strengthen ties between CSOs within the region and with their counterparts in the 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CSOs’ consultation towards citizens and public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ints of concern: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cy and credibility of CSOs are recogni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framework facilitating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 absorption capacity of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cooperation between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policies supportive to CSOs’ catalytic 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izens’ trust of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ors continue engagement in supporting civil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xpected result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capacities and capabilities of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nger networking (local &amp; 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ter understanding of EU affairs and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d visibility, participation, influ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participation of society in CSOs and thei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IVIL SOCIETY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easurable indicator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advisory services provided by C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mutual cooperation among CSOs, and with public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partnerships at network, national or regional, and EU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EU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good practices, information and communications exchanges in the region and the EU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evel of democrac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clusion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ivil Society Facility wil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harmonise civil society support under 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aims to combine the regional and national appro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lti-beneficiary programme may prepare the grounds for national program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some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same time, it will complement national programmes by providing multi-country cooperation and exchange opportunities for C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priority needs of the civil society sector in the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deliver training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 communication tools, e.g. website an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ad hoc basis individual C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the impact of (donor funded)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nd disseminate projec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further actions (Call for proposa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al Assistance (€8 M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vissehk</cp:lastModifiedBy>
  <dcterms:modified xsi:type="dcterms:W3CDTF">2009-10-05T09:20:33Z</dcterms:modified>
  <cp:revision>1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