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F5A0-1A55-49F9-B97E-8878B6361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4EC92AB-98F3-47F9-879C-947634F830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E184D0A-C236-4DF5-8A2A-1A0F56731A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701F355-B5E9-4A0E-9D74-F1644E745A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725348A-9678-454B-A0EF-B1808F691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EE1978B-41C5-45D4-A7C4-8763EE69BF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A898F7C-CDCD-45B3-8B90-1F77999E80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179357B-A54C-4752-8BFE-680D12B9C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50E0C71-9591-44CD-ADE9-BB7254AFE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378F2CA-8B29-493C-AA88-C4DC54B5B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9F3B906-1DF9-4263-B53A-487B8C3F9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F30D341-8752-481E-A0AA-23AEE57054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0D6-158F-477B-BE9F-23972217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EF9E-6EC2-4BE0-B47E-EB98228D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658-BC14-4EAC-824D-415C57D5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95F-5FF8-447A-812A-717C56D5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1010-692E-427D-8B24-AFEB254D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19BF-E8B0-4D36-8B1A-788B9F8B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C2B5-87BA-4AC9-BE77-00ABF520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3935-4203-4E3F-A8A2-ABE94FB8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C23F-A07F-499E-91FD-81BE7BDD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E3D8-676A-451C-8CB4-7DE6F744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DA83-89AB-4DFE-B7F2-E0B9CAD8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5B9-C018-41D4-A37E-65EB8D69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361A-475C-4174-87AA-9369F139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FB37-82BD-444E-94BA-508E4456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5A4E-20D9-43EF-9017-4D951F4A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8A59-1439-49C7-A52C-7D2DF12C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32F7-EDC9-4266-A691-0CD9415E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790-8965-471E-8CC0-9049F17D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48E-269B-4768-84DC-019716AB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BE9-B3AF-4322-99DF-17FABA4E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DAC-F0BF-4BB2-A2F8-1ACB3573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A51-F786-496F-B588-C88E3DF1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682-2F82-43A4-9081-839E8953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9DF-5CFD-4ED9-ACA2-9CA5943F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ec.europa.eu/avservices/download/events_download_en.cfm?idphoto=5699&amp;nump=p-012531-00-01&amp;src=1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28E6-1972-4335-AD97-442989345A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click to downloa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61CE-9936-4406-BAA6-21445478FC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13CB-3427-48A9-8897-7E111E488B9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472428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Nelson, Regional Progr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vil Society Facility – Horizont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2.1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ople 2 People” Programme (€4 Million)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 EU visits for groups of people belonging to existing organisations, individuals who play a central role in disseminating information on EU policies and are reputed promoters of civil society rights and 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sing awareness on relevant EU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ing the understanding of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loser to citiz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mulating NGOs influence and dissemination of knowled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elling relationship between CSOs, CSOs and the public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2.2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ople 2 People” Programme 2008 events in Bru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-14 November - EU decision-making process and institutions for young branches of political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21 November - Intercultural di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4-27 November- Children’s Rights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-4 December - Health Challenges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-12 December -Employment and Social Di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aiex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2.3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34136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72960" indent="-37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ople 2 People” Programme 2009: events planned (Tai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ipatory democracy, lobbying and advocacy towards different levels of governance, stimulation citizens' participations in Civil Socie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guarding and promotion of rights for inclusion of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aspects in agricultura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 of the civil society in combating 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 of the civil society in the inclusion of the Ro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ating discrimination in all forms. Legislation and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to justice. Legal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ights and Fundamental Freedo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 Potential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3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6920" indent="-37692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artnership Actions (€4.5 Million)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vironmental Forum (€0.3 mill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up NGO/EC platform / system of information and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vironment, Energy Efficiency, Health and Security at Work (€4.0 mill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ing networks and partnership in the region and at the 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ing intervention and transparency of public administ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stering public awareness on good practices and legal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Fight Against Corruption, Organised Crime and Trafficking (€4.5 mill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wareness of citizens, CSOs and media about needs in th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structure for constant monitoring of implementation of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nd develop CSO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deas on Regional activities 2009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s for Proposals that group all sorts of CSOs, socio-economic partners, public administrations, education institutes, etc. acting i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nsn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s could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product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, Research &amp;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social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cio-economic) Integration of disadvantag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n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mplementation and duration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197000"/>
            <a:ext cx="8425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Assistance: Service Contract (24 month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2P” Programme: Service Contract on an annual ba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nership Actions: Calls for Propos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Environment Forum: Service contract (24 month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Environment, Energy Efficiency, Health and Security at Work: Grants up to 24 mon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Fight against Crime, Corruption and Traffick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s up to 24 mon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lanned National Activities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1375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lementar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spcAft>
                <a:spcPts val="13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ey challeng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to strengthen the civil society dialogue in  the overall process of the countries’ acc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spcAft>
                <a:spcPts val="13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ivil society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apacity build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ill gain in impor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spcAft>
                <a:spcPts val="13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lemented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y EC Delegations </a:t>
            </a:r>
            <a:br>
              <a:rPr sz="2200"/>
            </a:b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Croatia and Turkey by the Beneficiary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“decentralised management” (DIS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lanned 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ly Calls for Proposals for grants to Civil Society Organisa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snia and Herzegov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3.5 Mi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3.0 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1.2 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b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2.0 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sovo (under UNSCR 124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1.7 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3.2 Mi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ania and Montenegro are concentrating on existing support under CARDS and will programme new activities under the Civil Society Facility in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THER INITIATIVES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A: Cross-Border Cooperation (C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Initiative for Democracy and Human Rights (EID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Programm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p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 for Citiz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Albania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veral CARDS projects provide support to CS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pacity-building and greater involvement in EU policy debate (€1.0 Mill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ticipation in protection schemes for victims of human trafficking and in social service delivery (€0.7 Mill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ing advocacy role and CSO contribution to the protection of basic rights, gender equality and marginalised persons (€1.2 M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fore no new actions have been programmed in 200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roject Background (1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05/2006 Commission Commun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the “Western Balkans” and on “Civil Society Dialogue in Candidate Countries”: the importance of extended relationship between CSOs from Europe and from the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07/2008 Enlargement Strategy Pa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commitments by the European Commission to improve the quality of enlargement process by emphasising fundamental issues such as civil society development and people-to-people contacts within the region and with the E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Bosnia and Herzegovina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 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IPA 2008 programme (€3.5 Million) will consist of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ing the cooperation of CSOs with municipal auth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ablishing a permanent NGO fee-based training Cen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ising the capacity of CSOs in addressing environment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ing and implementing the National Youth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will be implement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call for proposal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to provide support in fields not covered by the regional T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grant agreement with UND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Croatia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im: Improving CSO capacity to monitor and implement EU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transparency and accountability, the fight against corruption, anti-discrimination strategy and sustainable develop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grant will include capacity-building and networking encouraging contacts with EU counterpar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lemented via 3 grant schemes (each €1.15 Mill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lls for Proposals: 1st quarter  -  contracts to be signed in 4th quarter of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6600"/>
                </a:solidFill>
                <a:uFillTx/>
                <a:latin typeface="Arial"/>
              </a:rPr>
              <a:t>fYRoM </a:t>
            </a:r>
            <a:br>
              <a:rPr sz="2800"/>
            </a:br>
            <a:r>
              <a:rPr b="1" lang="en-GB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(€1.2 Million) to CSOs in decision-making and providing social services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the implementation of the strategy for cooperation between the Government and the civil secto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the involvement of civil society in the process of policy-making particularly those connected to EU integrat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articipation of civil society in providing social as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jects will start in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Kosovo (under UNSCR 1244/99)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lanned 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IPA 2008: grant scheme of €1.7 Million to support the civil society sect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kely are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vironmen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al opportunities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sion of social services to specific vulnerable group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expected that contracts will be signed in early 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Montenegro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IPA 2008 no new CSO actions programm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A 2007: CSO projects started in 2008 to facilitate dialogue and partnership between local and EU CSOs, particularly in social, health and cultural fiel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A 2009: to provide feedback for extra support (€3 M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 envisaged t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ise awareness on EU environmental policy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anti-discrimination initiative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hance cultural dialogu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the Government Office for Cooperation with NG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 are expected to begin in 20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Serbia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der the IPA 2008 €2 Million for C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im to strengthen dialogue and partnership between the Serbian government and civil society as well as to promote and reinforce the capacity of CS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 projects ready for tendering in the 1st quarter of 2009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Turkey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ddition to the current implementation of Civil Society Dialogue programme, the IPA 2008–2010 will offer a further opportunity for strengthening dialogue (€30 ‑ 45 Million) and wil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te domestic development of civil society and its involvement in the shaping public policie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inforce social dialogue and trade union right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te cultural diversity and minority rights;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social inclusion of vulnerable persons, including Ro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2009 and 2010, projects will be launched to reinforce the democratic participation of civil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roject Background (2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7: Launch of the New Civil Society Facility through three str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ivic Initiatives and Capacity Buil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“People to People”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artnership 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: Commission Communication on Western Balkans: creating conditions conducive to further growth of CSOs’ activities that complement positive steps made so far in th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roject Objective and Purpose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 civil society within a participative democracy, stimulating a civil society friendly 'environment' and 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the overall capacities, accountability and credibility of C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hance CSOs' services and role in the democratic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inforce dialogue and strengthen ties between CSOs within the region and with their counterparts in the 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CSOs’ consultation towards citizens and public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oints of concern: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timacy and credibility of CSOs are recognis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 framework facilitating CSO activ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fficient absorption capacity of CS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d cooperation between CS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policies supportive to CSOs’ catalytic ro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izens’ trust of CSO activ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ors continue engagement in supporting civil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Expected results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d capacities and capabilities of C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onger networking (local &amp; intern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ter understanding of EU affairs and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d visibility, participation, influe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re participation of society in CSOs and their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CIVIL SOCIETY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easurable indicators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advisory services provided by C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mutual cooperation among CSOs, and with public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new partnerships at network, national or regional, and EU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new EU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good practices, information and communications exchanges in the region and the EU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evel of democrac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Conclusions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ivil Society Facility will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harmonise civil society support under I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aims to combine the regional and national approa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lti-beneficiary programme may prepare the grounds for national programm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some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same time, it will complement national programmes by providing multi-country cooperation and exchange opportunities for C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2296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1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priority needs of the civil society sector in the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nd deliver training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 communication tools, e.g. website an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ise on ad hoc basis individual C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e the impact of (donor funded)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and disseminate projec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ise on further actions (Call for proposa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chnical Assistance (€8 Mill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vissehk</cp:lastModifiedBy>
  <dcterms:modified xsi:type="dcterms:W3CDTF">2009-10-05T09:20:33Z</dcterms:modified>
  <cp:revision>1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