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EF3-F33B-4A1F-BE33-A8426D4C7E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90D6-D126-4A90-B22E-812C75E813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93F-AE5B-4C90-9463-E93BA9EA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FC2-E866-4E8E-A711-7A08CF7B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A36-613B-4883-811A-CE6D2DE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1F7-BBB7-4E5A-8111-F6AFF3C7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4D7-4597-4162-8DF8-FAE5155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D51-5B70-4D9F-B216-B9D12F3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759-752A-4488-9099-BDEEAE9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091-58E9-4247-AC54-FD82034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F3B-1A09-4DB4-BB10-4C05C29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056-C13A-45A0-95A0-BDD4BCD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39B-3AAA-44F1-A5EB-F51B7F3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520-5BFF-4B2D-9495-C8D3051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279-18CE-44EC-849B-A653B450B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A8D2-00B6-45BC-9C08-705D67BE5D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1928880"/>
            <a:ext cx="7929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streaming Decent Work as a corner stone of the development strategy facing the global crisis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ference on the Global crisis and aid effectiveness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drid  16-17 March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428760" y="357120"/>
            <a:ext cx="1214280" cy="1222560"/>
            <a:chOff x="428760" y="357120"/>
            <a:chExt cx="1214280" cy="1222560"/>
          </a:xfrm>
        </p:grpSpPr>
        <p:sp>
          <p:nvSpPr>
            <p:cNvPr id="50" name="Rectangle 20"/>
            <p:cNvSpPr/>
            <p:nvPr/>
          </p:nvSpPr>
          <p:spPr>
            <a:xfrm>
              <a:off x="716040" y="35712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1"/>
            <p:cNvSpPr/>
            <p:nvPr/>
          </p:nvSpPr>
          <p:spPr>
            <a:xfrm>
              <a:off x="428760" y="644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>
              <a:off x="922320" y="860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3" descr="ILOLOGOS"/>
          <p:cNvPicPr/>
          <p:nvPr/>
        </p:nvPicPr>
        <p:blipFill>
          <a:blip r:embed="rId1"/>
          <a:stretch/>
        </p:blipFill>
        <p:spPr>
          <a:xfrm>
            <a:off x="7500960" y="571680"/>
            <a:ext cx="928800" cy="857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57200" y="4857840"/>
            <a:ext cx="64008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ice Ouédra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Policy Integration Depart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 work in the context of the crisis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ess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2071800"/>
            <a:ext cx="7715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the result of a deliberate and coheren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pillars: inseparable, interrelated and mutually suppor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an inclusive development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ct of the crisis differs from one country to anot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42920" y="428760"/>
            <a:ext cx="1214280" cy="1222200"/>
            <a:chOff x="142920" y="428760"/>
            <a:chExt cx="1214280" cy="1222200"/>
          </a:xfrm>
        </p:grpSpPr>
        <p:sp>
          <p:nvSpPr>
            <p:cNvPr id="58" name="Rectangle 20"/>
            <p:cNvSpPr/>
            <p:nvPr/>
          </p:nvSpPr>
          <p:spPr>
            <a:xfrm>
              <a:off x="43020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14292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3648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3" descr="ILOLOGOS"/>
          <p:cNvPicPr/>
          <p:nvPr/>
        </p:nvPicPr>
        <p:blipFill>
          <a:blip r:embed="rId1"/>
          <a:stretch/>
        </p:blipFill>
        <p:spPr>
          <a:xfrm>
            <a:off x="7929720" y="500040"/>
            <a:ext cx="96192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16F-865D-4098-AB05-2E45415C11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76438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ing from the crisis and looking beyond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lobal Jobs Pac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2600" y="199980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ur pillar crisis-exit and development strateg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Financial framework serving the re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regulated market economy caring for the most vuln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 to environment-friendly ec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sive development (Employment and Global social Floo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214200" y="428760"/>
            <a:ext cx="1214640" cy="1222200"/>
            <a:chOff x="214200" y="428760"/>
            <a:chExt cx="1214640" cy="1222200"/>
          </a:xfrm>
        </p:grpSpPr>
        <p:sp>
          <p:nvSpPr>
            <p:cNvPr id="66" name="Rectangle 20"/>
            <p:cNvSpPr/>
            <p:nvPr/>
          </p:nvSpPr>
          <p:spPr>
            <a:xfrm>
              <a:off x="50148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21420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70812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3" descr="ILOLOGOS"/>
          <p:cNvPicPr/>
          <p:nvPr/>
        </p:nvPicPr>
        <p:blipFill>
          <a:blip r:embed="rId1"/>
          <a:stretch/>
        </p:blipFill>
        <p:spPr>
          <a:xfrm>
            <a:off x="7929720" y="571680"/>
            <a:ext cx="92844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7940-02E5-4030-8CA9-B6ED3D049E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15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the GJP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285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ing decent work at national, regional and global lev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ling with multiple actors with adapted strategies (Governments, Business, UNCT, IFIs, Regional Banks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aging in cross-sectoral policy dialogue and capacity/skills building (Example: MDG review Proces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an active share and branding the added value of tripartism in the UN “Delivering as One “processes (RCs, UNCT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500040" y="428760"/>
            <a:ext cx="1214640" cy="1222200"/>
            <a:chOff x="500040" y="428760"/>
            <a:chExt cx="1214640" cy="1222200"/>
          </a:xfrm>
        </p:grpSpPr>
        <p:sp>
          <p:nvSpPr>
            <p:cNvPr id="74" name="Rectangle 20"/>
            <p:cNvSpPr/>
            <p:nvPr/>
          </p:nvSpPr>
          <p:spPr>
            <a:xfrm>
              <a:off x="78732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50004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9"/>
            <p:cNvSpPr/>
            <p:nvPr/>
          </p:nvSpPr>
          <p:spPr>
            <a:xfrm>
              <a:off x="99396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3" descr="ILOLOGOS"/>
          <p:cNvPicPr/>
          <p:nvPr/>
        </p:nvPicPr>
        <p:blipFill>
          <a:blip r:embed="rId1"/>
          <a:stretch/>
        </p:blipFill>
        <p:spPr>
          <a:xfrm>
            <a:off x="7643880" y="500040"/>
            <a:ext cx="100008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F719-127D-4844-A475-F49066C9C9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 (continued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ocating lessons learned from past crises and lobbying for effective development assistance (Findings from the ILO survey to G-20 Pitts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i packages must continu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 a global social floor is a powerful, affordable recovery and  development strateg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ing major players in development assistance on financing Decent wor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se of the EU, (mid term review of EU financing instrument, Spain’s aid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oul process (Decent work as a strategy for ensuring development effectivene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ith limited policy and fiscal space should be assisted (increased ODA, non-protectionism, south-south cooperati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57120" y="214200"/>
            <a:ext cx="1214640" cy="1222560"/>
            <a:chOff x="357120" y="214200"/>
            <a:chExt cx="1214640" cy="1222560"/>
          </a:xfrm>
        </p:grpSpPr>
        <p:sp>
          <p:nvSpPr>
            <p:cNvPr id="82" name="Rectangle 20"/>
            <p:cNvSpPr/>
            <p:nvPr/>
          </p:nvSpPr>
          <p:spPr>
            <a:xfrm>
              <a:off x="644400" y="2142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357120" y="501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851040" y="717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13" descr="ILOLOGOS"/>
          <p:cNvPicPr/>
          <p:nvPr/>
        </p:nvPicPr>
        <p:blipFill>
          <a:blip r:embed="rId1"/>
          <a:stretch/>
        </p:blipFill>
        <p:spPr>
          <a:xfrm>
            <a:off x="7786800" y="285840"/>
            <a:ext cx="1000080" cy="92844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61FC-BCB8-4F6B-826A-E8B3914654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720" y="867600"/>
            <a:ext cx="4786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217-1625-4614-A9EB-4E34923897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500040" y="571680"/>
            <a:ext cx="1214640" cy="1222200"/>
            <a:chOff x="500040" y="571680"/>
            <a:chExt cx="1214640" cy="1222200"/>
          </a:xfrm>
        </p:grpSpPr>
        <p:sp>
          <p:nvSpPr>
            <p:cNvPr id="91" name="Rectangle 20"/>
            <p:cNvSpPr/>
            <p:nvPr/>
          </p:nvSpPr>
          <p:spPr>
            <a:xfrm>
              <a:off x="787320" y="57168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500040" y="858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993960" y="1074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ILOLOGOS"/>
          <p:cNvPicPr/>
          <p:nvPr/>
        </p:nvPicPr>
        <p:blipFill>
          <a:blip r:embed="rId1"/>
          <a:stretch/>
        </p:blipFill>
        <p:spPr>
          <a:xfrm>
            <a:off x="7500960" y="642960"/>
            <a:ext cx="1071720" cy="961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0:10Z</dcterms:created>
  <dc:creator>ILO</dc:creator>
  <dc:description/>
  <dc:language>en-US</dc:language>
  <cp:lastModifiedBy>abdallah</cp:lastModifiedBy>
  <dcterms:modified xsi:type="dcterms:W3CDTF">2010-03-17T13:02:45Z</dcterms:modified>
  <cp:revision>85</cp:revision>
  <dc:subject/>
  <dc:title>Slide 1</dc:title>
</cp:coreProperties>
</file>