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6DF-D48D-4887-95F2-9A010F9AB3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A9A4-0D28-4D29-BD43-E4652BF36F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98C-1571-4FF9-AACB-46912AB2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6F5-EE31-4C50-89EF-6094428B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68B-F44C-42CA-B8D2-EF68EA76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4DE-1041-4F6B-A431-5D4783C7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981-4D16-48C7-859A-16DFD9FB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3ED-459D-4C54-BBCA-265ECEB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51A-4DFC-457E-ADA3-F895D4DA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03E-4DF7-4865-91FA-2D9B5AC1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0DE-E47C-4EF4-9A62-0EF576DB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CB2-83C3-4709-908C-FACE5A9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72D-25A4-46BA-9822-A78F983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6C4-B102-4936-97F3-2522D3D0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2486-1251-42AC-B24B-6714E136A4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5215-42FD-4678-8BEE-11D226D362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1928880"/>
            <a:ext cx="792972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nstreaming Decent Work as a corner stone of the development strategy facing the global crisis</a:t>
            </a:r>
            <a:br>
              <a:rPr sz="36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ference on the Global crisis and aid effectiveness</a:t>
            </a: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drid  16-17 March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428760" y="357120"/>
            <a:ext cx="1214280" cy="1222560"/>
            <a:chOff x="428760" y="357120"/>
            <a:chExt cx="1214280" cy="1222560"/>
          </a:xfrm>
        </p:grpSpPr>
        <p:sp>
          <p:nvSpPr>
            <p:cNvPr id="50" name="Rectangle 20"/>
            <p:cNvSpPr/>
            <p:nvPr/>
          </p:nvSpPr>
          <p:spPr>
            <a:xfrm>
              <a:off x="716040" y="35712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1"/>
            <p:cNvSpPr/>
            <p:nvPr/>
          </p:nvSpPr>
          <p:spPr>
            <a:xfrm>
              <a:off x="428760" y="6444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9"/>
            <p:cNvSpPr/>
            <p:nvPr/>
          </p:nvSpPr>
          <p:spPr>
            <a:xfrm>
              <a:off x="922320" y="8604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3" descr="ILOLOGOS"/>
          <p:cNvPicPr/>
          <p:nvPr/>
        </p:nvPicPr>
        <p:blipFill>
          <a:blip r:embed="rId1"/>
          <a:stretch/>
        </p:blipFill>
        <p:spPr>
          <a:xfrm>
            <a:off x="7500960" y="571680"/>
            <a:ext cx="928800" cy="857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57200" y="4857840"/>
            <a:ext cx="64008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ice Ouédra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Policy Integration Depart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 work in the context of the crisis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ess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2071800"/>
            <a:ext cx="7715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 work is the result of a deliberate and coherent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pillars: inseparable, interrelated and mutually suppor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 work is an inclusive development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act of the crisis differs from one country to anot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142920" y="428760"/>
            <a:ext cx="1214280" cy="1222200"/>
            <a:chOff x="142920" y="428760"/>
            <a:chExt cx="1214280" cy="1222200"/>
          </a:xfrm>
        </p:grpSpPr>
        <p:sp>
          <p:nvSpPr>
            <p:cNvPr id="58" name="Rectangle 20"/>
            <p:cNvSpPr/>
            <p:nvPr/>
          </p:nvSpPr>
          <p:spPr>
            <a:xfrm>
              <a:off x="43020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14292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3648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13" descr="ILOLOGOS"/>
          <p:cNvPicPr/>
          <p:nvPr/>
        </p:nvPicPr>
        <p:blipFill>
          <a:blip r:embed="rId1"/>
          <a:stretch/>
        </p:blipFill>
        <p:spPr>
          <a:xfrm>
            <a:off x="7929720" y="500040"/>
            <a:ext cx="961920" cy="85716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DFF3-4467-449F-A5C2-43D2F8D8E3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764388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ing from the crisis and looking beyond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lobal Jobs Pac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42600" y="199980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ur pillar crisis-exit and development strateg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Financial framework serving the re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regulated market economy caring for the most vuln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 to environment-friendly econo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sive development (Employment and Global social Floo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214200" y="428760"/>
            <a:ext cx="1214640" cy="1222200"/>
            <a:chOff x="214200" y="428760"/>
            <a:chExt cx="1214640" cy="1222200"/>
          </a:xfrm>
        </p:grpSpPr>
        <p:sp>
          <p:nvSpPr>
            <p:cNvPr id="66" name="Rectangle 20"/>
            <p:cNvSpPr/>
            <p:nvPr/>
          </p:nvSpPr>
          <p:spPr>
            <a:xfrm>
              <a:off x="50148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>
              <a:off x="21420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70812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3" descr="ILOLOGOS"/>
          <p:cNvPicPr/>
          <p:nvPr/>
        </p:nvPicPr>
        <p:blipFill>
          <a:blip r:embed="rId1"/>
          <a:stretch/>
        </p:blipFill>
        <p:spPr>
          <a:xfrm>
            <a:off x="7929720" y="571680"/>
            <a:ext cx="928440" cy="85716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4F51-C78E-49EF-8741-04638F247B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155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the GJP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ibution of Trade Un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28520"/>
            <a:ext cx="8072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ing decent work at national, regional and global lev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ling with multiple actors with adapted strategies (Governments, Business, UNCT, IFIs, Regional Banks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gaging in cross-sectoral policy dialogue and capacity/skills building (Example: MDG review Proces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ing an active share and branding the added value of tripartism in the UN “Delivering as One “processes (RCs, UNCTs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500040" y="428760"/>
            <a:ext cx="1214640" cy="1222200"/>
            <a:chOff x="500040" y="428760"/>
            <a:chExt cx="1214640" cy="1222200"/>
          </a:xfrm>
        </p:grpSpPr>
        <p:sp>
          <p:nvSpPr>
            <p:cNvPr id="74" name="Rectangle 20"/>
            <p:cNvSpPr/>
            <p:nvPr/>
          </p:nvSpPr>
          <p:spPr>
            <a:xfrm>
              <a:off x="78732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50004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9"/>
            <p:cNvSpPr/>
            <p:nvPr/>
          </p:nvSpPr>
          <p:spPr>
            <a:xfrm>
              <a:off x="99396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13" descr="ILOLOGOS"/>
          <p:cNvPicPr/>
          <p:nvPr/>
        </p:nvPicPr>
        <p:blipFill>
          <a:blip r:embed="rId1"/>
          <a:stretch/>
        </p:blipFill>
        <p:spPr>
          <a:xfrm>
            <a:off x="7643880" y="500040"/>
            <a:ext cx="100008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0436-857C-437B-8811-7D3D97D171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ibution of Trade Unions (continued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28760" y="157140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ocating lessons learned from past crises and lobbying for effective development assistance (Findings from the ILO survey to G-20 Pittsbur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i packages must continu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 a global social floor is a powerful, affordable recovery and  development strateg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ing major players in development assistance on financing Decent work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se of the EU, (mid term review of EU financing instrument, Spain’s aid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oul process (Decent work as a strategy for ensuring development effectivenes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ith limited policy and fiscal space should be assisted (increased ODA, non-protectionism, south-south cooperatio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57120" y="214200"/>
            <a:ext cx="1214640" cy="1222560"/>
            <a:chOff x="357120" y="214200"/>
            <a:chExt cx="1214640" cy="1222560"/>
          </a:xfrm>
        </p:grpSpPr>
        <p:sp>
          <p:nvSpPr>
            <p:cNvPr id="82" name="Rectangle 20"/>
            <p:cNvSpPr/>
            <p:nvPr/>
          </p:nvSpPr>
          <p:spPr>
            <a:xfrm>
              <a:off x="644400" y="2142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357120" y="50148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851040" y="71748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13" descr="ILOLOGOS"/>
          <p:cNvPicPr/>
          <p:nvPr/>
        </p:nvPicPr>
        <p:blipFill>
          <a:blip r:embed="rId1"/>
          <a:stretch/>
        </p:blipFill>
        <p:spPr>
          <a:xfrm>
            <a:off x="7786800" y="285840"/>
            <a:ext cx="1000080" cy="92844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127A-02BD-45C1-A648-744D20B62A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720" y="867600"/>
            <a:ext cx="4786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57200" y="27860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167C-3802-41F6-9451-87BDA44285A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500040" y="571680"/>
            <a:ext cx="1214640" cy="1222200"/>
            <a:chOff x="500040" y="571680"/>
            <a:chExt cx="1214640" cy="1222200"/>
          </a:xfrm>
        </p:grpSpPr>
        <p:sp>
          <p:nvSpPr>
            <p:cNvPr id="91" name="Rectangle 20"/>
            <p:cNvSpPr/>
            <p:nvPr/>
          </p:nvSpPr>
          <p:spPr>
            <a:xfrm>
              <a:off x="787320" y="57168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500040" y="8589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993960" y="10749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3" descr="ILOLOGOS"/>
          <p:cNvPicPr/>
          <p:nvPr/>
        </p:nvPicPr>
        <p:blipFill>
          <a:blip r:embed="rId1"/>
          <a:stretch/>
        </p:blipFill>
        <p:spPr>
          <a:xfrm>
            <a:off x="7500960" y="642960"/>
            <a:ext cx="1071720" cy="961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0:10Z</dcterms:created>
  <dc:creator>ILO</dc:creator>
  <dc:description/>
  <dc:language>en-US</dc:language>
  <cp:lastModifiedBy>abdallah</cp:lastModifiedBy>
  <dcterms:modified xsi:type="dcterms:W3CDTF">2010-03-17T13:02:45Z</dcterms:modified>
  <cp:revision>85</cp:revision>
  <dc:subject/>
  <dc:title>Slide 1</dc:title>
</cp:coreProperties>
</file>