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C10A-75BE-4C96-B106-1C18610FD6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735-9438-477F-A2D6-4E25D5DBE7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BFB-47A4-4F11-9B8D-0F175EBA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5D7-DE29-48C2-8B6A-D43184E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49A-C663-4FC4-B732-287208F9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8C0-FAA9-40AF-BE71-3AAE8DCB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D51-10E5-4CBB-8CB1-1693500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EAE-65A5-471C-A25E-ADEE414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EE1-F8E4-49F5-8484-88691D5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4EC-3D9E-4AC2-ADB6-A06E383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944-44E2-42C2-9C09-BE099AAA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C5A-58D7-4E38-BCDB-5365F58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6D2-F5B3-43EE-B954-8AAAF6E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20C-9E8D-4A81-96C0-90280E47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0CE-C864-4F3B-A690-36B8DF5C0A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CBD-DC52-4387-91AB-F2D4EDD227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1928880"/>
            <a:ext cx="792972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streaming Decent Work as a corner stone of the development strategy facing the global crisis</a:t>
            </a:r>
            <a:br>
              <a:rPr sz="36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ference on the Global crisis and aid effectiveness</a:t>
            </a: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adrid  16-17 March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428760" y="357120"/>
            <a:ext cx="1214280" cy="1222560"/>
            <a:chOff x="428760" y="357120"/>
            <a:chExt cx="1214280" cy="1222560"/>
          </a:xfrm>
        </p:grpSpPr>
        <p:sp>
          <p:nvSpPr>
            <p:cNvPr id="50" name="Rectangle 20"/>
            <p:cNvSpPr/>
            <p:nvPr/>
          </p:nvSpPr>
          <p:spPr>
            <a:xfrm>
              <a:off x="716040" y="35712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1"/>
            <p:cNvSpPr/>
            <p:nvPr/>
          </p:nvSpPr>
          <p:spPr>
            <a:xfrm>
              <a:off x="428760" y="6444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9"/>
            <p:cNvSpPr/>
            <p:nvPr/>
          </p:nvSpPr>
          <p:spPr>
            <a:xfrm>
              <a:off x="922320" y="8604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3" descr="ILOLOGOS"/>
          <p:cNvPicPr/>
          <p:nvPr/>
        </p:nvPicPr>
        <p:blipFill>
          <a:blip r:embed="rId1"/>
          <a:stretch/>
        </p:blipFill>
        <p:spPr>
          <a:xfrm>
            <a:off x="7500960" y="571680"/>
            <a:ext cx="928800" cy="857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57200" y="4857840"/>
            <a:ext cx="64008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lice Ouédra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Policy Integration Depart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 work in the context of the crisis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essa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85520" y="2071800"/>
            <a:ext cx="7715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 work is the result of a deliberate and coheren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pillars: inseparable, interrelated and mutually suppor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 work is an inclusive development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ct of the crisis differs from one country to anot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42920" y="428760"/>
            <a:ext cx="1214280" cy="1222200"/>
            <a:chOff x="142920" y="428760"/>
            <a:chExt cx="1214280" cy="1222200"/>
          </a:xfrm>
        </p:grpSpPr>
        <p:sp>
          <p:nvSpPr>
            <p:cNvPr id="58" name="Rectangle 20"/>
            <p:cNvSpPr/>
            <p:nvPr/>
          </p:nvSpPr>
          <p:spPr>
            <a:xfrm>
              <a:off x="43020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14292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3648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13" descr="ILOLOGOS"/>
          <p:cNvPicPr/>
          <p:nvPr/>
        </p:nvPicPr>
        <p:blipFill>
          <a:blip r:embed="rId1"/>
          <a:stretch/>
        </p:blipFill>
        <p:spPr>
          <a:xfrm>
            <a:off x="7929720" y="500040"/>
            <a:ext cx="961920" cy="8571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F8AF-29FA-442A-964B-C39FAF5FC9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76438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ing from the crisis and looking beyond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lobal Jobs Pac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42600" y="199980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ur pillar crisis-exit and development strateg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Financial framework serving the re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regulated market economy caring for the most vuln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 to environment-friendly econom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sive development (Employment and Global social Floo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214200" y="428760"/>
            <a:ext cx="1214640" cy="1222200"/>
            <a:chOff x="214200" y="428760"/>
            <a:chExt cx="1214640" cy="1222200"/>
          </a:xfrm>
        </p:grpSpPr>
        <p:sp>
          <p:nvSpPr>
            <p:cNvPr id="66" name="Rectangle 20"/>
            <p:cNvSpPr/>
            <p:nvPr/>
          </p:nvSpPr>
          <p:spPr>
            <a:xfrm>
              <a:off x="50148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>
              <a:off x="21420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70812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3" descr="ILOLOGOS"/>
          <p:cNvPicPr/>
          <p:nvPr/>
        </p:nvPicPr>
        <p:blipFill>
          <a:blip r:embed="rId1"/>
          <a:stretch/>
        </p:blipFill>
        <p:spPr>
          <a:xfrm>
            <a:off x="7929720" y="571680"/>
            <a:ext cx="928440" cy="85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6834-34BB-48F9-8504-D7D725961C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155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the GJP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rade Un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285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ing decent work at national, regional and global lev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ling with multiple actors with adapted strategies (Governments, Business, UNCT, IFIs, Regional Banks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gaging in cross-sectoral policy dialogue and capacity/skills building (Example: MDG review Proces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ing an active share and branding the added value of tripartism in the UN “Delivering as One “processes (RCs, UNCT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500040" y="428760"/>
            <a:ext cx="1214640" cy="1222200"/>
            <a:chOff x="500040" y="428760"/>
            <a:chExt cx="1214640" cy="1222200"/>
          </a:xfrm>
        </p:grpSpPr>
        <p:sp>
          <p:nvSpPr>
            <p:cNvPr id="74" name="Rectangle 20"/>
            <p:cNvSpPr/>
            <p:nvPr/>
          </p:nvSpPr>
          <p:spPr>
            <a:xfrm>
              <a:off x="787320" y="4287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500040" y="716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9"/>
            <p:cNvSpPr/>
            <p:nvPr/>
          </p:nvSpPr>
          <p:spPr>
            <a:xfrm>
              <a:off x="993960" y="93204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3" descr="ILOLOGOS"/>
          <p:cNvPicPr/>
          <p:nvPr/>
        </p:nvPicPr>
        <p:blipFill>
          <a:blip r:embed="rId1"/>
          <a:stretch/>
        </p:blipFill>
        <p:spPr>
          <a:xfrm>
            <a:off x="7643880" y="500040"/>
            <a:ext cx="100008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019-52E3-436A-931A-4441D79E34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rade Unions (continued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760" y="157140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ocating lessons learned from past crises and lobbying for effective development assistance (Findings from the ILO survey to G-20 Pittsbur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i packages must continu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 a global social floor is a powerful, affordable recovery and  development strateg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ing major players in development assistance on financing Decent work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se of the EU, (mid term review of EU financing instrument, Spain’s aid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oul process (Decent work as a strategy for ensuring development effectivenes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ith limited policy and fiscal space should be assisted (increased ODA, non-protectionism, south-south cooperatio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57120" y="214200"/>
            <a:ext cx="1214640" cy="1222560"/>
            <a:chOff x="357120" y="214200"/>
            <a:chExt cx="1214640" cy="1222560"/>
          </a:xfrm>
        </p:grpSpPr>
        <p:sp>
          <p:nvSpPr>
            <p:cNvPr id="82" name="Rectangle 20"/>
            <p:cNvSpPr/>
            <p:nvPr/>
          </p:nvSpPr>
          <p:spPr>
            <a:xfrm>
              <a:off x="644400" y="21420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357120" y="50148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851040" y="717480"/>
              <a:ext cx="720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13" descr="ILOLOGOS"/>
          <p:cNvPicPr/>
          <p:nvPr/>
        </p:nvPicPr>
        <p:blipFill>
          <a:blip r:embed="rId1"/>
          <a:stretch/>
        </p:blipFill>
        <p:spPr>
          <a:xfrm>
            <a:off x="7786800" y="285840"/>
            <a:ext cx="1000080" cy="928440"/>
          </a:xfrm>
          <a:prstGeom prst="rect">
            <a:avLst/>
          </a:prstGeom>
          <a:ln w="0">
            <a:noFill/>
          </a:ln>
        </p:spPr>
      </p:pic>
      <p:sp>
        <p:nvSpPr>
          <p:cNvPr id="8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568A-1B23-427E-9AF3-FF7EB39E3E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720" y="867600"/>
            <a:ext cx="4786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6DE-2AB6-4EE7-BC8D-44FABAB245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500040" y="571680"/>
            <a:ext cx="1214640" cy="1222200"/>
            <a:chOff x="500040" y="571680"/>
            <a:chExt cx="1214640" cy="1222200"/>
          </a:xfrm>
        </p:grpSpPr>
        <p:sp>
          <p:nvSpPr>
            <p:cNvPr id="91" name="Rectangle 20"/>
            <p:cNvSpPr/>
            <p:nvPr/>
          </p:nvSpPr>
          <p:spPr>
            <a:xfrm>
              <a:off x="787320" y="57168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500040" y="8589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993960" y="1074960"/>
              <a:ext cx="720720" cy="71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ILOLOGOS"/>
          <p:cNvPicPr/>
          <p:nvPr/>
        </p:nvPicPr>
        <p:blipFill>
          <a:blip r:embed="rId1"/>
          <a:stretch/>
        </p:blipFill>
        <p:spPr>
          <a:xfrm>
            <a:off x="7500960" y="642960"/>
            <a:ext cx="1071720" cy="961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10:10Z</dcterms:created>
  <dc:creator>ILO</dc:creator>
  <dc:description/>
  <dc:language>en-US</dc:language>
  <cp:lastModifiedBy>abdallah</cp:lastModifiedBy>
  <dcterms:modified xsi:type="dcterms:W3CDTF">2010-03-17T13:02:45Z</dcterms:modified>
  <cp:revision>85</cp:revision>
  <dc:subject/>
  <dc:title>Slide 1</dc:title>
</cp:coreProperties>
</file>