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F08-1DB9-4A2C-A599-1407A299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A59-9970-4BBC-8BDB-A98391EB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C79-BCFF-4F87-BBDD-5F0F0727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57E-CE7A-456B-96D1-AA8511D9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BC1-2E41-4271-8741-6E8C1F0B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9B4-C979-457C-8D4E-2243DD42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5BB-DC14-4AA0-BB31-E5C81384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233-641F-4B1B-B4BA-A7777FC7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3E9-A9F8-4680-8DC4-6EA38633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197-AEF5-4D38-9B57-C8C8AF36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0DE-B792-4844-9A3E-03708E23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044-3CED-4BB0-879A-BC4C2E33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a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a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30A2-7C49-423B-8FDA-170BC93290EC}" type="slidenum">
              <a:rPr b="0" lang="en-US" sz="1400" spc="-1" strike="noStrike">
                <a:solidFill>
                  <a:srgbClr val="3300a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3240" y="0"/>
            <a:ext cx="9140760" cy="990720"/>
          </a:xfrm>
          <a:prstGeom prst="rect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995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38080" y="1295280"/>
            <a:ext cx="7467840" cy="5029200"/>
          </a:xfrm>
          <a:prstGeom prst="roundRect">
            <a:avLst>
              <a:gd name="adj" fmla="val 2815"/>
            </a:avLst>
          </a:prstGeom>
          <a:solidFill>
            <a:srgbClr val="ffffff"/>
          </a:solidFill>
          <a:ln w="1260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066680" y="1447920"/>
          <a:ext cx="2286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7920"/>
                    <a:ext cx="2286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a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a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00a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a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a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00a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0" y="-76320"/>
            <a:ext cx="914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66680"/>
            <a:ext cx="9140760" cy="7164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320" y="76320"/>
          <a:ext cx="205740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20574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a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a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a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a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342900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af"/>
                </a:solidFill>
                <a:latin typeface="Arial"/>
              </a:rPr>
              <a:t>Evaluation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38480" y="3045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af"/>
                </a:solidFill>
                <a:latin typeface="Arial"/>
              </a:rPr>
              <a:t>Evaluation / définition  </a:t>
            </a:r>
            <a:endParaRPr b="0" lang="en-US" sz="34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80" y="144792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4680" indent="-274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’évalu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est une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nalyse 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et un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jugement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 systématique d’une activité visant à informer les décideurs sur : </a:t>
            </a:r>
            <a:endParaRPr b="0" lang="en-US" sz="30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12408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a réalisation des objectifs et d’autres résultat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a pertinence et l’efficacité de l’activit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4956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300af"/>
                </a:solidFill>
                <a:latin typeface="Arial"/>
              </a:rPr>
              <a:t>Les </a:t>
            </a:r>
            <a:r>
              <a:rPr b="0" lang="en-GB" sz="3000" spc="-1" strike="noStrike">
                <a:solidFill>
                  <a:srgbClr val="3300af"/>
                </a:solidFill>
                <a:latin typeface="Arial"/>
              </a:rPr>
              <a:t>conclusions permettent de développer une politique et une stratég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38480" y="3045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af"/>
                </a:solidFill>
                <a:latin typeface="Arial"/>
              </a:rPr>
              <a:t>Evaluation / définition  </a:t>
            </a:r>
            <a:endParaRPr b="0" lang="en-US" sz="34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280" y="18288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4680" indent="-274680">
              <a:lnSpc>
                <a:spcPct val="90000"/>
              </a:lnSpc>
              <a:spcBef>
                <a:spcPts val="751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Une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ppréciation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, aussi systématique et objective que possible, d’un </a:t>
            </a:r>
            <a:r>
              <a:rPr b="0" lang="en-US" sz="3000" spc="-1" strike="noStrike" u="sng">
                <a:solidFill>
                  <a:srgbClr val="3300af"/>
                </a:solidFill>
                <a:uFillTx/>
                <a:latin typeface="Arial"/>
              </a:rPr>
              <a:t>projet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, </a:t>
            </a:r>
            <a:r>
              <a:rPr b="0" lang="en-US" sz="3000" spc="-1" strike="noStrike" u="sng">
                <a:solidFill>
                  <a:srgbClr val="3300af"/>
                </a:solidFill>
                <a:uFillTx/>
                <a:latin typeface="Arial"/>
              </a:rPr>
              <a:t>programme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ou d’une </a:t>
            </a:r>
            <a:r>
              <a:rPr b="0" lang="en-US" sz="3000" spc="-1" strike="noStrike" u="sng">
                <a:solidFill>
                  <a:srgbClr val="3300af"/>
                </a:solidFill>
                <a:uFillTx/>
                <a:latin typeface="Arial"/>
              </a:rPr>
              <a:t>politique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 en cours ou finalisé(e) : </a:t>
            </a:r>
            <a:endParaRPr b="0" lang="en-US" sz="30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657600"/>
            <a:ext cx="4724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spcAft>
                <a:spcPts val="2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af"/>
                </a:solidFill>
                <a:latin typeface="Arial"/>
              </a:rPr>
              <a:t>- de sa concep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spcAft>
                <a:spcPts val="2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af"/>
                </a:solidFill>
                <a:latin typeface="Arial"/>
              </a:rPr>
              <a:t>- de sa mise en oeuvr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spcAft>
                <a:spcPts val="2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af"/>
                </a:solidFill>
                <a:latin typeface="Arial"/>
              </a:rPr>
              <a:t>- de ses résultat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’objectif de l’évaluation est de déterminer :</a:t>
            </a:r>
            <a:endParaRPr b="0" lang="en-US" sz="34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04920"/>
            <a:ext cx="46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af"/>
                </a:solidFill>
                <a:latin typeface="Arial"/>
              </a:rPr>
              <a:t>Evaluation (critère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2438280"/>
            <a:ext cx="4800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-  la pertin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’effic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’efficacité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’imp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a viabilité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19720" y="304920"/>
            <a:ext cx="46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af"/>
                </a:solidFill>
                <a:latin typeface="Arial"/>
              </a:rPr>
              <a:t>Evaluation (critère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Pertinence</a:t>
            </a:r>
            <a:r>
              <a:rPr b="0" lang="en-US" sz="2500" spc="-1" strike="noStrike">
                <a:solidFill>
                  <a:srgbClr val="3300af"/>
                </a:solidFill>
                <a:latin typeface="Arial"/>
              </a:rPr>
              <a:t> : le degré dans lequel les produits et les services fournis restent utiles pour les utilisateurs auxquels ils ont été destiné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Efficacité :</a:t>
            </a:r>
            <a:r>
              <a:rPr b="0" lang="en-US" sz="2500" spc="-1" strike="noStrike">
                <a:solidFill>
                  <a:srgbClr val="3300af"/>
                </a:solidFill>
                <a:latin typeface="Arial"/>
              </a:rPr>
              <a:t> rendre les services et produits demandés par les bénéficiaires / en conformité avec la mission et les objectifs du projet et de l’organis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Efficience :</a:t>
            </a:r>
            <a:r>
              <a:rPr b="0" lang="en-US" sz="2500" spc="-1" strike="noStrike">
                <a:solidFill>
                  <a:srgbClr val="3300af"/>
                </a:solidFill>
                <a:latin typeface="Arial"/>
              </a:rPr>
              <a:t> réaliser les produits et services avec les moindres coûts possibles - le minimum de moye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Impact : 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dans quelle mesure l’objectif global a été atteint et dans mesure il l’a été directement grâce au proj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Viabilité / durabilité :</a:t>
            </a:r>
            <a:r>
              <a:rPr b="0" lang="en-US" sz="2500" spc="-1" strike="noStrike">
                <a:solidFill>
                  <a:srgbClr val="3300af"/>
                </a:solidFill>
                <a:latin typeface="Arial"/>
              </a:rPr>
              <a:t> probabilité qu’une organisation soit capable de poursuivre ses activités essentielles après le projet (fin de l’apport extérieur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38280" y="274680"/>
            <a:ext cx="6705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af"/>
                </a:solidFill>
                <a:latin typeface="Arial"/>
              </a:rPr>
              <a:t>S &amp; E dans le Cycle de Pro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1422360"/>
            <a:ext cx="6629400" cy="5283360"/>
            <a:chOff x="914400" y="1422360"/>
            <a:chExt cx="6629400" cy="5283360"/>
          </a:xfrm>
        </p:grpSpPr>
        <p:sp>
          <p:nvSpPr>
            <p:cNvPr id="106" name=""/>
            <p:cNvSpPr/>
            <p:nvPr/>
          </p:nvSpPr>
          <p:spPr>
            <a:xfrm>
              <a:off x="2057400" y="3581280"/>
              <a:ext cx="0" cy="76212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24080" y="1523880"/>
              <a:ext cx="251460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adre politique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programmatio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4400" y="4343400"/>
              <a:ext cx="2286000" cy="914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5943600"/>
              <a:ext cx="213372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inancement/ Engagement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10080" y="4419720"/>
              <a:ext cx="213372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ormulation/ Instruction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0080" y="2895480"/>
              <a:ext cx="213372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6680" y="2819520"/>
              <a:ext cx="213372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Evaluation &amp; Audit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640" y="185904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59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59755"/>
                </a:path>
              </a:pathLst>
            </a:custGeom>
            <a:noFill/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4551600">
              <a:off x="4546080" y="4375440"/>
              <a:ext cx="1834560" cy="21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89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89637"/>
                </a:path>
              </a:pathLst>
            </a:custGeom>
            <a:noFill/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2057400" y="4279680"/>
              <a:ext cx="3200040" cy="20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61" y="99"/>
                  </a:moveTo>
                  <a:arcTo wR="10800" hR="10800" stAng="-4933651" swAng="50976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61" y="99"/>
                  </a:moveTo>
                  <a:arcTo wR="10800" hR="10800" stAng="-4933651" swAng="5097695"/>
                </a:path>
              </a:pathLst>
            </a:custGeom>
            <a:noFill/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450200">
              <a:off x="1885680" y="1917360"/>
              <a:ext cx="2288880" cy="18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0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0207"/>
                </a:path>
              </a:pathLst>
            </a:custGeom>
            <a:noFill/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9400" y="3657600"/>
              <a:ext cx="0" cy="76212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0400" y="3124080"/>
              <a:ext cx="2209680" cy="0"/>
            </a:xfrm>
            <a:prstGeom prst="line">
              <a:avLst/>
            </a:prstGeom>
            <a:ln w="50760">
              <a:solidFill>
                <a:srgbClr val="33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48000" y="1422360"/>
              <a:ext cx="676080" cy="25416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0"/>
                  </a:moveTo>
                  <a:lnTo>
                    <a:pt x="23" y="1"/>
                  </a:lnTo>
                  <a:lnTo>
                    <a:pt x="42" y="4"/>
                  </a:lnTo>
                  <a:lnTo>
                    <a:pt x="60" y="9"/>
                  </a:lnTo>
                  <a:lnTo>
                    <a:pt x="76" y="16"/>
                  </a:lnTo>
                  <a:lnTo>
                    <a:pt x="90" y="23"/>
                  </a:lnTo>
                  <a:lnTo>
                    <a:pt x="116" y="41"/>
                  </a:lnTo>
                  <a:lnTo>
                    <a:pt x="127" y="51"/>
                  </a:lnTo>
                  <a:lnTo>
                    <a:pt x="151" y="69"/>
                  </a:lnTo>
                  <a:lnTo>
                    <a:pt x="164" y="78"/>
                  </a:lnTo>
                  <a:lnTo>
                    <a:pt x="178" y="85"/>
                  </a:lnTo>
                  <a:lnTo>
                    <a:pt x="187" y="89"/>
                  </a:lnTo>
                </a:path>
              </a:pathLst>
            </a:custGeom>
            <a:noFill/>
            <a:ln w="58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80880" y="3962520"/>
            <a:ext cx="190512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ue mi-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25780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ex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335268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95288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2920" y="220968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  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133720"/>
            <a:ext cx="190476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ation   ex-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106668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du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09680" y="274680"/>
            <a:ext cx="6934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af"/>
                </a:solidFill>
                <a:latin typeface="Arial"/>
              </a:rPr>
              <a:t>Différence : Planification, Suivi &amp;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19320"/>
            <a:ext cx="2362320" cy="990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6"/>
                </a:solidFill>
                <a:latin typeface="Arial"/>
              </a:rPr>
              <a:t>Pla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2578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6"/>
                </a:solidFill>
                <a:latin typeface="Arial"/>
              </a:rPr>
              <a:t>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5146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6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862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a6"/>
                </a:solidFill>
                <a:latin typeface="Arial"/>
              </a:rPr>
              <a:t>Décider</a:t>
            </a:r>
            <a:r>
              <a:rPr b="0" lang="en-US" sz="2200" spc="-1" strike="noStrike">
                <a:solidFill>
                  <a:srgbClr val="0000a6"/>
                </a:solidFill>
                <a:latin typeface="Arial"/>
              </a:rPr>
              <a:t> su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6"/>
                </a:solidFill>
                <a:latin typeface="Arial"/>
              </a:rPr>
              <a:t>quoi, commen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6"/>
                </a:solidFill>
                <a:latin typeface="Arial"/>
              </a:rPr>
              <a:t>o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1219320"/>
            <a:ext cx="2514600" cy="990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6"/>
                </a:solidFill>
                <a:latin typeface="Arial"/>
              </a:rPr>
              <a:t>Su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257800"/>
            <a:ext cx="251460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6"/>
                </a:solidFill>
                <a:latin typeface="Arial"/>
              </a:rPr>
              <a:t>Continue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6"/>
                </a:solidFill>
                <a:latin typeface="Arial"/>
              </a:rPr>
              <a:t>périod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514600"/>
            <a:ext cx="251460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6"/>
                </a:solidFill>
                <a:latin typeface="Arial"/>
              </a:rPr>
              <a:t>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3886200"/>
            <a:ext cx="251460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Enrégistrer 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qui se p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+ analyse lég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1219320"/>
            <a:ext cx="2362320" cy="990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6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52578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6"/>
                </a:solidFill>
                <a:latin typeface="Arial"/>
              </a:rPr>
              <a:t>Planifiée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6"/>
                </a:solidFill>
                <a:latin typeface="Arial"/>
              </a:rPr>
              <a:t>à la 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5146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6"/>
                </a:solidFill>
                <a:latin typeface="Arial"/>
              </a:rPr>
              <a:t>Pas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8862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Enrégistrement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Analyse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Ju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43040" y="79200"/>
            <a:ext cx="48006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af"/>
                </a:solidFill>
                <a:latin typeface="Arial"/>
              </a:rPr>
              <a:t>Relations -  PSE  </a:t>
            </a:r>
            <a:endParaRPr b="0" lang="en-US" sz="30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2590920" cy="57150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IV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143000"/>
            <a:ext cx="2743200" cy="57150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1143000"/>
            <a:ext cx="3809880" cy="5715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AN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981080"/>
            <a:ext cx="160020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743200"/>
            <a:ext cx="160020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action /eff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581280"/>
            <a:ext cx="160020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ation prod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495680"/>
            <a:ext cx="16002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nts (processus –conte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638680"/>
            <a:ext cx="16002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eurs externes ut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3429000"/>
            <a:ext cx="3429000" cy="0"/>
          </a:xfrm>
          <a:prstGeom prst="line">
            <a:avLst/>
          </a:prstGeom>
          <a:ln w="572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6095880"/>
            <a:ext cx="91440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666880"/>
            <a:ext cx="1600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 spécif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3657600"/>
            <a:ext cx="16002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ésulta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7242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724280"/>
            <a:ext cx="1447920" cy="609840"/>
          </a:xfrm>
          <a:prstGeom prst="rect">
            <a:avLst/>
          </a:prstGeom>
          <a:gradFill rotWithShape="0">
            <a:gsLst>
              <a:gs pos="0">
                <a:srgbClr val="cc99ff">
                  <a:alpha val="7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yens / 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1828800"/>
            <a:ext cx="160020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/s global/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5410080"/>
            <a:ext cx="2286000" cy="1447920"/>
          </a:xfrm>
          <a:prstGeom prst="diamond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286000"/>
            <a:ext cx="99072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2438280"/>
            <a:ext cx="0" cy="22860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3048120"/>
            <a:ext cx="99072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3886200"/>
            <a:ext cx="99072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3276720"/>
            <a:ext cx="0" cy="38088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809880" y="4267080"/>
            <a:ext cx="609840" cy="45720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4267080"/>
            <a:ext cx="609480" cy="45720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5029200"/>
            <a:ext cx="30492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4952880"/>
            <a:ext cx="83808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0" y="1676520"/>
            <a:ext cx="1981080" cy="838080"/>
          </a:xfrm>
          <a:prstGeom prst="rect">
            <a:avLst/>
          </a:prstGeom>
          <a:solidFill>
            <a:srgbClr val="cc99ff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a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3429000"/>
            <a:ext cx="1981080" cy="76212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acit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419720"/>
            <a:ext cx="1981080" cy="83808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5638680"/>
            <a:ext cx="1981080" cy="83844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tin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2133720"/>
            <a:ext cx="99072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048120"/>
            <a:ext cx="1066680" cy="83808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3886200"/>
            <a:ext cx="106668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4038480"/>
            <a:ext cx="1219320" cy="91440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952880"/>
            <a:ext cx="83808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6095880"/>
            <a:ext cx="83808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419720" y="1522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Problèmes clés S&amp;E</a:t>
            </a: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2057400"/>
            <a:ext cx="9219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Le suivi est perçu comme une obligation imposée de l’extéri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37160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Faible engagement du personnel du projet pour le su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960" y="2666880"/>
            <a:ext cx="8839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formation non pertinente et de faible qualité</a:t>
            </a:r>
            <a:endParaRPr b="0" lang="en-US" sz="2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34290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Peu d’attention aux besoins des autres parties prenantes en matière de su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5943600"/>
            <a:ext cx="8991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Faible utilisation des méthodes participatives et qualitatives de S&amp;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320" y="434340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99"/>
                </a:solidFill>
                <a:latin typeface="Arial"/>
              </a:rPr>
              <a:t>Peu d’examens internes du projet ou d’auto-évaluations permane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52578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Manque généralisé d’intégration et de coopé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space</cp:lastModifiedBy>
  <dcterms:modified xsi:type="dcterms:W3CDTF">2009-09-29T14:24:42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