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7824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5"/>
          </p:nvPr>
        </p:nvSpPr>
        <p:spPr>
          <a:xfrm>
            <a:off x="3843360" y="0"/>
            <a:ext cx="293832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917640" y="774720"/>
            <a:ext cx="4951440" cy="371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03240" y="4719240"/>
            <a:ext cx="4975200" cy="448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6"/>
          </p:nvPr>
        </p:nvSpPr>
        <p:spPr>
          <a:xfrm>
            <a:off x="0" y="9441000"/>
            <a:ext cx="293832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7"/>
          </p:nvPr>
        </p:nvSpPr>
        <p:spPr>
          <a:xfrm>
            <a:off x="3843360" y="9441000"/>
            <a:ext cx="293832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39A6FFB-6441-4796-BBBB-B6D05D377AEE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41920" y="942984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447E3DD-DC60-4F1B-B2E5-09C2FCF3C3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41920" y="942984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30E1FDF-3903-4DA8-83C1-BB39D8F1C3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a6c8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a6c8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5" name="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7" name="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3c72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3"/>
          </p:nvPr>
        </p:nvSpPr>
        <p:spPr>
          <a:xfrm>
            <a:off x="428436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03c72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4"/>
          </p:nvPr>
        </p:nvSpPr>
        <p:spPr>
          <a:xfrm>
            <a:off x="75528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03c72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52" name="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53" name="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55" name="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ec.europa.eu/europeaid/what/human-rights/projects_en.htm" TargetMode="External"/><Relationship Id="rId2" Type="http://schemas.openxmlformats.org/officeDocument/2006/relationships/hyperlink" Target="http://ec.europa.eu/europeaid/work/funding/index_en.ht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687920" y="17604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00000" y="2276640"/>
            <a:ext cx="7086600" cy="22885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b1b6b"/>
                </a:solidFill>
                <a:latin typeface="Verdana"/>
              </a:rPr>
              <a:t>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b1b6b"/>
                </a:solidFill>
                <a:latin typeface="Verdana"/>
              </a:rPr>
              <a:t>European Instrument for Democracy and Human Righ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79240" y="193680"/>
            <a:ext cx="508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1b6b"/>
                </a:solidFill>
                <a:latin typeface="Arial"/>
              </a:rPr>
              <a:t>The European Instrument for Democracy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1b6b"/>
                </a:solidFill>
                <a:latin typeface="Arial"/>
              </a:rPr>
              <a:t>Human Rights (EIDH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32360" y="6308640"/>
            <a:ext cx="35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b1b6b"/>
                </a:solidFill>
                <a:latin typeface="Arial"/>
              </a:rPr>
              <a:t>25.02.2010 – S. Loeckx – EuropeAid/F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56000" y="235080"/>
            <a:ext cx="593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b1b6b"/>
                </a:solidFill>
                <a:latin typeface="Verdana"/>
              </a:rPr>
              <a:t>The European Instrument for Democracy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b1b6b"/>
                </a:solidFill>
                <a:latin typeface="Verdana"/>
              </a:rPr>
              <a:t>Human Righ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26920" y="1197000"/>
            <a:ext cx="70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Objective 2 of the Strategy Paper (SP) 2007-2010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26920" y="1671480"/>
            <a:ext cx="7345440" cy="43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Strengthening the role of civil society in promoting human rights and democratic reform, in facilitating the peaceful conciliation of group interests and consolidating political participation and 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103c72"/>
                </a:solidFill>
                <a:latin typeface="Arial"/>
              </a:rPr>
              <a:t>=&gt; Country-based support schemes (CB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103c72"/>
                </a:solidFill>
                <a:latin typeface="Arial"/>
              </a:rPr>
              <a:t>=&gt; Transnational and transregional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Allocation CBSS 2007-2010: approx. €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200 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Allocation Transnational actions 2007-2010: € 3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Calls for proposals to be launched by Delegations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92 countries foreseen for 2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ligibility of applicants and scope of actions/specific 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jectives within strategic objective defined loc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56000" y="235080"/>
            <a:ext cx="593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b1b6b"/>
                </a:solidFill>
                <a:latin typeface="Verdana"/>
              </a:rPr>
              <a:t>The European Instrument for Democracy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b1b6b"/>
                </a:solidFill>
                <a:latin typeface="Verdana"/>
              </a:rPr>
              <a:t>Human Righ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55640" y="1052640"/>
            <a:ext cx="70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Objective 3 of the Strategy Paper (SP) 2007-2010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11280" y="1484280"/>
            <a:ext cx="853272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a50021"/>
                </a:solidFill>
                <a:latin typeface="Arial"/>
              </a:rPr>
              <a:t>Supporting actions on human rights and democracy </a:t>
            </a:r>
            <a:br>
              <a:rPr sz="2000"/>
            </a:br>
            <a:r>
              <a:rPr b="1" lang="en-GB" sz="2000" spc="-1" strike="noStrike">
                <a:solidFill>
                  <a:srgbClr val="a50021"/>
                </a:solidFill>
                <a:latin typeface="Arial"/>
              </a:rPr>
              <a:t>issues on which EU Guidelines have been adop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Allocation 2007-2010: approx. € 9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103c72"/>
                </a:solidFill>
                <a:latin typeface="Arial"/>
              </a:rPr>
              <a:t>- Human rights dialog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103c72"/>
                </a:solidFill>
                <a:latin typeface="Arial"/>
              </a:rPr>
              <a:t>- Human rights defen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0" lang="fr-BE" sz="20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66ff"/>
                </a:solidFill>
                <a:latin typeface="Arial"/>
              </a:rPr>
              <a:t>New call for proposals to be launched by HQ</a:t>
            </a: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66ff"/>
                </a:solidFill>
                <a:latin typeface="Arial"/>
              </a:rPr>
              <a:t>first semester 201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fr-B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fr-BE" sz="1600" spc="-1" strike="noStrike">
                <a:solidFill>
                  <a:srgbClr val="333399"/>
                </a:solidFill>
                <a:latin typeface="Arial"/>
              </a:rPr>
              <a:t>Same flexibility as objective 1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0" lang="fr-BE" sz="20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1" lang="fr-BE" sz="1600" spc="-1" strike="noStrike">
                <a:solidFill>
                  <a:srgbClr val="840e02"/>
                </a:solidFill>
                <a:latin typeface="Arial"/>
              </a:rPr>
              <a:t>Info on support, including protection in urgent situations a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http://ec.europa.eu/europeaid/what/human-rights/human-rights-defenders_en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103c72"/>
                </a:solidFill>
                <a:latin typeface="Arial"/>
              </a:rPr>
              <a:t>- Tor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66ff"/>
                </a:solidFill>
                <a:latin typeface="Arial"/>
              </a:rPr>
              <a:t>Latest call f or proposals launched by HQ in</a:t>
            </a: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66ff"/>
                </a:solidFill>
                <a:latin typeface="Arial"/>
              </a:rPr>
              <a:t>July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fr-B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fr-BE" sz="1600" spc="-1" strike="noStrike">
                <a:solidFill>
                  <a:srgbClr val="333399"/>
                </a:solidFill>
                <a:latin typeface="Arial"/>
              </a:rPr>
              <a:t>Rehabilitation and prevention, integrated approac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103c72"/>
                </a:solidFill>
                <a:latin typeface="Arial"/>
              </a:rPr>
              <a:t>- Death penalty </a:t>
            </a:r>
            <a:r>
              <a:rPr b="0" lang="en-GB" sz="2000" spc="-1" strike="noStrike">
                <a:solidFill>
                  <a:srgbClr val="103c72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103c72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103c72"/>
                </a:solidFill>
                <a:latin typeface="Arial"/>
              </a:rPr>
              <a:t>- Children’s rights and children in armed confli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56000" y="235080"/>
            <a:ext cx="593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b1b6b"/>
                </a:solidFill>
                <a:latin typeface="Verdana"/>
              </a:rPr>
              <a:t>The European Instrument for Democracy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b1b6b"/>
                </a:solidFill>
                <a:latin typeface="Verdana"/>
              </a:rPr>
              <a:t>Human Righ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4360" y="1557360"/>
            <a:ext cx="80643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a50021"/>
                </a:solidFill>
                <a:latin typeface="Arial"/>
              </a:rPr>
              <a:t>Supporting and strengthening the intern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50021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a50021"/>
                </a:solidFill>
                <a:latin typeface="Arial"/>
              </a:rPr>
              <a:t>and regional framework for the protection of human right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50021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a50021"/>
                </a:solidFill>
                <a:latin typeface="Arial"/>
              </a:rPr>
              <a:t>justice, the rule of law and the promotion of democr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Allocation 2007-2010: approx. € 6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103c72"/>
                </a:solidFill>
                <a:latin typeface="Arial"/>
              </a:rPr>
              <a:t>-  Civil society support to IC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66ff"/>
                </a:solidFill>
                <a:latin typeface="Arial"/>
              </a:rPr>
              <a:t>Call for proposals launched by HQ</a:t>
            </a: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66ff"/>
                </a:solidFill>
                <a:latin typeface="Arial"/>
              </a:rPr>
              <a:t>Nov.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Global campaigns - € 4 mill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103c72"/>
                </a:solidFill>
                <a:latin typeface="Arial"/>
              </a:rPr>
              <a:t>-  Regional HR&amp;D Mas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66ff"/>
                </a:solidFill>
                <a:latin typeface="Arial"/>
              </a:rPr>
              <a:t>Call for proposals launched by HQ</a:t>
            </a: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66ff"/>
                </a:solidFill>
                <a:latin typeface="Arial"/>
              </a:rPr>
              <a:t>Dec.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Targeting different world regions - € 5 mill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103c72"/>
                </a:solidFill>
                <a:latin typeface="Arial"/>
              </a:rPr>
              <a:t>- Targeted projects – I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Contributions to International Organis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fr-B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fr-BE" sz="1600" spc="-1" strike="noStrike">
                <a:solidFill>
                  <a:srgbClr val="333399"/>
                </a:solidFill>
                <a:latin typeface="Arial"/>
              </a:rPr>
              <a:t>Project approach with </a:t>
            </a:r>
            <a:r>
              <a:rPr b="1" lang="fr-BE" sz="1800" spc="-1" strike="noStrike">
                <a:solidFill>
                  <a:srgbClr val="333399"/>
                </a:solidFill>
                <a:latin typeface="Arial"/>
              </a:rPr>
              <a:t>ICC, CoE, </a:t>
            </a:r>
            <a:r>
              <a:rPr b="1" lang="fr-BE" sz="1600" spc="-1" strike="noStrike">
                <a:solidFill>
                  <a:srgbClr val="333399"/>
                </a:solidFill>
                <a:latin typeface="Arial"/>
              </a:rPr>
              <a:t>etc. </a:t>
            </a:r>
            <a:br>
              <a:rPr sz="1600"/>
            </a:br>
            <a:r>
              <a:rPr b="1" lang="fr-B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fr-B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fr-BE" sz="1600" spc="-1" strike="noStrike">
                <a:solidFill>
                  <a:srgbClr val="333399"/>
                </a:solidFill>
                <a:latin typeface="Arial"/>
              </a:rPr>
              <a:t>Contribution to budget of </a:t>
            </a:r>
            <a:r>
              <a:rPr b="1" lang="fr-BE" sz="1800" spc="-1" strike="noStrike">
                <a:solidFill>
                  <a:srgbClr val="333399"/>
                </a:solidFill>
                <a:latin typeface="Arial"/>
              </a:rPr>
              <a:t>OHCHR </a:t>
            </a:r>
            <a:r>
              <a:rPr b="1" lang="fr-BE" sz="1600" spc="-1" strike="noStrike">
                <a:solidFill>
                  <a:srgbClr val="333399"/>
                </a:solidFill>
                <a:latin typeface="Arial"/>
              </a:rPr>
              <a:t>(€ 4 M per yea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26920" y="1125360"/>
            <a:ext cx="7058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a1f1d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Objective 4 of the Strategy Paper (SP) 2007-2010: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56000" y="235080"/>
            <a:ext cx="593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b1b6b"/>
                </a:solidFill>
                <a:latin typeface="Verdana"/>
              </a:rPr>
              <a:t>The European Instrument for Democracy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b1b6b"/>
                </a:solidFill>
                <a:latin typeface="Verdana"/>
              </a:rPr>
              <a:t>Human Righ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26920" y="1989000"/>
            <a:ext cx="7683840" cy="21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Building confidence in and enhanc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the reliability and transparency of democratic electoral  </a:t>
            </a:r>
            <a:br>
              <a:rPr sz="2000"/>
            </a:b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     processes,  in particular through election obser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Allocation 2007-2010: approx. € 13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1125360"/>
            <a:ext cx="70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Objective 5 of the Strategy Paper (SP) 2007-2010: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406160" y="4221000"/>
            <a:ext cx="456804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5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333399"/>
                </a:solidFill>
                <a:latin typeface="Arial"/>
              </a:rPr>
              <a:t>EU Election Observation Missions mainl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56000" y="235080"/>
            <a:ext cx="593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b1b6b"/>
                </a:solidFill>
                <a:latin typeface="Verdana"/>
              </a:rPr>
              <a:t>The European Instrument for Democracy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b1b6b"/>
                </a:solidFill>
                <a:latin typeface="Verdana"/>
              </a:rPr>
              <a:t>Human Righ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6320" y="3513240"/>
            <a:ext cx="457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00000" y="1484280"/>
            <a:ext cx="6985080" cy="48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a1f1d"/>
                </a:solidFill>
                <a:latin typeface="Arial"/>
              </a:rPr>
              <a:t>Eligibility of organisations – applicants and part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a1f1d"/>
                </a:solidFill>
                <a:latin typeface="Arial"/>
              </a:rPr>
              <a:t>(Article 10 of the Regul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a1f1d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Specific to each call for proposals</a:t>
            </a:r>
            <a:br>
              <a:rPr sz="2000"/>
            </a:b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Civil society organisations (NGOs, independent </a:t>
            </a:r>
            <a:br>
              <a:rPr sz="2000"/>
            </a:b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  political foundations, private sector non-profit </a:t>
            </a:r>
            <a:br>
              <a:rPr sz="2000"/>
            </a:b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  agencies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Public sector non-profit agencies, institutions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Parliamentary bodies, when necess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International inter-governmental organis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Natural pers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Funding of political parties is exclu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79280" y="1557360"/>
            <a:ext cx="3812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Verdana"/>
              </a:rPr>
              <a:t>IMPLE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26920" y="2806560"/>
            <a:ext cx="8317080" cy="32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52560" indent="-952560">
              <a:lnSpc>
                <a:spcPct val="100000"/>
              </a:lnSpc>
              <a:buClr>
                <a:srgbClr val="0066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ff"/>
                </a:solidFill>
                <a:latin typeface="Verdana"/>
              </a:rPr>
              <a:t>More than 1500 projects ongoing by the end of 2009</a:t>
            </a:r>
            <a:br>
              <a:rPr sz="1600"/>
            </a:br>
            <a:r>
              <a:rPr b="1" lang="en-GB" sz="1600" spc="-1" strike="noStrike">
                <a:solidFill>
                  <a:srgbClr val="0066ff"/>
                </a:solidFill>
                <a:latin typeface="Verdana"/>
              </a:rPr>
              <a:t>(grants CSOs +joint management I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buClr>
                <a:srgbClr val="0066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buClr>
                <a:srgbClr val="0066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ff"/>
                </a:solidFill>
                <a:latin typeface="Verdana"/>
              </a:rPr>
              <a:t>2006 -  474 contracts sig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buClr>
                <a:srgbClr val="0066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buClr>
                <a:srgbClr val="0066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ff"/>
                </a:solidFill>
                <a:latin typeface="Verdana"/>
              </a:rPr>
              <a:t>2007 – 332 (mostly micro-projec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buClr>
                <a:srgbClr val="0066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buClr>
                <a:srgbClr val="0066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ff"/>
                </a:solidFill>
                <a:latin typeface="Verdana"/>
              </a:rPr>
              <a:t>2008 – 388 (of which 9 were targeted projec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buClr>
                <a:srgbClr val="0066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buClr>
                <a:srgbClr val="0066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ff"/>
                </a:solidFill>
                <a:latin typeface="Verdana"/>
              </a:rPr>
              <a:t>2009 – Approx. 430 signed by the end of 20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buClr>
                <a:srgbClr val="0066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927160" y="1411920"/>
            <a:ext cx="317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b1b6b"/>
                </a:solidFill>
                <a:latin typeface="Verdana"/>
              </a:rPr>
              <a:t>SOME FIGURES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269000" y="189000"/>
            <a:ext cx="60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1b6b"/>
                </a:solidFill>
                <a:latin typeface="Arial"/>
              </a:rPr>
              <a:t>The European Instrument/Initiative for Democracy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1b6b"/>
                </a:solidFill>
                <a:latin typeface="Arial"/>
              </a:rPr>
              <a:t>Human Rights (EIDH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765080" y="189000"/>
            <a:ext cx="508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1b6b"/>
                </a:solidFill>
                <a:latin typeface="Arial"/>
              </a:rPr>
              <a:t>The European Instrument for Democracy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1b6b"/>
                </a:solidFill>
                <a:latin typeface="Arial"/>
              </a:rPr>
              <a:t>Human Rights (EIDH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19280" y="134136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b1b6b"/>
                </a:solidFill>
                <a:latin typeface="Verdana"/>
              </a:rPr>
              <a:t>CBSS in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310824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55640" y="2394360"/>
            <a:ext cx="7561440" cy="29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52560" indent="-952560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Verdana"/>
              </a:rPr>
              <a:t>More than 60 calls for proposals launched by Delegations in 20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Verdana"/>
              </a:rPr>
              <a:t>More than 2000 proposals received and asses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66"/>
                </a:solidFill>
                <a:latin typeface="Verdana"/>
              </a:rPr>
              <a:t>More than 300 new local projects signed in 20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Verdana"/>
              </a:rPr>
              <a:t>77 country allocations in AAP 2009 and </a:t>
            </a:r>
            <a:br>
              <a:rPr sz="1800"/>
            </a:br>
            <a:r>
              <a:rPr b="1" lang="en-GB" sz="1800" spc="-1" strike="noStrike">
                <a:solidFill>
                  <a:srgbClr val="000066"/>
                </a:solidFill>
                <a:latin typeface="Verdana"/>
              </a:rPr>
              <a:t>92 foreseen for AAP 2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79280" y="1700280"/>
            <a:ext cx="3812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Verdana"/>
              </a:rPr>
              <a:t>IMPLE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3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0" y="1700280"/>
            <a:ext cx="53964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I  M P  L  E M E N T A T   I  O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1692360" y="39538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b1b6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7"/>
          <p:cNvSpPr/>
          <p:nvPr/>
        </p:nvSpPr>
        <p:spPr>
          <a:xfrm>
            <a:off x="1633320" y="184320"/>
            <a:ext cx="535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1b6b"/>
                </a:solidFill>
                <a:latin typeface="Verdana"/>
              </a:rPr>
              <a:t>The European Instrument for Democracy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1b6b"/>
                </a:solidFill>
                <a:latin typeface="Verdana"/>
              </a:rPr>
              <a:t>Human Rights (EIDH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Chart 2" descr=""/>
          <p:cNvPicPr/>
          <p:nvPr/>
        </p:nvPicPr>
        <p:blipFill>
          <a:blip r:embed="rId1"/>
          <a:stretch/>
        </p:blipFill>
        <p:spPr>
          <a:xfrm>
            <a:off x="684360" y="1125360"/>
            <a:ext cx="763272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3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0" y="1700280"/>
            <a:ext cx="53964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I  M P  L  E M E N T A T   I  O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5"/>
          <p:cNvSpPr/>
          <p:nvPr/>
        </p:nvSpPr>
        <p:spPr>
          <a:xfrm>
            <a:off x="1692360" y="2581920"/>
            <a:ext cx="6553080" cy="33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Verdana"/>
              </a:rPr>
              <a:t>I:</a:t>
            </a:r>
            <a:r>
              <a:rPr b="1" lang="en-GB" sz="2000" spc="-1" strike="noStrike">
                <a:solidFill>
                  <a:srgbClr val="1b1b6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1b1b6b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1b1b6b"/>
                </a:solidFill>
                <a:latin typeface="Verdana"/>
              </a:rPr>
              <a:t>Overview of EIDHR implementation 2000-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b1b6b"/>
                </a:solidFill>
                <a:latin typeface="Verdana"/>
              </a:rPr>
              <a:t>II. </a:t>
            </a:r>
            <a:r>
              <a:rPr b="1" lang="en-GB" sz="2000" spc="-1" strike="noStrike">
                <a:solidFill>
                  <a:srgbClr val="1b1b6b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1b1b6b"/>
                </a:solidFill>
                <a:latin typeface="Verdana"/>
              </a:rPr>
              <a:t>Overview of EIDHR implementation 2007-April 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Verdana"/>
              </a:rPr>
              <a:t>III:</a:t>
            </a:r>
            <a:r>
              <a:rPr b="1" lang="en-GB" sz="2000" spc="-1" strike="noStrike">
                <a:solidFill>
                  <a:srgbClr val="1b1b6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1b1b6b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1b1b6b"/>
                </a:solidFill>
                <a:latin typeface="Verdana"/>
              </a:rPr>
              <a:t>Present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b1b6b"/>
                </a:solidFill>
                <a:latin typeface="Verdana"/>
              </a:rPr>
              <a:t>IV:</a:t>
            </a:r>
            <a:r>
              <a:rPr b="1" lang="en-GB" sz="2000" spc="-1" strike="noStrike">
                <a:solidFill>
                  <a:srgbClr val="1b1b6b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1b1b6b"/>
                </a:solidFill>
                <a:latin typeface="Verdana"/>
              </a:rPr>
              <a:t> More Information</a:t>
            </a:r>
            <a:r>
              <a:rPr b="1" lang="en-GB" sz="1800" spc="-1" strike="noStrike">
                <a:solidFill>
                  <a:srgbClr val="1b1b6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b1b6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3570480" y="141192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b1b6b"/>
                </a:solidFill>
                <a:latin typeface="Verdana"/>
              </a:rPr>
              <a:t>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7"/>
          <p:cNvSpPr/>
          <p:nvPr/>
        </p:nvSpPr>
        <p:spPr>
          <a:xfrm>
            <a:off x="1633320" y="184320"/>
            <a:ext cx="535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1b6b"/>
                </a:solidFill>
                <a:latin typeface="Verdana"/>
              </a:rPr>
              <a:t>The European Instrument for Democracy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1b6b"/>
                </a:solidFill>
                <a:latin typeface="Verdana"/>
              </a:rPr>
              <a:t>Human Rights (EIDH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Graphique 4" descr=""/>
          <p:cNvPicPr/>
          <p:nvPr/>
        </p:nvPicPr>
        <p:blipFill>
          <a:blip r:embed="rId1"/>
          <a:stretch/>
        </p:blipFill>
        <p:spPr>
          <a:xfrm>
            <a:off x="914400" y="1414440"/>
            <a:ext cx="7381800" cy="4754520"/>
          </a:xfrm>
          <a:prstGeom prst="rect">
            <a:avLst/>
          </a:prstGeom>
          <a:ln w="0">
            <a:noFill/>
          </a:ln>
        </p:spPr>
      </p:pic>
      <p:pic>
        <p:nvPicPr>
          <p:cNvPr id="277" name="Chart 2" descr=""/>
          <p:cNvPicPr/>
          <p:nvPr/>
        </p:nvPicPr>
        <p:blipFill>
          <a:blip r:embed="rId2"/>
          <a:stretch/>
        </p:blipFill>
        <p:spPr>
          <a:xfrm>
            <a:off x="689040" y="1268280"/>
            <a:ext cx="7723080" cy="539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76320" y="2131920"/>
            <a:ext cx="4572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Verdana"/>
              </a:rPr>
              <a:t>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743200" y="1692720"/>
            <a:ext cx="39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b1b6b"/>
                </a:solidFill>
                <a:latin typeface="Verdana"/>
              </a:rPr>
              <a:t>More Information</a:t>
            </a:r>
            <a:r>
              <a:rPr b="0" lang="en-US" sz="2400" spc="-1" strike="noStrike">
                <a:solidFill>
                  <a:srgbClr val="1b1b6b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16040" y="2276640"/>
            <a:ext cx="7800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http://ec.europa.eu/europeaid/what/human-rights/index_en.h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55640" y="2968560"/>
            <a:ext cx="820908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0e02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840e02"/>
                </a:solidFill>
                <a:latin typeface="Verdana"/>
              </a:rPr>
              <a:t>Compendia</a:t>
            </a:r>
            <a:r>
              <a:rPr b="0" lang="en-US" sz="2400" spc="-1" strike="noStrike">
                <a:solidFill>
                  <a:srgbClr val="1b1b6b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c.europa.eu/europeaid/what/human-rights/projects_en.h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0e02"/>
                </a:solidFill>
                <a:latin typeface="Arial"/>
              </a:rPr>
              <a:t>Calls for Proposals (new site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ec.europa.eu/europeaid/work/funding/index_en.h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0e02"/>
                </a:solidFill>
                <a:latin typeface="Arial"/>
              </a:rPr>
              <a:t>Support to Human Rights Defend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http://ec.europa.eu/europeaid/what/human-rights/human-rights-defenders_en.h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765080" y="189000"/>
            <a:ext cx="508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1b6b"/>
                </a:solidFill>
                <a:latin typeface="Arial"/>
              </a:rPr>
              <a:t>The European Instrument for Democracy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1b6b"/>
                </a:solidFill>
                <a:latin typeface="Arial"/>
              </a:rPr>
              <a:t>Human Rights (EIDH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2280" y="2819520"/>
            <a:ext cx="381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92360" y="2924280"/>
            <a:ext cx="6553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I:</a:t>
            </a:r>
            <a:r>
              <a:rPr b="1" lang="en-GB" sz="1800" spc="-1" strike="noStrike">
                <a:solidFill>
                  <a:srgbClr val="1b1b6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1b1b6b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1b1b6b"/>
                </a:solidFill>
                <a:latin typeface="Verdana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b1b6b"/>
                </a:solidFill>
                <a:latin typeface="Verdana"/>
              </a:rPr>
              <a:t>II. </a:t>
            </a:r>
            <a:r>
              <a:rPr b="1" lang="en-GB" sz="1800" spc="-1" strike="noStrike">
                <a:solidFill>
                  <a:srgbClr val="1b1b6b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1b1b6b"/>
                </a:solidFill>
                <a:latin typeface="Verdana"/>
              </a:rPr>
              <a:t>Project cy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III:</a:t>
            </a:r>
            <a:r>
              <a:rPr b="1" lang="en-GB" sz="1800" spc="-1" strike="noStrike">
                <a:solidFill>
                  <a:srgbClr val="1b1b6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1b1b6b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1b1b6b"/>
                </a:solidFill>
                <a:latin typeface="Verdana"/>
              </a:rPr>
              <a:t>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b1b6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IV:</a:t>
            </a:r>
            <a:r>
              <a:rPr b="1" lang="en-GB" sz="1800" spc="-1" strike="noStrike">
                <a:solidFill>
                  <a:srgbClr val="0000cc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0000cc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1b1b6b"/>
                </a:solidFill>
                <a:latin typeface="Verdana"/>
              </a:rPr>
              <a:t>More 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570480" y="141192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b1b6b"/>
                </a:solidFill>
                <a:latin typeface="Verdana"/>
              </a:rPr>
              <a:t>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65080" y="189000"/>
            <a:ext cx="508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1b6b"/>
                </a:solidFill>
                <a:latin typeface="Arial"/>
              </a:rPr>
              <a:t>The European Instrument for Democracy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1b6b"/>
                </a:solidFill>
                <a:latin typeface="Arial"/>
              </a:rPr>
              <a:t>Human Rights (EIDH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33120" y="235080"/>
            <a:ext cx="561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b1b6b"/>
                </a:solidFill>
                <a:latin typeface="Verdana"/>
              </a:rPr>
              <a:t>Overview of the new financial instr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6200000">
            <a:off x="4304160" y="-1775520"/>
            <a:ext cx="463680" cy="72723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6200000">
            <a:off x="4126320" y="-1598760"/>
            <a:ext cx="454680" cy="70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strument for St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43280" y="5445000"/>
            <a:ext cx="223920" cy="200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03640" y="5373720"/>
            <a:ext cx="443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eographical instrument with a specific legal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43280" y="5734080"/>
            <a:ext cx="223920" cy="2001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03640" y="5661000"/>
            <a:ext cx="443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orizontal instrument with a specific legal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843280" y="5967360"/>
            <a:ext cx="223920" cy="1983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03640" y="5950080"/>
            <a:ext cx="443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matic programme included in DCI legal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900000" y="1125000"/>
            <a:ext cx="7272000" cy="454680"/>
            <a:chOff x="900000" y="1125000"/>
            <a:chExt cx="7272000" cy="454680"/>
          </a:xfrm>
        </p:grpSpPr>
        <p:sp>
          <p:nvSpPr>
            <p:cNvPr id="125" name=""/>
            <p:cNvSpPr/>
            <p:nvPr/>
          </p:nvSpPr>
          <p:spPr>
            <a:xfrm rot="16200000">
              <a:off x="4318920" y="-2284560"/>
              <a:ext cx="434160" cy="727200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16200000">
              <a:off x="4351680" y="-2240280"/>
              <a:ext cx="454680" cy="71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uropean Instrument for Democracy and Human Right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900000" y="2276640"/>
            <a:ext cx="7343280" cy="3097080"/>
            <a:chOff x="900000" y="2276640"/>
            <a:chExt cx="7343280" cy="3097080"/>
          </a:xfrm>
        </p:grpSpPr>
        <p:grpSp>
          <p:nvGrpSpPr>
            <p:cNvPr id="128" name=""/>
            <p:cNvGrpSpPr/>
            <p:nvPr/>
          </p:nvGrpSpPr>
          <p:grpSpPr>
            <a:xfrm>
              <a:off x="900000" y="2276640"/>
              <a:ext cx="7343280" cy="3097080"/>
              <a:chOff x="900000" y="2276640"/>
              <a:chExt cx="7343280" cy="3097080"/>
            </a:xfrm>
          </p:grpSpPr>
          <p:sp>
            <p:nvSpPr>
              <p:cNvPr id="129" name=""/>
              <p:cNvSpPr/>
              <p:nvPr/>
            </p:nvSpPr>
            <p:spPr>
              <a:xfrm>
                <a:off x="900000" y="2276640"/>
                <a:ext cx="574560" cy="3097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1834920" y="2421000"/>
                <a:ext cx="6408360" cy="2816280"/>
                <a:chOff x="1834920" y="2421000"/>
                <a:chExt cx="6408360" cy="281628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1834920" y="4725360"/>
                  <a:ext cx="6408360" cy="504720"/>
                </a:xfrm>
                <a:prstGeom prst="rect">
                  <a:avLst/>
                </a:prstGeom>
                <a:solidFill>
                  <a:srgbClr val="3d22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834920" y="4149360"/>
                  <a:ext cx="6408360" cy="504360"/>
                </a:xfrm>
                <a:prstGeom prst="rect">
                  <a:avLst/>
                </a:prstGeom>
                <a:solidFill>
                  <a:srgbClr val="3d22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rot="16200000">
                  <a:off x="5187960" y="2256840"/>
                  <a:ext cx="454680" cy="550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 algn="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Non-State Actors and Local Authoriti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16200000">
                  <a:off x="6698160" y="3203280"/>
                  <a:ext cx="454680" cy="248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 algn="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Food Security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1834920" y="3574800"/>
                  <a:ext cx="6408360" cy="504720"/>
                </a:xfrm>
                <a:prstGeom prst="rect">
                  <a:avLst/>
                </a:prstGeom>
                <a:solidFill>
                  <a:srgbClr val="3d22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 rot="16200000">
                  <a:off x="5558040" y="1442520"/>
                  <a:ext cx="454680" cy="476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 algn="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Environment and Natural Resourc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1834920" y="2998800"/>
                  <a:ext cx="6408360" cy="504360"/>
                </a:xfrm>
                <a:prstGeom prst="rect">
                  <a:avLst/>
                </a:prstGeom>
                <a:solidFill>
                  <a:srgbClr val="3d22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 rot="16200000">
                  <a:off x="5558040" y="866160"/>
                  <a:ext cx="454680" cy="476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 algn="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Migration and Asylum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34920" y="2421000"/>
                  <a:ext cx="6408360" cy="504720"/>
                </a:xfrm>
                <a:prstGeom prst="rect">
                  <a:avLst/>
                </a:prstGeom>
                <a:solidFill>
                  <a:srgbClr val="3d22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rot="16200000">
                  <a:off x="5558040" y="288360"/>
                  <a:ext cx="454680" cy="476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 algn="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Investing in Peopl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1" name=""/>
              <p:cNvSpPr/>
              <p:nvPr/>
            </p:nvSpPr>
            <p:spPr>
              <a:xfrm>
                <a:off x="2052360" y="2276640"/>
                <a:ext cx="574920" cy="3097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771640" y="2276640"/>
                <a:ext cx="574560" cy="3097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492360" y="2276640"/>
                <a:ext cx="574560" cy="3097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948600" y="2421000"/>
              <a:ext cx="454680" cy="9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P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100960" y="2421000"/>
              <a:ext cx="454680" cy="9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D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20240" y="2421000"/>
              <a:ext cx="454680" cy="9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P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40960" y="2421000"/>
              <a:ext cx="454680" cy="9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DC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9280" y="1844640"/>
            <a:ext cx="3812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765080" y="189000"/>
            <a:ext cx="508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1b6b"/>
                </a:solidFill>
                <a:latin typeface="Arial"/>
              </a:rPr>
              <a:t>The European Instrument for Democracy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1b6b"/>
                </a:solidFill>
                <a:latin typeface="Arial"/>
              </a:rPr>
              <a:t>Human Rights (EIDH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8109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71640" y="2133720"/>
            <a:ext cx="7705800" cy="35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103c72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103c72"/>
                </a:solidFill>
                <a:latin typeface="Verdana"/>
              </a:rPr>
              <a:t>Legal base: EIDHR Regulation (EC) 1889/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03c72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103c72"/>
                </a:solidFill>
                <a:latin typeface="Verdana"/>
              </a:rPr>
              <a:t>Size (without Election Observation): 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approx.</a:t>
            </a:r>
            <a:r>
              <a:rPr b="1" lang="en-GB" sz="1800" spc="-1" strike="noStrike">
                <a:solidFill>
                  <a:srgbClr val="103c72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€ 450 million</a:t>
            </a:r>
            <a:br>
              <a:rPr sz="1800"/>
            </a:b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  for 2007-2010, approx. € 111 million foreseen in 2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103c72"/>
                </a:solidFill>
                <a:latin typeface="Verdana"/>
              </a:rPr>
              <a:t>Characteristics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: Financing instrument for the promotion of democracy and human rights through the support to civil society and to victims of human rights abuses and through existing international framewo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03c72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103c72"/>
                </a:solidFill>
                <a:latin typeface="Verdana"/>
              </a:rPr>
              <a:t>Coverage: 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Worldw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87280" y="1413000"/>
            <a:ext cx="59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buClr>
                <a:srgbClr val="840e02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40e02"/>
                </a:solidFill>
                <a:latin typeface="Verdana"/>
              </a:rPr>
              <a:t>‘</a:t>
            </a:r>
            <a:r>
              <a:rPr b="1" lang="en-US" sz="2000" spc="-1" strike="noStrike">
                <a:solidFill>
                  <a:srgbClr val="840e02"/>
                </a:solidFill>
                <a:latin typeface="Verdana"/>
              </a:rPr>
              <a:t>Identity Card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9280" y="1773360"/>
            <a:ext cx="3812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Verdana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79280" y="1844640"/>
            <a:ext cx="395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765080" y="189000"/>
            <a:ext cx="508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1b6b"/>
                </a:solidFill>
                <a:latin typeface="Arial"/>
              </a:rPr>
              <a:t>The European Instrument for Democracy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1b6b"/>
                </a:solidFill>
                <a:latin typeface="Arial"/>
              </a:rPr>
              <a:t>Human Rights (EIDH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374840" y="2215800"/>
            <a:ext cx="6466680" cy="4182840"/>
            <a:chOff x="1374840" y="2215800"/>
            <a:chExt cx="6466680" cy="4182840"/>
          </a:xfrm>
        </p:grpSpPr>
        <p:sp>
          <p:nvSpPr>
            <p:cNvPr id="161" name="_s658445"/>
            <p:cNvSpPr/>
            <p:nvPr/>
          </p:nvSpPr>
          <p:spPr>
            <a:xfrm flipH="1" flipV="1">
              <a:off x="3050640" y="3782160"/>
              <a:ext cx="785520" cy="26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_s658446"/>
            <p:cNvSpPr/>
            <p:nvPr/>
          </p:nvSpPr>
          <p:spPr>
            <a:xfrm>
              <a:off x="1374840" y="3000600"/>
              <a:ext cx="1794240" cy="1045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9999"/>
                  </a:solidFill>
                  <a:latin typeface="Arial"/>
                </a:rPr>
                <a:t>Independent / </a:t>
              </a:r>
              <a:br>
                <a:rPr sz="1300"/>
              </a:br>
              <a:r>
                <a:rPr b="1" lang="en-US" sz="1300" spc="-1" strike="noStrike">
                  <a:solidFill>
                    <a:srgbClr val="009999"/>
                  </a:solidFill>
                  <a:latin typeface="Arial"/>
                </a:rPr>
                <a:t>civil society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_s658447"/>
            <p:cNvSpPr/>
            <p:nvPr/>
          </p:nvSpPr>
          <p:spPr>
            <a:xfrm flipH="1">
              <a:off x="3050640" y="4565520"/>
              <a:ext cx="785520" cy="26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_s658448"/>
            <p:cNvSpPr/>
            <p:nvPr/>
          </p:nvSpPr>
          <p:spPr>
            <a:xfrm>
              <a:off x="1377360" y="4570920"/>
              <a:ext cx="1794240" cy="1044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66ff"/>
                  </a:solidFill>
                  <a:latin typeface="Arial"/>
                </a:rPr>
                <a:t>CBS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_s658449"/>
            <p:cNvSpPr/>
            <p:nvPr/>
          </p:nvSpPr>
          <p:spPr>
            <a:xfrm>
              <a:off x="4606920" y="4825440"/>
              <a:ext cx="0" cy="52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_s658450"/>
            <p:cNvSpPr/>
            <p:nvPr/>
          </p:nvSpPr>
          <p:spPr>
            <a:xfrm>
              <a:off x="3714120" y="5353920"/>
              <a:ext cx="1794240" cy="1044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840e02"/>
                  </a:solidFill>
                  <a:latin typeface="Arial"/>
                </a:rPr>
                <a:t>Worldwid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_s658451"/>
            <p:cNvSpPr/>
            <p:nvPr/>
          </p:nvSpPr>
          <p:spPr>
            <a:xfrm>
              <a:off x="5380200" y="4565520"/>
              <a:ext cx="782640" cy="26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_s658452"/>
            <p:cNvSpPr/>
            <p:nvPr/>
          </p:nvSpPr>
          <p:spPr>
            <a:xfrm>
              <a:off x="6047280" y="4567320"/>
              <a:ext cx="1794240" cy="1044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9999"/>
                  </a:solidFill>
                  <a:latin typeface="Arial"/>
                </a:rPr>
                <a:t>Sensitive and risky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_s658453"/>
            <p:cNvSpPr/>
            <p:nvPr/>
          </p:nvSpPr>
          <p:spPr>
            <a:xfrm flipV="1">
              <a:off x="5380200" y="3782160"/>
              <a:ext cx="782640" cy="26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_s658454"/>
            <p:cNvSpPr/>
            <p:nvPr/>
          </p:nvSpPr>
          <p:spPr>
            <a:xfrm>
              <a:off x="6044400" y="2999160"/>
              <a:ext cx="1794240" cy="1044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66ff"/>
                  </a:solidFill>
                  <a:latin typeface="Arial"/>
                </a:rPr>
                <a:t>Flexible</a:t>
              </a:r>
              <a:br>
                <a:rPr sz="1300"/>
              </a:br>
              <a:r>
                <a:rPr b="1" lang="en-US" sz="1300" spc="-1" strike="noStrike">
                  <a:solidFill>
                    <a:srgbClr val="0066ff"/>
                  </a:solidFill>
                  <a:latin typeface="Arial"/>
                </a:rPr>
                <a:t> and innovativ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_s658455"/>
            <p:cNvSpPr/>
            <p:nvPr/>
          </p:nvSpPr>
          <p:spPr>
            <a:xfrm flipV="1">
              <a:off x="4606920" y="3259080"/>
              <a:ext cx="0" cy="52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_s658456"/>
            <p:cNvSpPr/>
            <p:nvPr/>
          </p:nvSpPr>
          <p:spPr>
            <a:xfrm>
              <a:off x="3710520" y="2215800"/>
              <a:ext cx="1794960" cy="1044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800000"/>
                  </a:solidFill>
                  <a:latin typeface="Arial"/>
                </a:rPr>
                <a:t>Complementary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_s658457"/>
            <p:cNvSpPr/>
            <p:nvPr/>
          </p:nvSpPr>
          <p:spPr>
            <a:xfrm>
              <a:off x="3710520" y="3785760"/>
              <a:ext cx="1794960" cy="1044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EIDH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755640" y="1268280"/>
            <a:ext cx="72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buClr>
                <a:srgbClr val="840e02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40e02"/>
                </a:solidFill>
                <a:latin typeface="Verdana"/>
              </a:rPr>
              <a:t>Key Words </a:t>
            </a:r>
            <a:br>
              <a:rPr sz="2000"/>
            </a:br>
            <a:r>
              <a:rPr b="1" lang="en-US" sz="2000" spc="-1" strike="noStrike">
                <a:solidFill>
                  <a:srgbClr val="840e02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9280" y="1773360"/>
            <a:ext cx="3812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Verdana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9280" y="1773360"/>
            <a:ext cx="3812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Verdana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765080" y="189000"/>
            <a:ext cx="508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1b6b"/>
                </a:solidFill>
                <a:latin typeface="Arial"/>
              </a:rPr>
              <a:t>The European Instrument for Democracy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1b6b"/>
                </a:solidFill>
                <a:latin typeface="Arial"/>
              </a:rPr>
              <a:t>Human Rights (EIDH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5370480" cy="27590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476360" y="4437000"/>
            <a:ext cx="22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780000" y="162864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800000"/>
                </a:solidFill>
                <a:latin typeface="Arial"/>
              </a:rPr>
              <a:t>EID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08000" y="2133720"/>
            <a:ext cx="13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itical dialog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692360" y="4292640"/>
            <a:ext cx="237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instruments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ographical and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a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84720" y="177336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plomatic dem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24360" y="393372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S + Other don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908000" y="5589720"/>
            <a:ext cx="60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40e02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840e02"/>
                </a:solidFill>
                <a:latin typeface="Arial"/>
              </a:rPr>
              <a:t>COMPLEMENTARY”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2280" y="2819520"/>
            <a:ext cx="381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765080" y="189000"/>
            <a:ext cx="508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1b6b"/>
                </a:solidFill>
                <a:latin typeface="Arial"/>
              </a:rPr>
              <a:t>The European Instrument for Democracy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1b6b"/>
                </a:solidFill>
                <a:latin typeface="Arial"/>
              </a:rPr>
              <a:t>Human Rights (EIDH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16000" y="1557360"/>
            <a:ext cx="7559640" cy="52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40e02"/>
                </a:solidFill>
                <a:latin typeface="Arial"/>
              </a:rPr>
              <a:t>Some other key issues under EIDH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103c72"/>
                </a:solidFill>
                <a:latin typeface="Arial"/>
              </a:rPr>
              <a:t>-    Informal partn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103c72"/>
                </a:solidFill>
                <a:latin typeface="Arial"/>
              </a:rPr>
              <a:t>-    Re-granting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103c72"/>
                </a:solidFill>
                <a:latin typeface="Arial"/>
              </a:rPr>
              <a:t>-    Call for proposals permanently open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103c72"/>
                </a:solidFill>
                <a:latin typeface="Arial"/>
              </a:rPr>
              <a:t>-    Support to Human Rights Defenders in urgent situ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103c72"/>
                </a:solidFill>
                <a:latin typeface="Arial"/>
              </a:rPr>
              <a:t>-    Giving space to the initiative of civil socie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103c72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103c72"/>
                </a:solidFill>
                <a:latin typeface="Arial"/>
              </a:rPr>
              <a:t>vs. need to be specific/strategic to achieve imp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103c72"/>
                </a:solidFill>
                <a:latin typeface="Arial"/>
              </a:rPr>
              <a:t>-    Special attention to confidentiality and secu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79280" y="1557360"/>
            <a:ext cx="3812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Verdana"/>
              </a:rPr>
              <a:t>IMPLE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63560" y="193680"/>
            <a:ext cx="508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1b6b"/>
                </a:solidFill>
                <a:latin typeface="Arial"/>
              </a:rPr>
              <a:t>The European Instrument for Democracy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1b6b"/>
                </a:solidFill>
                <a:latin typeface="Arial"/>
              </a:rPr>
              <a:t>Human Rights (EIDH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11280" y="0"/>
            <a:ext cx="0" cy="6858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1847880"/>
            <a:ext cx="457200" cy="36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Verdana"/>
              </a:rPr>
              <a:t>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Verdana"/>
              </a:rPr>
              <a:t>CY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900000" y="2060640"/>
            <a:ext cx="7238880" cy="4232160"/>
            <a:chOff x="900000" y="2060640"/>
            <a:chExt cx="7238880" cy="4232160"/>
          </a:xfrm>
        </p:grpSpPr>
        <p:sp>
          <p:nvSpPr>
            <p:cNvPr id="199" name=""/>
            <p:cNvSpPr/>
            <p:nvPr/>
          </p:nvSpPr>
          <p:spPr>
            <a:xfrm>
              <a:off x="3643200" y="2060640"/>
              <a:ext cx="1981080" cy="4554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ff00"/>
                  </a:solidFill>
                  <a:latin typeface="Arial"/>
                </a:rPr>
                <a:t>Multi-annu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1" lang="fr-FR" sz="2000" spc="-1" strike="noStrike">
                  <a:solidFill>
                    <a:srgbClr val="ffff00"/>
                  </a:solidFill>
                  <a:latin typeface="Arial"/>
                </a:rPr>
                <a:t>strategy pap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2377440" y="2175120"/>
              <a:ext cx="1007280" cy="686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900000" y="3166920"/>
              <a:ext cx="1981080" cy="45576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ff66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Evalu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900000" y="4730760"/>
              <a:ext cx="1981080" cy="4554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ff00"/>
                  </a:solidFill>
                  <a:latin typeface="Arial"/>
                </a:rPr>
                <a:t>Contracts, follow-u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ff00"/>
                  </a:solidFill>
                  <a:latin typeface="Arial"/>
                </a:rPr>
                <a:t>&amp; payment</a:t>
              </a:r>
              <a:r>
                <a:rPr b="1" lang="en-GB" sz="20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233760" y="4730760"/>
              <a:ext cx="1905120" cy="4554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ff00"/>
                  </a:solidFill>
                  <a:latin typeface="Arial"/>
                </a:rPr>
                <a:t>Calls for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ff00"/>
                  </a:solidFill>
                  <a:latin typeface="Arial"/>
                </a:rPr>
                <a:t>Proposa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233760" y="3166920"/>
              <a:ext cx="1905120" cy="45576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ff00"/>
                  </a:solidFill>
                  <a:latin typeface="Arial"/>
                </a:rPr>
                <a:t>Annual A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ff00"/>
                  </a:solidFill>
                  <a:latin typeface="Arial"/>
                </a:rPr>
                <a:t>Program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566880" y="5837040"/>
              <a:ext cx="1905120" cy="45576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ff00"/>
                  </a:solidFill>
                  <a:latin typeface="Arial"/>
                </a:rPr>
                <a:t>Assess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ff00"/>
                  </a:solidFill>
                  <a:latin typeface="Arial"/>
                </a:rPr>
                <a:t>&amp; sel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919560" y="3660840"/>
              <a:ext cx="1800" cy="847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2195280" y="366084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5730120" y="5233680"/>
              <a:ext cx="1007280" cy="687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 flipV="1">
              <a:off x="2359080" y="5263200"/>
              <a:ext cx="1044000" cy="62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04360" y="2144880"/>
              <a:ext cx="963360" cy="747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6732720" y="2349360"/>
            <a:ext cx="1800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66"/>
                </a:solidFill>
                <a:latin typeface="Arial"/>
              </a:rPr>
              <a:t>EuropeAid HQ in ch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708360" y="1557360"/>
            <a:ext cx="23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cc3300"/>
                </a:solidFill>
                <a:latin typeface="Arial"/>
              </a:rPr>
              <a:t>DG RELEX  in ch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26920" y="422100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a50021"/>
                </a:solidFill>
                <a:latin typeface="Arial"/>
              </a:rPr>
              <a:t>Delegation mostly in ch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0360" y="4076640"/>
            <a:ext cx="32036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66"/>
                </a:solidFill>
                <a:latin typeface="Arial"/>
              </a:rPr>
              <a:t>EuropeAid HQ in charge – Glob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a50021"/>
                </a:solidFill>
                <a:latin typeface="Arial"/>
              </a:rPr>
              <a:t>Delegations in charge – CB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276720" y="6381720"/>
            <a:ext cx="25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66"/>
                </a:solidFill>
                <a:latin typeface="Arial"/>
              </a:rPr>
              <a:t>Contributions: RELEX &amp; DE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24000" y="2349360"/>
            <a:ext cx="2592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66"/>
                </a:solidFill>
                <a:latin typeface="Arial"/>
              </a:rPr>
              <a:t>HQ/Delegation/partners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66"/>
                </a:solidFill>
                <a:latin typeface="Arial"/>
              </a:rPr>
              <a:t>shared responsi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300720" y="530064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66"/>
                </a:solidFill>
                <a:latin typeface="Arial"/>
              </a:rPr>
              <a:t>Contributions: RELEX &amp; DE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564000" y="5157720"/>
            <a:ext cx="2232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fr-FR" sz="1200" spc="-1" strike="noStrike">
                <a:solidFill>
                  <a:srgbClr val="000066"/>
                </a:solidFill>
                <a:latin typeface="Arial"/>
              </a:rPr>
              <a:t>EuropeAid HQ and/or Delegations  in ch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476360" y="1341360"/>
            <a:ext cx="4175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656000" y="235080"/>
            <a:ext cx="593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b1b6b"/>
                </a:solidFill>
                <a:latin typeface="Verdana"/>
              </a:rPr>
              <a:t>The European Instrument for Democracy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b1b6b"/>
                </a:solidFill>
                <a:latin typeface="Verdana"/>
              </a:rPr>
              <a:t>Human Righ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00000" y="12682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Objective 1 of the Strategy Paper (SP) 2007-2010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55640" y="1844640"/>
            <a:ext cx="7345440" cy="589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Enhancing respect for human rights and fundamental freedoms in countries and regions where they are most at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Allocation 2007-2010: approx. €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60 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0066ff"/>
                </a:solidFill>
                <a:uFillTx/>
                <a:latin typeface="Arial"/>
              </a:rPr>
              <a:t>Call for proposals launched by HQ and permanently opened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Two deadlines per year for selection of received proposals – latest 30 October 2009 and next 30 April 2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No list of countries/regions – pertinence to be justified by applicant on the bases of independent external indicators and/or repo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No national or geographical restrictions for activities and/or organis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e-granting possible as well as reimbursement of incurred expenditure by organisations without legal e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pecial attention to confidentiality and secu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5T14:28:50Z</dcterms:created>
  <dc:creator>newmajo</dc:creator>
  <dc:description/>
  <dc:language>en-US</dc:language>
  <cp:lastModifiedBy>loeckxsandrine</cp:lastModifiedBy>
  <cp:lastPrinted>2006-01-29T19:49:04Z</cp:lastPrinted>
  <dcterms:modified xsi:type="dcterms:W3CDTF">2010-02-24T16:14:02Z</dcterms:modified>
  <cp:revision>82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