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7640" y="77472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3240" y="4719240"/>
            <a:ext cx="497520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384336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6934FB-8411-4484-8E46-A18026913A8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DD53D0-5256-4FE4-9F75-7434AE56E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E82BB0-FBEF-4361-9690-FAB023948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7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3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5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human-rights/projects_en.htm" TargetMode="External"/><Relationship Id="rId2" Type="http://schemas.openxmlformats.org/officeDocument/2006/relationships/hyperlink" Target="http://ec.europa.eu/europeaid/work/funding/index_en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7920" y="176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276640"/>
            <a:ext cx="7086600" cy="2288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b6b"/>
                </a:solidFill>
                <a:latin typeface="Verdana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b6b"/>
                </a:solidFill>
                <a:latin typeface="Verdana"/>
              </a:rPr>
              <a:t>European Instrument for Democracy and Human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240" y="19368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630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25.02.2010 – S. Loeckx – EuropeAid/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19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2 of the Strategy Paper (SP) 2007-20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1671480"/>
            <a:ext cx="7345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rengthening the role of civil society in promoting human rights and democratic reform, in facilitating the peaceful conciliation of group interests and consolidating political participation and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=&gt; Country-based support schemes (CB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=&gt; Transnational and transregional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CBSS 2007-2010: approx. €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200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Transnational actions 2007-2010: € 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alls for proposals to be launched by Delegations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92 countries foreseen fo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igibility of applicants and scope of actions/specific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jectives within strategic objective defined lo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052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3 of the Strategy Paper (SP) 2007-2010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484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ctions on human rights and democracy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issues on which EU Guidelines have been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9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ef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ew call for proposals to be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first semester 20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Same flexibility as objective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840e02"/>
                </a:solidFill>
                <a:latin typeface="Arial"/>
              </a:rPr>
              <a:t>Info on support, including protection in urgent situations a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o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Latest call f or proposals launched by HQ in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July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Rehabilitation and prevention, integrated appro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Death penalty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Children’s rights and children in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1557360"/>
            <a:ext cx="8064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nd strengthening th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and regional framework for the protection of human righ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justice, the rule of law and the promotion of dem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Civil society support to IC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ov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Global campaigns - € 4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Regional HR&amp;D Ma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Dec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argeting different world regions - € 5 mill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argeted projects – 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ontributions to International Organi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Project approach with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ICC, CoE,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etc. </a:t>
            </a:r>
            <a:br>
              <a:rPr sz="1600"/>
            </a:b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Contribution to budget of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OHCHR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(€ 4 M per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1125360"/>
            <a:ext cx="705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4 of the Strategy Paper (SP) 2007-2010: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6920" y="1989000"/>
            <a:ext cx="76838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uilding confidence in and enh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he reliability and transparency of democratic electoral 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processes,  in particular through election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2007-2010: approx. € 1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112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5 of the Strategy Paper (SP) 2007-2010: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6160" y="4221000"/>
            <a:ext cx="45680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EU Election Observation Missions main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351324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1484280"/>
            <a:ext cx="698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Eligibility of organisations – applicants an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(Article 10 of the Reg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pecific to each call for proposals</a:t>
            </a:r>
            <a:br>
              <a:rPr sz="2000"/>
            </a:b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ivil society organisations (NGOs, independen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political foundations, private sector non-profi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agencie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ublic sector non-profit agencies, institution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arliamentary bodies, when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ternational inter-governmental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ural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unding of political parties is ex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2806560"/>
            <a:ext cx="83170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Verdana"/>
              </a:rPr>
              <a:t>More than 1500 projects ongoing by the end of 2009</a:t>
            </a:r>
            <a:br>
              <a:rPr sz="1600"/>
            </a:br>
            <a:r>
              <a:rPr b="1" lang="en-GB" sz="1600" spc="-1" strike="noStrike">
                <a:solidFill>
                  <a:srgbClr val="0066ff"/>
                </a:solidFill>
                <a:latin typeface="Verdana"/>
              </a:rPr>
              <a:t>(grants CSOs +joint management 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6 -  474 contracts 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7 – 332 (mostly micro-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8 – 388 (of which 9 were targeted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9 – Approx. 430 signed by the end of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27160" y="1411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SOME FIGURES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69000" y="189000"/>
            <a:ext cx="60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/Initiative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CBSS in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2394360"/>
            <a:ext cx="75614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60 calls for proposals launched by Delegations in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2000 proposals received and ass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66"/>
                </a:solidFill>
                <a:latin typeface="Verdana"/>
              </a:rPr>
              <a:t>More than 300 new local projects signed in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77 country allocations in AAP 2009 and 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92 foreseen for AAP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70028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92360" y="3953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Chart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632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92360" y="2581920"/>
            <a:ext cx="655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7-April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Present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V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More Information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Graphique 4" descr=""/>
          <p:cNvPicPr/>
          <p:nvPr/>
        </p:nvPicPr>
        <p:blipFill>
          <a:blip r:embed="rId1"/>
          <a:stretch/>
        </p:blipFill>
        <p:spPr>
          <a:xfrm>
            <a:off x="914400" y="1414440"/>
            <a:ext cx="7381800" cy="4754520"/>
          </a:xfrm>
          <a:prstGeom prst="rect">
            <a:avLst/>
          </a:prstGeom>
          <a:ln w="0">
            <a:noFill/>
          </a:ln>
        </p:spPr>
      </p:pic>
      <p:pic>
        <p:nvPicPr>
          <p:cNvPr id="277" name="Chart 2" descr=""/>
          <p:cNvPicPr/>
          <p:nvPr/>
        </p:nvPicPr>
        <p:blipFill>
          <a:blip r:embed="rId2"/>
          <a:stretch/>
        </p:blipFill>
        <p:spPr>
          <a:xfrm>
            <a:off x="689040" y="1268280"/>
            <a:ext cx="772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6320" y="2131920"/>
            <a:ext cx="457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169272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r>
              <a:rPr b="0" lang="en-US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6040" y="2276640"/>
            <a:ext cx="78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ttp://ec.europa.eu/europeaid/what/human-rights/index_en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96856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40e02"/>
                </a:solidFill>
                <a:latin typeface="Verdana"/>
              </a:rPr>
              <a:t>Compendia</a:t>
            </a:r>
            <a:r>
              <a:rPr b="0" lang="en-US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uropeaid/what/human-rights/projects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Arial"/>
              </a:rPr>
              <a:t>Calls for Proposals (new si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europeaid/work/funding/index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Arial"/>
              </a:rPr>
              <a:t>Support to Human Rights Defen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92428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Project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V: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3120" y="235080"/>
            <a:ext cx="56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Overview of the new financia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4304160" y="-1775520"/>
            <a:ext cx="463680" cy="7272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126320" y="-1598760"/>
            <a:ext cx="454680" cy="70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trument for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445000"/>
            <a:ext cx="223920" cy="20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537372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ical instrument with a specific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734080"/>
            <a:ext cx="22392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66100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rizontal instrument with a specific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967360"/>
            <a:ext cx="223920" cy="19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595008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atic programme included in DCI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00000" y="1125000"/>
            <a:ext cx="7272000" cy="454680"/>
            <a:chOff x="900000" y="1125000"/>
            <a:chExt cx="7272000" cy="454680"/>
          </a:xfrm>
        </p:grpSpPr>
        <p:sp>
          <p:nvSpPr>
            <p:cNvPr id="125" name=""/>
            <p:cNvSpPr/>
            <p:nvPr/>
          </p:nvSpPr>
          <p:spPr>
            <a:xfrm rot="16200000">
              <a:off x="4318920" y="-2284560"/>
              <a:ext cx="434160" cy="7272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351680" y="-2240280"/>
              <a:ext cx="454680" cy="71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ropean Instrument for Democracy and Human Righ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900000" y="2276640"/>
            <a:ext cx="7343280" cy="3097080"/>
            <a:chOff x="900000" y="2276640"/>
            <a:chExt cx="7343280" cy="3097080"/>
          </a:xfrm>
        </p:grpSpPr>
        <p:grpSp>
          <p:nvGrpSpPr>
            <p:cNvPr id="128" name=""/>
            <p:cNvGrpSpPr/>
            <p:nvPr/>
          </p:nvGrpSpPr>
          <p:grpSpPr>
            <a:xfrm>
              <a:off x="900000" y="2276640"/>
              <a:ext cx="7343280" cy="3097080"/>
              <a:chOff x="900000" y="2276640"/>
              <a:chExt cx="7343280" cy="3097080"/>
            </a:xfrm>
          </p:grpSpPr>
          <p:sp>
            <p:nvSpPr>
              <p:cNvPr id="129" name=""/>
              <p:cNvSpPr/>
              <p:nvPr/>
            </p:nvSpPr>
            <p:spPr>
              <a:xfrm>
                <a:off x="90000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834920" y="2421000"/>
                <a:ext cx="6408360" cy="2816280"/>
                <a:chOff x="1834920" y="2421000"/>
                <a:chExt cx="6408360" cy="2816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834920" y="472536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34920" y="414936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5187960" y="2256840"/>
                  <a:ext cx="454680" cy="55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-State Actors and Local Authorit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6200000">
                  <a:off x="6698160" y="3203280"/>
                  <a:ext cx="454680" cy="248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ood Secur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34920" y="35748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6200000">
                  <a:off x="5558040" y="144252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vironment and Natural Resour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34920" y="299880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6200000">
                  <a:off x="5558040" y="8661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gration and Asyl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34920" y="24210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6200000">
                  <a:off x="5558040" y="2883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vesting in Peo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052360" y="2276640"/>
                <a:ext cx="57492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7164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236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94860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2024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4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844640"/>
            <a:ext cx="381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133720"/>
            <a:ext cx="770580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Legal base: EIDHR Regulation (EC) 1889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ize (without Election Observation)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x.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€ 450 million</a:t>
            </a:r>
            <a:br>
              <a:rPr sz="1800"/>
            </a:b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 for 2007-2010, approx. € 111 million foreseen in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haracteristic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: Financing instrument for the promotion of democracy and human rights through the support to civil society and to victims of human rights abuses and through existing international frame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verage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orld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1413000"/>
            <a:ext cx="59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‘</a:t>
            </a: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84464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74840" y="2215800"/>
            <a:ext cx="6466680" cy="4182840"/>
            <a:chOff x="1374840" y="2215800"/>
            <a:chExt cx="6466680" cy="4182840"/>
          </a:xfrm>
        </p:grpSpPr>
        <p:sp>
          <p:nvSpPr>
            <p:cNvPr id="161" name="_s658445"/>
            <p:cNvSpPr/>
            <p:nvPr/>
          </p:nvSpPr>
          <p:spPr>
            <a:xfrm flipH="1" flipV="1">
              <a:off x="3050640" y="3782160"/>
              <a:ext cx="7855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_s658446"/>
            <p:cNvSpPr/>
            <p:nvPr/>
          </p:nvSpPr>
          <p:spPr>
            <a:xfrm>
              <a:off x="1374840" y="3000600"/>
              <a:ext cx="1794240" cy="104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Independent / </a:t>
              </a:r>
              <a:br>
                <a:rPr sz="1300"/>
              </a:b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civil socie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658447"/>
            <p:cNvSpPr/>
            <p:nvPr/>
          </p:nvSpPr>
          <p:spPr>
            <a:xfrm flipH="1">
              <a:off x="3050640" y="4565520"/>
              <a:ext cx="78552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658448"/>
            <p:cNvSpPr/>
            <p:nvPr/>
          </p:nvSpPr>
          <p:spPr>
            <a:xfrm>
              <a:off x="1377360" y="4570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CB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658449"/>
            <p:cNvSpPr/>
            <p:nvPr/>
          </p:nvSpPr>
          <p:spPr>
            <a:xfrm>
              <a:off x="4606920" y="482544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658450"/>
            <p:cNvSpPr/>
            <p:nvPr/>
          </p:nvSpPr>
          <p:spPr>
            <a:xfrm>
              <a:off x="3714120" y="5353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40e02"/>
                  </a:solidFill>
                  <a:latin typeface="Arial"/>
                </a:rPr>
                <a:t>Worldwi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658451"/>
            <p:cNvSpPr/>
            <p:nvPr/>
          </p:nvSpPr>
          <p:spPr>
            <a:xfrm>
              <a:off x="5380200" y="456552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658452"/>
            <p:cNvSpPr/>
            <p:nvPr/>
          </p:nvSpPr>
          <p:spPr>
            <a:xfrm>
              <a:off x="6047280" y="45673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Sensitive and risk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658453"/>
            <p:cNvSpPr/>
            <p:nvPr/>
          </p:nvSpPr>
          <p:spPr>
            <a:xfrm flipV="1">
              <a:off x="5380200" y="378216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658454"/>
            <p:cNvSpPr/>
            <p:nvPr/>
          </p:nvSpPr>
          <p:spPr>
            <a:xfrm>
              <a:off x="6044400" y="299916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Flexible</a:t>
              </a:r>
              <a:br>
                <a:rPr sz="1300"/>
              </a:b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 and innov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_s658455"/>
            <p:cNvSpPr/>
            <p:nvPr/>
          </p:nvSpPr>
          <p:spPr>
            <a:xfrm flipV="1">
              <a:off x="4606920" y="325908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658456"/>
            <p:cNvSpPr/>
            <p:nvPr/>
          </p:nvSpPr>
          <p:spPr>
            <a:xfrm>
              <a:off x="3710520" y="221580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00"/>
                  </a:solidFill>
                  <a:latin typeface="Arial"/>
                </a:rPr>
                <a:t>Complement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658457"/>
            <p:cNvSpPr/>
            <p:nvPr/>
          </p:nvSpPr>
          <p:spPr>
            <a:xfrm>
              <a:off x="3710520" y="378576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ID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564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Key Words </a:t>
            </a:r>
            <a:br>
              <a:rPr sz="2000"/>
            </a:b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370480" cy="275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76360" y="4437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1628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Arial"/>
              </a:rPr>
              <a:t>EID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21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 di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4292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strument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matic dem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933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 + Other do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558972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COMPLEMENTARY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1557360"/>
            <a:ext cx="75596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Some other key issues under EIDH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Informal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Re-gran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Call for proposals permanently op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Support to Human Rights Defenders in urgent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Giving space to the initiative of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vs. need to be specific/strategic to achiev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Special attention to confidentiality an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63560" y="193680"/>
            <a:ext cx="50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847880"/>
            <a:ext cx="4572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00000" y="2060640"/>
            <a:ext cx="7238880" cy="4232160"/>
            <a:chOff x="900000" y="2060640"/>
            <a:chExt cx="7238880" cy="4232160"/>
          </a:xfrm>
        </p:grpSpPr>
        <p:sp>
          <p:nvSpPr>
            <p:cNvPr id="199" name=""/>
            <p:cNvSpPr/>
            <p:nvPr/>
          </p:nvSpPr>
          <p:spPr>
            <a:xfrm>
              <a:off x="3643200" y="2060640"/>
              <a:ext cx="1981080" cy="45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Multi-ann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trategy pa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377440" y="2175120"/>
              <a:ext cx="1007280" cy="6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" y="3166920"/>
              <a:ext cx="1981080" cy="4557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000" y="4730760"/>
              <a:ext cx="1981080" cy="455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ontracts, follow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payment</a:t>
              </a: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3760" y="4730760"/>
              <a:ext cx="1905120" cy="455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a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33760" y="316692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nnual 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6880" y="583704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9560" y="3660840"/>
              <a:ext cx="1800" cy="84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195280" y="36608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30120" y="5233680"/>
              <a:ext cx="100728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359080" y="5263200"/>
              <a:ext cx="104400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4360" y="2144880"/>
              <a:ext cx="96336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32720" y="234936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15573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3300"/>
                </a:solidFill>
                <a:latin typeface="Arial"/>
              </a:rPr>
              <a:t>DG RELEX 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42210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50021"/>
                </a:solidFill>
                <a:latin typeface="Arial"/>
              </a:rPr>
              <a:t>Delegation mostly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4076640"/>
            <a:ext cx="3203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 –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Delegations in charge – C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638172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34936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HQ/Delegation/partne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shared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53006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5157720"/>
            <a:ext cx="223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and/or Delegations 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1341360"/>
            <a:ext cx="417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1 of the Strategy Paper (SP) 2007-20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1844640"/>
            <a:ext cx="7345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nhancing respect for human rights and fundamental freedoms in countries and regions where they are most a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2007-2010: approx. €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0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66ff"/>
                </a:solidFill>
                <a:uFillTx/>
                <a:latin typeface="Arial"/>
              </a:rPr>
              <a:t>Call for proposals launched by HQ and permanently open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wo deadlines per year for selection of received proposals – latest 30 October 2009 and next 30 Apr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 list of countries/regions – pertinence to be justified by applicant on the bases of independent external indicators and/or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 national or geographical restrictions for activities and/or 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-granting possible as well as reimbursement of incurred expenditure by organisations without legal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ecial attention to confidentiality an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loeckxsandrine</cp:lastModifiedBy>
  <cp:lastPrinted>2006-01-29T19:49:04Z</cp:lastPrinted>
  <dcterms:modified xsi:type="dcterms:W3CDTF">2010-02-24T16:14:02Z</dcterms:modified>
  <cp:revision>8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