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080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D9D9FC-ACFA-418D-9204-6275CFB55D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01BCEC-4F96-4309-A83A-92341712C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640DB-A0A9-4D70-A00E-3DC68E429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D2BF07-BC21-434F-945C-78C5594A0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B005A5-3CA3-4469-8D7F-B327634A1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AC codes are more detailed than the European Consensus: so based on DAC we would end up with mor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AIDCO DAC statistics (annex of our annual report): there are 7 chapters, divided in 33 sub-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uropean Consensus table has 6 chapters, divided in 18 sub-s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B400B-0901-409F-A8FF-B6367FF4B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1E7446-E07B-4B98-90CC-04189EAA3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E966A9-0C60-4126-8C4B-B1C7AFDBE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4003DF-B9DF-4CA7-BD44-87003B472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833C4-8A97-4234-B7B6-0FED2C649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B1A1C8-668A-4827-B33A-54096453B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73D804-60B5-4B25-920C-D24769BED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EF5B7C-D2E0-465A-A67B-30BE3284D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874029-11B2-4429-BA46-EDCE879A9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1BAAF7-BA9A-49FE-96AD-9055EC775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46250C-0723-4F49-9B05-32D747A21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44A757-376D-499D-939A-7A4A5C10D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AE5CC7-1D20-463F-826B-64F1E7ECD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F00566-869B-47D5-A659-B79696D37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E87596-824B-46B0-A691-B044794FF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405E00-2CC3-4B27-91A7-9B7D9AB4A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C5EC0B-A3AC-4DDB-B714-B25EE3920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DC00AE-7706-4AB7-B8BC-A730350A0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29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3EBE6F-C6B8-48F7-B18D-B8CE162F9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BA9BCF-C650-46A8-AE07-E1A284D98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BC6F1E-9F2B-4AA1-BDD7-A68926D1C5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1B5A87-1351-4B57-A28A-506A7145A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230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116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7880" y="4717800"/>
            <a:ext cx="542592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Header Placeholder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.01.09, pres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id, Koos Rich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A19275-6304-4038-804A-884E01CB3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F4B-27D3-45D5-B571-E64B94FB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55F-31EC-4AEB-8944-DB28854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2C7-D5F0-47F6-B725-48005826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64C-EED7-42CC-9B40-79ACABBC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9326-8E7B-421D-97FF-3DC790CB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1358-0702-4268-847C-3F6BFF05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0095-6F92-4328-97E2-8F787E4C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BF7B-EAF8-4194-AF26-426AED4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BA15-61FD-4599-8C59-05A0111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4A38-97DA-418E-B22D-88EEB6BE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A0BD-0388-48D0-8033-2FD26CB5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49D-CF1E-4B9B-8329-0E3A669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87B-21B1-419C-80BD-D04FB5C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1FD-980D-4904-9669-B9816D93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9376-67BA-4482-AB53-4DDDD0D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3A5A-2CB9-4EB0-9A5C-9D6FBBEA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994-30A5-487A-8C9F-353DE7FE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6BA-2407-47F4-B14E-B5EAF345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13F-20E2-4F2A-AD83-33DC996E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3B3-E18C-4A38-9273-920D061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319-E798-4ED2-B5C2-BE13944C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47D-A93A-4B54-B933-D796D9A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7D3-4A15-4DA8-B8AD-D38549E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A38-EBE9-4041-A17A-0469158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67F3-0B48-4B82-813A-559E4B14B95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be6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6d2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06DE-E087-4E1C-BF52-4C0A0B4638D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schildrensvillages.org.uk/imgs/content/children-at-Cochabamba-Bolivia.jpg&amp;imgrefurl=http://www.soschildrensvillages.org.uk/sponsor-a-child/americas-child-sponsorship/bolivia.htm&amp;h=335&amp;w=500&amp;sz=57&amp;hl=en&amp;start=20&amp;um=1&amp;tbnid=YDVXO2HVQYsWUM:&amp;tbnh=87&amp;tbnw=130&amp;prev=/images?q=bolivia&amp;svnum=10&amp;um=1&amp;hl=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directrelief.org/uploadedImages/Where_We_Work/Countries/Bolivia/Bolivia.JPG&amp;imgrefurl=http://www.directrelief.org/WorkArea/linkit.aspx?LinkIdentifier=id&amp;ItemID=1290&amp;h=327&amp;w=490&amp;sz=48&amp;hl=en&amp;start=74&amp;um=1&amp;tbnid=oskldzFL8NdHIM:&amp;tbnh=87&amp;tbnw=130&amp;prev=/images?q=bolivia&amp;start=60&amp;ndsp=20&amp;svnum=10&amp;um=1&amp;hl=en&amp;sa=N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124B-FA4C-44AA-A919-9F27B0CCB3E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3933360"/>
            <a:ext cx="81342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TUC Conference on “Development is Social Justice –Trade Unions for Decent Work”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3-14 October 2009</a:t>
            </a:r>
            <a:br>
              <a:rPr sz="2000"/>
            </a:br>
            <a:br>
              <a:rPr sz="18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oos Richel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rector Gener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ropeAid Cooperation Off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unö, Stockholm, 13 October 2009</a:t>
            </a:r>
            <a:endParaRPr b="1" lang="en-US" sz="2000" spc="-1" strike="noStrike">
              <a:solidFill>
                <a:srgbClr val="be6d25"/>
              </a:solidFill>
              <a:latin typeface="Verdana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0" y="333360"/>
            <a:ext cx="9491760" cy="3241800"/>
            <a:chOff x="0" y="333360"/>
            <a:chExt cx="9491760" cy="3241800"/>
          </a:xfrm>
        </p:grpSpPr>
        <p:sp>
          <p:nvSpPr>
            <p:cNvPr id="106" name="Rectangle 4"/>
            <p:cNvSpPr/>
            <p:nvPr/>
          </p:nvSpPr>
          <p:spPr>
            <a:xfrm>
              <a:off x="347760" y="333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" descr="children-at-Cochabamba-Bolivi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76360" y="981000"/>
              <a:ext cx="25192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Bolivia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003640" y="2278080"/>
              <a:ext cx="19083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7" descr="interview360"/>
            <p:cNvPicPr/>
            <p:nvPr/>
          </p:nvPicPr>
          <p:blipFill>
            <a:blip r:embed="rId5"/>
            <a:stretch/>
          </p:blipFill>
          <p:spPr>
            <a:xfrm>
              <a:off x="0" y="981000"/>
              <a:ext cx="1692360" cy="16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8" descr="nica0009 - Nicaragua © 2004 EC/R. Canessa"/>
            <p:cNvPicPr/>
            <p:nvPr/>
          </p:nvPicPr>
          <p:blipFill>
            <a:blip r:embed="rId6"/>
            <a:stretch/>
          </p:blipFill>
          <p:spPr>
            <a:xfrm>
              <a:off x="5435640" y="981000"/>
              <a:ext cx="171432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taller"/>
            <p:cNvPicPr/>
            <p:nvPr/>
          </p:nvPicPr>
          <p:blipFill>
            <a:blip r:embed="rId7"/>
            <a:srcRect l="0" t="0" r="0" b="2544"/>
            <a:stretch/>
          </p:blipFill>
          <p:spPr>
            <a:xfrm>
              <a:off x="7093080" y="981000"/>
              <a:ext cx="165564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guat0014b"/>
            <p:cNvPicPr/>
            <p:nvPr/>
          </p:nvPicPr>
          <p:blipFill>
            <a:blip r:embed="rId8"/>
            <a:stretch/>
          </p:blipFill>
          <p:spPr>
            <a:xfrm>
              <a:off x="6804000" y="2278080"/>
              <a:ext cx="19447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Improving water and sanitation in the rural areas of Nicaragua"/>
            <p:cNvPicPr/>
            <p:nvPr/>
          </p:nvPicPr>
          <p:blipFill>
            <a:blip r:embed="rId9"/>
            <a:stretch/>
          </p:blipFill>
          <p:spPr>
            <a:xfrm>
              <a:off x="0" y="2278080"/>
              <a:ext cx="1944720" cy="12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cro0026 - Improvement of cross-border points in Northern Dalmatia (Croatia) © EC/A.Zrno"/>
            <p:cNvPicPr/>
            <p:nvPr/>
          </p:nvPicPr>
          <p:blipFill>
            <a:blip r:embed="rId10"/>
            <a:stretch/>
          </p:blipFill>
          <p:spPr>
            <a:xfrm>
              <a:off x="3276720" y="2278080"/>
              <a:ext cx="194292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girl-Lao"/>
            <p:cNvPicPr/>
            <p:nvPr/>
          </p:nvPicPr>
          <p:blipFill>
            <a:blip r:embed="rId11"/>
            <a:stretch/>
          </p:blipFill>
          <p:spPr>
            <a:xfrm>
              <a:off x="1692360" y="2278080"/>
              <a:ext cx="1942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4"/>
            <p:cNvSpPr/>
            <p:nvPr/>
          </p:nvSpPr>
          <p:spPr>
            <a:xfrm>
              <a:off x="0" y="3502080"/>
              <a:ext cx="8748720" cy="712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5" descr="eu-flag"/>
            <p:cNvPicPr/>
            <p:nvPr/>
          </p:nvPicPr>
          <p:blipFill>
            <a:blip r:embed="rId12"/>
            <a:stretch/>
          </p:blipFill>
          <p:spPr>
            <a:xfrm>
              <a:off x="3492360" y="981000"/>
              <a:ext cx="194472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16"/>
            <p:cNvSpPr/>
            <p:nvPr/>
          </p:nvSpPr>
          <p:spPr>
            <a:xfrm>
              <a:off x="0" y="981000"/>
              <a:ext cx="8748720" cy="71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FAF-72E7-42AC-B944-079E85D88AC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Distribution of funds by horizontal programme - 2008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0" y="1413000"/>
          <a:ext cx="9091440" cy="48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091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6395040"/>
            <a:ext cx="5724360" cy="45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matic programmes include: non-state actors &amp; local authorities, investing in people, gender, environment, migration and foo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32D-B35E-4037-BBBE-D8E6DB66203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3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360" y="3284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85c00"/>
                </a:solidFill>
                <a:latin typeface="Verdana"/>
              </a:rPr>
              <a:t>More means than only aid…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2ECE-AB91-4F4C-9770-16DD0D8759D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Trade and remittances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U’s import in 2008 from Developing Countries amounts to </a:t>
            </a:r>
            <a:r>
              <a:rPr b="1" lang="en-GB" sz="2200" spc="-1" strike="noStrike">
                <a:solidFill>
                  <a:srgbClr val="cc6600"/>
                </a:solidFill>
                <a:latin typeface="Verdana"/>
              </a:rPr>
              <a:t>€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890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and from Least Developed Countries to </a:t>
            </a:r>
            <a:r>
              <a:rPr b="1" lang="en-GB" sz="2200" spc="-1" strike="noStrike">
                <a:solidFill>
                  <a:srgbClr val="cc6600"/>
                </a:solidFill>
                <a:latin typeface="Verdana"/>
              </a:rPr>
              <a:t>€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25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-357120" algn="just">
              <a:lnSpc>
                <a:spcPct val="100000"/>
              </a:lnSpc>
              <a:spcAft>
                <a:spcPts val="18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Recorded remittances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of migrant labour force  amounted to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$380 billion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in 2008 worldwid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Unrecorded remittances adds up additional 50% to recorded remittances </a:t>
            </a: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(WB source);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Home countries would benefit both from ‘Brain Gain’ and conversion of remittances into productive business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EU trade policies for development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U’s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Aid for Trade Strategy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2007) with a pro-poor focus of the assistance (€3,109 million/2007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lassical’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Trade Related Assistance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€1,005 million / 2007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mprove developing countries' integration into the world trading system with a comprehensive view to poverty reductio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ct val="100000"/>
              </a:lnSpc>
              <a:spcAft>
                <a:spcPts val="18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Generalised System of Preferences (GSP)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trade agreements, reduced tariffs (GSP+ is conditioned on adoption of core labour standards)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00F-8248-46F5-99F6-F69948D84A7F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19F-9302-43A6-81DE-7DBF94B49605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45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00000"/>
              </a:lnSpc>
              <a:spcAft>
                <a:spcPts val="1500"/>
              </a:spcAft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Governance in the European Consensus on Development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, EC Communication, 2006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Governance is a priority in donors’ development policies and aid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apacity building to support democratisation processes, </a:t>
            </a:r>
            <a:r>
              <a:rPr b="0" lang="en-GB" sz="2400" spc="-1" strike="noStrike">
                <a:solidFill>
                  <a:srgbClr val="cc6600"/>
                </a:solidFill>
                <a:latin typeface="Verdana"/>
              </a:rPr>
              <a:t>accountability, transparency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, etc. in partner countri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Enhancing </a:t>
            </a:r>
            <a:r>
              <a:rPr b="0" lang="en-GB" sz="2400" spc="-1" strike="noStrike">
                <a:solidFill>
                  <a:srgbClr val="cc6600"/>
                </a:solidFill>
                <a:latin typeface="Verdana"/>
              </a:rPr>
              <a:t>ownership and dialogue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with economic and social actor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57120"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7858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Democratic &amp; Good Governance 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EU’s added value - protecting the vulnerable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creased need for greater attention in development cooperation towards the systems of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lidarity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cial protection &amp; safety ne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Social dialogu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The EU has an added value and vast experience to give inspirations to our partners in these fields.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E30-1375-42DF-A902-95BB187F4B6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EC aid to promote decent work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cc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€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1.9 billion support to DW related programme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ver 1999-2010 via bilateral and thematic aid programmes; (Investing in People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upport provided to the development and implementation of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home-grown sector-wide reform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in partner countri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supported reforms cover social protection systems, safety nets, skills development /vocational training systems, employment services, etc.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1AD9-FC58-4DAA-8FFE-A7EACA3D6C9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36C-B61E-4F9C-971D-C6F1E49CB7B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7000" spc="-1" strike="noStrike">
                <a:solidFill>
                  <a:srgbClr val="c0c0c0"/>
                </a:solidFill>
                <a:latin typeface="Verdana"/>
              </a:rPr>
              <a:t>4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Role of Civil Society &amp; Social Partner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510F-2310-4746-A3C9-7ADE6B4B358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Accra Action Plan 2008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► agenda extended to the civil society organisations (CSO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SOs are invited to examine how they can contribute to the Aid Effectiveness, reflecting on their specific added-value in development cooperatio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Working towards an “enabling environment” for CSOs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94920" y="404640"/>
            <a:ext cx="7713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Role of the CSOs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CSOs initiatives in the </a:t>
            </a:r>
            <a:r>
              <a:rPr b="0" lang="fr-FR" sz="2000" spc="-1" strike="noStrike">
                <a:solidFill>
                  <a:srgbClr val="cc6600"/>
                </a:solidFill>
                <a:latin typeface="Verdana"/>
              </a:rPr>
              <a:t>«</a:t>
            </a: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post-Accra</a:t>
            </a:r>
            <a:r>
              <a:rPr b="0" lang="fr-FR" sz="2000" spc="-1" strike="noStrike">
                <a:solidFill>
                  <a:srgbClr val="cc6600"/>
                </a:solidFill>
                <a:latin typeface="Verdana"/>
              </a:rPr>
              <a:t>»</a:t>
            </a:r>
            <a:endParaRPr b="1" lang="en-US" sz="20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Open Forum on CSO Development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ternational CSO-driven process to define a global development effectiveness framework applicable to civil society organisations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Better Aid: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nternational CSO-driven process to contribute to the effective implementation of the Paris Declaration and AAA: monitoring of donors, watchdog, etc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Activities: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rganisation of national &amp; regional CSO consultations; </a:t>
            </a:r>
            <a:r>
              <a:rPr b="0" lang="fr-BE" sz="2400" spc="-1" strike="noStrike">
                <a:solidFill>
                  <a:srgbClr val="103c72"/>
                </a:solidFill>
                <a:latin typeface="Verdana"/>
              </a:rPr>
              <a:t>Global Assembly in 2010 and 2011 to finalise consensus building in view of the 4th High Level Forum (Seoul 2011)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42B-DB7A-4332-91B2-B941425A9BE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261-3923-4448-BF21-71D2BA48112E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1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285720"/>
            <a:ext cx="7088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The EU development aid contex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Social partners in development co-oper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 algn="just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istinguished role of social partners in the Acquis Communitaire of the EU as part of democratic governanc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just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 algn="just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Social partners have strong influence on formulation of policy reforms;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(see also Corporate Social Responsibilit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just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Representation, credibility and legitimacy of the social partners are essential for effective and efficient social dialogue and thus for the acceptability of policy reforms &amp; their implementation;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0A21-D7D7-4928-9C2E-5EECE4D9333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Social partners in development co-oper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development assistance in partner countries covers inter alia the following aspect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Improved effectiveness of regulations, state administration, public finance systems and public services to promote decent work related measur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omote social dialogue in direct  and indirect manner (e.g. VET systems) and also within the frame of improved governance and rule of law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ovision of capacity building to social partner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Need for reinforcement of support and for increased demand from partner governments to support DW aspec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8ED-66AF-42B3-A74F-E675A9E1007D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BF8B-BFBB-43E9-8481-1C84104B3BD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755640" y="333360"/>
            <a:ext cx="33116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5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4000" y="3141360"/>
            <a:ext cx="70880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Challenges &amp; Priorities for the EC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hallenges in the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DW context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mpowerment of social partners to be able to fulfil their roles in sector policy design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pen up space for social and private sector actors/partners to participate in sector reform dialogues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EC supported Sector Programmes in partner countries to be considered as an entry points for developing social dialogue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2A83-36B5-4808-921B-AC7ABF393F8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C02D-B5CD-456F-B949-06214CDF897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616572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eliver on the Accra Agenda for Actio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798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use country systems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channel 50% of aid to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ublic sector through country system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in-country division of labou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implement now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untying aid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elaborate plans to further untie ai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conditionalit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</a:t>
            </a: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agree conditions based on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national development strateg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predictabilit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3-5 yr forward info on expenditur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60360" indent="-360360">
              <a:lnSpc>
                <a:spcPts val="2299"/>
              </a:lnSpc>
              <a:buClr>
                <a:srgbClr val="b8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ransparency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regular public disclosur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Better orientation towards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ositioning of development cooperation towards the new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xternal Action Servi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(EA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b85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U Budget revision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2014 – 2020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Define position towards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Middle Income Countr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C887-1AB7-43F8-9845-3672BCA779BA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e6d25"/>
                </a:solidFill>
                <a:latin typeface="Verdana"/>
              </a:rPr>
              <a:t>Challenges &amp; Priorities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b85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Policy Coheren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: need for coherence at EC level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ontribution to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Climate Change agenda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bserve status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0.7% 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contributions by M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Overview the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implementation of EU policies on 2015 MDG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Relevance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DA concept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1840-88CB-4608-90D7-882AC07D9643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103c72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25" name="Picture 4" descr="50-p-012531-00-23h"/>
          <p:cNvPicPr/>
          <p:nvPr/>
        </p:nvPicPr>
        <p:blipFill>
          <a:blip r:embed="rId1"/>
          <a:stretch/>
        </p:blipFill>
        <p:spPr>
          <a:xfrm>
            <a:off x="3132000" y="4508640"/>
            <a:ext cx="266400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55D-A21F-4E50-9537-817374ED5E68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8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EC response: the policy framework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Aft>
                <a:spcPts val="337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U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Millennium Development Goal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fixing poverty reduction objectives for 2015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ECD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Paris Declaration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60 recipients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50 donors o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European Consensu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, the EU development policy, tying Member States and Commission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EU Code on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Division of Labou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ccra High Level Forum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n aid effectivenes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Doha Conference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n financing for development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06D-FA51-469C-8570-E1B0CDEB6796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EU &amp; EC aid implementation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U the largest donor in the worl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003366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27 + 1 donors together responsible for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60%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of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all development aid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 (2008: 48,6 billion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003366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USA provides 22%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uropean Commission on its own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b85c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Second largest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donor of 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humanitarian aid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b85c00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hird largest donor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of </a:t>
            </a: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evelopment aid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(11%, after USA and Germany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601"/>
              </a:spcAft>
              <a:buClr>
                <a:srgbClr val="103c72"/>
              </a:buClr>
              <a:buFont typeface="Times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Present in aprox.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140 countries</a:t>
            </a: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27560" y="6256440"/>
            <a:ext cx="34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Based on OECD/DAC preliminary figure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04A-F930-413D-9862-5E156384D92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The EC and the external aid budget 2008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468360" y="1628640"/>
          <a:ext cx="40384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4038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"/>
          <p:cNvGraphicFramePr/>
          <p:nvPr/>
        </p:nvGraphicFramePr>
        <p:xfrm>
          <a:off x="4648320" y="1600200"/>
          <a:ext cx="4038480" cy="427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0200"/>
                    <a:ext cx="4038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684360" y="436572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mission budget inside EU: €124 bn (9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220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nal aid: €12.8 b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708360" y="2276640"/>
            <a:ext cx="1368360" cy="21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659640" y="2565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id EDF fund:  €4.8 bn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1964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uropeAid Budget: €4.6 bn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284720" y="26370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n-EuropeAid Budget: €3.3 b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2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468360" y="1773360"/>
            <a:ext cx="3024000" cy="1511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5805360"/>
            <a:ext cx="80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uropeAid implements external assistance. This excludes pre-accession aid, humanitarian aid, and Common Foreign and Security Policy (CFSP) aid. EC total budget includes European Development Fund (EDF). 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NB – 2008 provisional figures (April 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A703-C06C-4B97-A0AC-F88A05E82F8C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868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fficial Development Assistance</a:t>
            </a:r>
            <a:br>
              <a:rPr sz="2400"/>
            </a:b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 Percentage of Gross National Income: actual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08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forecast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,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b85c00"/>
                </a:solidFill>
                <a:latin typeface="Verdana"/>
              </a:rPr>
              <a:t>objective</a:t>
            </a:r>
            <a:r>
              <a:rPr b="1" lang="en-GB" sz="2400" spc="-1" strike="noStrike">
                <a:solidFill>
                  <a:srgbClr val="cc66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1" lang="en-US" sz="2400" spc="-1" strike="noStrike">
              <a:solidFill>
                <a:srgbClr val="be6d25"/>
              </a:solidFill>
              <a:latin typeface="Verdana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395280" y="1557360"/>
          <a:ext cx="78487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7848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4"/>
          <p:cNvSpPr/>
          <p:nvPr/>
        </p:nvSpPr>
        <p:spPr>
          <a:xfrm>
            <a:off x="1187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 flipV="1">
            <a:off x="1116000" y="2636640"/>
            <a:ext cx="3949560" cy="69840"/>
          </a:xfrm>
          <a:custGeom>
            <a:avLst/>
            <a:gdLst>
              <a:gd name="textAreaLeft" fmla="*/ 0 w 3949560"/>
              <a:gd name="textAreaRight" fmla="*/ 3949920 w 3949560"/>
              <a:gd name="textAreaTop" fmla="*/ 360 h 69840"/>
              <a:gd name="textAreaBottom" fmla="*/ 70560 h 69840"/>
            </a:gdLst>
            <a:ahLst/>
            <a:rect l="textAreaLeft" t="textAreaTop" r="textAreaRight" b="textAreaBottom"/>
            <a:pathLst>
              <a:path w="2632" h="1">
                <a:moveTo>
                  <a:pt x="0" y="0"/>
                </a:moveTo>
                <a:lnTo>
                  <a:pt x="26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29272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5076720" y="3789360"/>
            <a:ext cx="295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307120" y="2625840"/>
            <a:ext cx="142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932360" y="256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39640" y="6237360"/>
            <a:ext cx="78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Source: OECD DAC where available. EC data base on MS information to the EC or the DAC for 2008.  EU DAC Average: 0.42% in 2008 compared with 0.38% in 2007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076720" y="2708280"/>
            <a:ext cx="0" cy="10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F70C-CB0F-4FFC-BD8F-48980DB6DF5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95280" y="404640"/>
            <a:ext cx="4464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c0c0c0"/>
                </a:solidFill>
                <a:latin typeface="Verdana"/>
              </a:rPr>
              <a:t>2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Verdana"/>
              </a:rPr>
              <a:t>Towards delivering more &amp; better  aid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6511-C40F-450A-8C05-14F4571AB0D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Paid out in 2008: €7 billion</a:t>
            </a:r>
            <a:br>
              <a:rPr sz="26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cord year for project implementation</a:t>
            </a:r>
            <a:r>
              <a:rPr b="1" lang="en-GB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364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E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99564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26200"/>
                </a:solidFill>
                <a:latin typeface="Verdana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843280" y="501336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826920" y="1268280"/>
          <a:ext cx="655344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655344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295-C577-4DCD-B7A2-F65A3AFF7554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6600"/>
                </a:solidFill>
                <a:latin typeface="Verdana"/>
              </a:rPr>
              <a:t>Geographic distribution of funds - 2008</a:t>
            </a:r>
            <a:endParaRPr b="1" lang="en-US" sz="2600" spc="-1" strike="noStrike">
              <a:solidFill>
                <a:srgbClr val="be6d25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02480" y="6381720"/>
            <a:ext cx="635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EuropeAid spending per region, ODA and OA, ACP </a:t>
            </a:r>
            <a:r>
              <a:rPr b="0" lang="en-GB" sz="1200" spc="-1" strike="noStrike" u="sng">
                <a:solidFill>
                  <a:srgbClr val="003366"/>
                </a:solidFill>
                <a:uFillTx/>
                <a:latin typeface="Verdana"/>
              </a:rPr>
              <a:t>including 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South Africa and 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03040" y="1428840"/>
          <a:ext cx="844092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428840"/>
                    <a:ext cx="844092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1:19:53Z</dcterms:created>
  <dc:creator>hopstru</dc:creator>
  <dc:description/>
  <dc:language>en-US</dc:language>
  <cp:lastModifiedBy>Luc Vermeersch</cp:lastModifiedBy>
  <dcterms:modified xsi:type="dcterms:W3CDTF">2009-11-10T10:37:34Z</dcterms:modified>
  <cp:revision>327</cp:revision>
  <dc:subject/>
  <dc:title>Slide 1</dc:title>
</cp:coreProperties>
</file>