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9.jpeg" ContentType="image/jpeg"/>
  <Override PartName="/ppt/media/image17.wmf" ContentType="image/x-wmf"/>
  <Override PartName="/ppt/media/image16.wmf" ContentType="image/x-wmf"/>
  <Override PartName="/ppt/media/image4.jpeg" ContentType="image/jpeg"/>
  <Override PartName="/ppt/media/image14.wmf" ContentType="image/x-wmf"/>
  <Override PartName="/ppt/media/image1.jpeg" ContentType="image/jpeg"/>
  <Override PartName="/ppt/media/image15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18.wmf" ContentType="image/x-wmf"/>
  <Override PartName="/ppt/media/image6.jpeg" ContentType="image/jpeg"/>
  <Override PartName="/ppt/media/image7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7824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1.01.09, press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84192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910800" y="746280"/>
            <a:ext cx="4964040" cy="372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e6d25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be6d25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77880" y="4717800"/>
            <a:ext cx="5425920" cy="44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uropeAid, Koos Riche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841920" y="942768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3AF2C4B-C638-4516-8BC3-D3A998C60C8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.01.09, press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uropeAid, Koos Riche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B6341FA-596A-47BE-AAEE-06F6C70E85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77880" y="4717800"/>
            <a:ext cx="5425920" cy="44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11160" y="746280"/>
            <a:ext cx="4964040" cy="37224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77880" y="4717800"/>
            <a:ext cx="5425920" cy="44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Header Placeholder 3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.01.09, press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ooter Placeholder 4"/>
          <p:cNvSpPr/>
          <p:nvPr/>
        </p:nvSpPr>
        <p:spPr>
          <a:xfrm>
            <a:off x="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uropeAid, Koos Riche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lide Number Placeholder 5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450654F-4023-45D6-AF60-7FDB69AA8E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11160" y="746280"/>
            <a:ext cx="4964040" cy="37224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77880" y="4717800"/>
            <a:ext cx="5425920" cy="44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Header Placeholder 3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.01.09, press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ooter Placeholder 4"/>
          <p:cNvSpPr/>
          <p:nvPr/>
        </p:nvSpPr>
        <p:spPr>
          <a:xfrm>
            <a:off x="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uropeAid, Koos Riche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lide Number Placeholder 5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68277F8-40D7-49FD-B4FC-AB92055FC9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2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.01.09, press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uropeAid, Koos Riche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03444CA-ACA4-40DC-B83E-F3DA646623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79320" y="4717800"/>
            <a:ext cx="5423040" cy="44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DAC codes are more detailed than the European Consensus: so based on DAC we would end up with more se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sed on AIDCO DAC statistics (annex of our annual report): there are 7 chapters, divided in 33 sub-se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European Consensus table has 6 chapters, divided in 18 sub-se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11160" y="746280"/>
            <a:ext cx="4964040" cy="37224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77880" y="4717800"/>
            <a:ext cx="5425920" cy="44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Header Placeholder 3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.01.09, press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ooter Placeholder 4"/>
          <p:cNvSpPr/>
          <p:nvPr/>
        </p:nvSpPr>
        <p:spPr>
          <a:xfrm>
            <a:off x="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uropeAid, Koos Riche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lide Number Placeholder 5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5D0FC53-1B3F-4F44-9B6C-3475AA0D78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11160" y="746280"/>
            <a:ext cx="4964040" cy="37224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77880" y="4717800"/>
            <a:ext cx="5425920" cy="44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Header Placeholder 3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.01.09, press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ooter Placeholder 4"/>
          <p:cNvSpPr/>
          <p:nvPr/>
        </p:nvSpPr>
        <p:spPr>
          <a:xfrm>
            <a:off x="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uropeAid, Koos Riche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lide Number Placeholder 5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90090E8-4892-4AB2-B939-603982F20D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11160" y="746280"/>
            <a:ext cx="4964040" cy="37224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77880" y="4717800"/>
            <a:ext cx="5425920" cy="44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Header Placeholder 3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.01.09, press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ooter Placeholder 4"/>
          <p:cNvSpPr/>
          <p:nvPr/>
        </p:nvSpPr>
        <p:spPr>
          <a:xfrm>
            <a:off x="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uropeAid, Koos Riche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5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475A2B5-1123-4BDF-B98C-4150B913E1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11160" y="746280"/>
            <a:ext cx="4964040" cy="37224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77880" y="4717800"/>
            <a:ext cx="5425920" cy="44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Header Placeholder 3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.01.09, press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ooter Placeholder 4"/>
          <p:cNvSpPr/>
          <p:nvPr/>
        </p:nvSpPr>
        <p:spPr>
          <a:xfrm>
            <a:off x="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uropeAid, Koos Riche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lide Number Placeholder 5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A9C501B-6C85-495F-8997-78A16D8F68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911160" y="746280"/>
            <a:ext cx="4964040" cy="37224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77880" y="4717800"/>
            <a:ext cx="5425920" cy="44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Header Placeholder 3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.01.09, press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ooter Placeholder 4"/>
          <p:cNvSpPr/>
          <p:nvPr/>
        </p:nvSpPr>
        <p:spPr>
          <a:xfrm>
            <a:off x="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uropeAid, Koos Riche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lide Number Placeholder 5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763760F-840E-46F3-B5FB-ADB82CB39A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2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.01.09, press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6"/>
          <p:cNvSpPr/>
          <p:nvPr/>
        </p:nvSpPr>
        <p:spPr>
          <a:xfrm>
            <a:off x="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uropeAid, Koos Riche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8A2D53E-0012-43BB-8E1E-AF20B08872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79320" y="4717800"/>
            <a:ext cx="5423040" cy="44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11160" y="746280"/>
            <a:ext cx="4964040" cy="37224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77880" y="4717800"/>
            <a:ext cx="5425920" cy="44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Header Placeholder 3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.01.09, press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Footer Placeholder 4"/>
          <p:cNvSpPr/>
          <p:nvPr/>
        </p:nvSpPr>
        <p:spPr>
          <a:xfrm>
            <a:off x="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uropeAid, Koos Riche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lide Number Placeholder 5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FDD5236-F322-4875-BE61-CEE3651451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11160" y="746280"/>
            <a:ext cx="4964040" cy="37224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77880" y="4717800"/>
            <a:ext cx="5425920" cy="44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Header Placeholder 3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.01.09, press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ooter Placeholder 4"/>
          <p:cNvSpPr/>
          <p:nvPr/>
        </p:nvSpPr>
        <p:spPr>
          <a:xfrm>
            <a:off x="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uropeAid, Koos Riche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5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75AA4BB-7622-4B3D-A0F1-8AA8BC2801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911160" y="746280"/>
            <a:ext cx="4964040" cy="37224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77880" y="4717800"/>
            <a:ext cx="5425920" cy="44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Header Placeholder 3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.01.09, press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ooter Placeholder 4"/>
          <p:cNvSpPr/>
          <p:nvPr/>
        </p:nvSpPr>
        <p:spPr>
          <a:xfrm>
            <a:off x="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uropeAid, Koos Riche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lide Number Placeholder 5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CBBC0B8-F225-4D44-A765-9A6169E78C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11160" y="746280"/>
            <a:ext cx="4964040" cy="37224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77880" y="4717800"/>
            <a:ext cx="5425920" cy="44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Header Placeholder 3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.01.09, press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Footer Placeholder 4"/>
          <p:cNvSpPr/>
          <p:nvPr/>
        </p:nvSpPr>
        <p:spPr>
          <a:xfrm>
            <a:off x="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uropeAid, Koos Riche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5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6608F50-53AE-4AD2-989C-BF3ABFA044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11160" y="746280"/>
            <a:ext cx="4964040" cy="37224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77880" y="4717800"/>
            <a:ext cx="5425920" cy="44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Header Placeholder 3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.01.09, press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ooter Placeholder 4"/>
          <p:cNvSpPr/>
          <p:nvPr/>
        </p:nvSpPr>
        <p:spPr>
          <a:xfrm>
            <a:off x="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uropeAid, Koos Riche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lide Number Placeholder 5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4BF475C-0729-4FBB-A12A-939A3387D8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11160" y="746280"/>
            <a:ext cx="4964040" cy="37224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77880" y="4717800"/>
            <a:ext cx="5425920" cy="44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Header Placeholder 3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.01.09, press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ooter Placeholder 4"/>
          <p:cNvSpPr/>
          <p:nvPr/>
        </p:nvSpPr>
        <p:spPr>
          <a:xfrm>
            <a:off x="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uropeAid, Koos Riche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lide Number Placeholder 5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57477A4-62E3-4561-8A51-E82E7D83BC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2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.01.09, press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6"/>
          <p:cNvSpPr/>
          <p:nvPr/>
        </p:nvSpPr>
        <p:spPr>
          <a:xfrm>
            <a:off x="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uropeAid, Koos Riche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E759964-B1B1-4D45-BA43-000A90015E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911160" y="746280"/>
            <a:ext cx="4964040" cy="37224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77880" y="4717800"/>
            <a:ext cx="5425920" cy="44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911160" y="746280"/>
            <a:ext cx="4964040" cy="37224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77880" y="4717800"/>
            <a:ext cx="5425920" cy="44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Header Placeholder 3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.01.09, press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Footer Placeholder 4"/>
          <p:cNvSpPr/>
          <p:nvPr/>
        </p:nvSpPr>
        <p:spPr>
          <a:xfrm>
            <a:off x="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uropeAid, Koos Riche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5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2BC19D4-D4C7-4A9D-A445-F246E43E93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11160" y="746280"/>
            <a:ext cx="4964040" cy="3722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77880" y="4717800"/>
            <a:ext cx="5425920" cy="44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Header Placeholder 3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.01.09, press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Footer Placeholder 4"/>
          <p:cNvSpPr/>
          <p:nvPr/>
        </p:nvSpPr>
        <p:spPr>
          <a:xfrm>
            <a:off x="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uropeAid, Koos Riche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lide Number Placeholder 5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7346773-3585-4D00-B0D8-01B8C7296C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911160" y="746280"/>
            <a:ext cx="4964040" cy="37224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77880" y="4717800"/>
            <a:ext cx="5425920" cy="44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Header Placeholder 3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.01.09, press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Footer Placeholder 4"/>
          <p:cNvSpPr/>
          <p:nvPr/>
        </p:nvSpPr>
        <p:spPr>
          <a:xfrm>
            <a:off x="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uropeAid, Koos Riche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lide Number Placeholder 5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A591A19-3523-47B1-B8D4-52C362DDE2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11160" y="746280"/>
            <a:ext cx="4964040" cy="37224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77880" y="4717800"/>
            <a:ext cx="5425920" cy="44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Header Placeholder 3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.01.09, press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ooter Placeholder 4"/>
          <p:cNvSpPr/>
          <p:nvPr/>
        </p:nvSpPr>
        <p:spPr>
          <a:xfrm>
            <a:off x="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uropeAid, Koos Riche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5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0E59FE6-AB68-45D9-A811-D9AD628F1A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.01.09, press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uropeAid, Koos Riche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DD899A4-BBC1-45E4-BF57-497B63D8E8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12960" y="746280"/>
            <a:ext cx="4964040" cy="37224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77880" y="4717800"/>
            <a:ext cx="5425920" cy="44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11160" y="746280"/>
            <a:ext cx="4964040" cy="37224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77880" y="4717800"/>
            <a:ext cx="5425920" cy="44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Header Placeholder 3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.01.09, press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ooter Placeholder 4"/>
          <p:cNvSpPr/>
          <p:nvPr/>
        </p:nvSpPr>
        <p:spPr>
          <a:xfrm>
            <a:off x="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uropeAid, Koos Riche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5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348CE72-6ECC-4765-8789-68251E7C74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11160" y="746280"/>
            <a:ext cx="4964040" cy="37224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77880" y="4717800"/>
            <a:ext cx="5425920" cy="44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Header Placeholder 3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.01.09, press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ooter Placeholder 4"/>
          <p:cNvSpPr/>
          <p:nvPr/>
        </p:nvSpPr>
        <p:spPr>
          <a:xfrm>
            <a:off x="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uropeAid, Koos Riche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5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6C85BA9-128F-4CD3-A60E-889A07EFA1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11160" y="746280"/>
            <a:ext cx="4964040" cy="37224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77880" y="4717800"/>
            <a:ext cx="5425920" cy="44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Header Placeholder 3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.01.09, press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ooter Placeholder 4"/>
          <p:cNvSpPr/>
          <p:nvPr/>
        </p:nvSpPr>
        <p:spPr>
          <a:xfrm>
            <a:off x="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uropeAid, Koos Riche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lide Number Placeholder 5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4FC82CD-E665-40B5-9841-8DD6C2F237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.01.09, press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6"/>
          <p:cNvSpPr/>
          <p:nvPr/>
        </p:nvSpPr>
        <p:spPr>
          <a:xfrm>
            <a:off x="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uropeAid, Koos Riche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C34FB69-2616-444C-AFAA-E4B576C8B7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79320" y="4717800"/>
            <a:ext cx="5423040" cy="44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11160" y="746280"/>
            <a:ext cx="4964040" cy="3722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77880" y="4717800"/>
            <a:ext cx="5425920" cy="44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Header Placeholder 3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.01.09, press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ooter Placeholder 4"/>
          <p:cNvSpPr/>
          <p:nvPr/>
        </p:nvSpPr>
        <p:spPr>
          <a:xfrm>
            <a:off x="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uropeAid, Koos Riche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5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5F60DB4-590C-4980-B898-99BE28CB81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842B-4EE3-4BB6-BA56-4F98418C6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e6d25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4371-7762-464B-8B0F-374E7A5CB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e6d25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2AF1-6BB1-47DA-A1E8-0E697930F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e6d25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FFB5-A79D-4DAC-BC5B-9D8FD278B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57E1F-55B3-45B0-94F3-4B17DF47D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e6d25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A2AB2-2AC7-4140-9015-8C187AE24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e6d25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514A2-EEFA-4924-AD74-F675C3A4C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e6d25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DF58F-E3E3-4211-84B0-C1BDB3D60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e6d2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0A3DC-D9EC-4F83-B659-E296FC366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E0C7A-DC9C-457B-9B6A-18D7DF337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e6d25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831E7-090B-4CCB-977B-CC49BC9C1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e6d25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D1FD-5375-4ED3-AD9E-A27AC4630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e6d25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6D63B-6FE5-4CA4-A092-D970987C3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e6d25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B5762-AB2D-4519-9163-FF9D38648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e6d25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7FE08-48A8-4CC4-BD3E-9BAEE062B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e6d25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19EA7-A433-412B-8C4D-7AF74E6FC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e6d25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AE74E-DFE1-4236-9E99-79DC71BA9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e6d25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DADB-9CEE-4069-9009-C9AF0B852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e6d25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DD79-61F2-4DFF-B3A2-6B1EA8D3A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e6d2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8D42-155B-4D5D-BA99-E11435CE5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852C-C278-4EC3-B727-04FF6899A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e6d25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CB18-964A-44F4-B9EB-619E8B43B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e6d25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FD8E-8FBB-4820-83B0-BAC8F8285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e6d25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E207-FED8-48A5-A041-C90C7F138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e6d25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be6d25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9302D-AF51-4713-9DC6-2A46C9426934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6" name="Rectangle 8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be6d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be6d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be6d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"/>
          <p:cNvPicPr/>
          <p:nvPr/>
        </p:nvPicPr>
        <p:blipFill>
          <a:blip r:embed="rId2"/>
          <a:stretch/>
        </p:blipFill>
        <p:spPr>
          <a:xfrm>
            <a:off x="7257960" y="5397480"/>
            <a:ext cx="1067040" cy="1279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"/>
          <p:cNvPicPr/>
          <p:nvPr/>
        </p:nvPicPr>
        <p:blipFill>
          <a:blip r:embed="rId3"/>
          <a:stretch/>
        </p:blipFill>
        <p:spPr>
          <a:xfrm>
            <a:off x="7236000" y="5373720"/>
            <a:ext cx="1066680" cy="127944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9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50" name="Rectangle 10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Group 11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52" name="Rectangle 12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be6d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Rectangle 13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be6d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Rectangle 14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be6d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e6d25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be6d25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28436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75528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88435-58EB-44EC-BFA1-EF52C0B63AD7}" type="slidenum">
              <a:rPr b="0" lang="en-GB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soschildrensvillages.org.uk/imgs/content/children-at-Cochabamba-Bolivia.jpg&amp;imgrefurl=http://www.soschildrensvillages.org.uk/sponsor-a-child/americas-child-sponsorship/bolivia.htm&amp;h=335&amp;w=500&amp;sz=57&amp;hl=en&amp;start=20&amp;um=1&amp;tbnid=YDVXO2HVQYsWUM:&amp;tbnh=87&amp;tbnw=130&amp;prev=/images?q=bolivia&amp;svnum=10&amp;um=1&amp;hl=en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s.google.com/imgres?imgurl=http://www.directrelief.org/uploadedImages/Where_We_Work/Countries/Bolivia/Bolivia.JPG&amp;imgrefurl=http://www.directrelief.org/WorkArea/linkit.aspx?LinkIdentifier=id&amp;ItemID=1290&amp;h=327&amp;w=490&amp;sz=48&amp;hl=en&amp;start=74&amp;um=1&amp;tbnid=oskldzFL8NdHIM:&amp;tbnh=87&amp;tbnw=130&amp;prev=/images?q=bolivia&amp;start=60&amp;ndsp=20&amp;svnum=10&amp;um=1&amp;hl=en&amp;sa=N" TargetMode="External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slideLayout" Target="../slideLayouts/slideLayout13.xml"/><Relationship Id="rId1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799B7-B47D-423D-8622-4896391316AA}" type="slidenum">
              <a:rPr b="0" lang="en-GB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3933360"/>
            <a:ext cx="8134200" cy="25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ITUC Conference on “Development is Social Justice –Trade Unions for Decent Work”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13-14 October 2009</a:t>
            </a:r>
            <a:br>
              <a:rPr sz="2000"/>
            </a:br>
            <a:br>
              <a:rPr sz="1800"/>
            </a:b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Koos Richell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irector General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uropeAid Cooperation Offic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unö, Stockholm, 13 October 2009</a:t>
            </a:r>
            <a:endParaRPr b="1" lang="en-US" sz="2000" spc="-1" strike="noStrike">
              <a:solidFill>
                <a:srgbClr val="be6d25"/>
              </a:solidFill>
              <a:latin typeface="Verdana"/>
            </a:endParaRPr>
          </a:p>
        </p:txBody>
      </p:sp>
      <p:grpSp>
        <p:nvGrpSpPr>
          <p:cNvPr id="105" name="Group 3"/>
          <p:cNvGrpSpPr/>
          <p:nvPr/>
        </p:nvGrpSpPr>
        <p:grpSpPr>
          <a:xfrm>
            <a:off x="0" y="333360"/>
            <a:ext cx="9491760" cy="3241800"/>
            <a:chOff x="0" y="333360"/>
            <a:chExt cx="9491760" cy="3241800"/>
          </a:xfrm>
        </p:grpSpPr>
        <p:sp>
          <p:nvSpPr>
            <p:cNvPr id="106" name="Rectangle 4"/>
            <p:cNvSpPr/>
            <p:nvPr/>
          </p:nvSpPr>
          <p:spPr>
            <a:xfrm>
              <a:off x="347760" y="33336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7" name="Picture 5" descr="children-at-Cochabamba-Bolivia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476360" y="981000"/>
              <a:ext cx="2519280" cy="17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Picture 6" descr="Bolivia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5003640" y="2278080"/>
              <a:ext cx="1908360" cy="12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7" descr="interview360"/>
            <p:cNvPicPr/>
            <p:nvPr/>
          </p:nvPicPr>
          <p:blipFill>
            <a:blip r:embed="rId5"/>
            <a:stretch/>
          </p:blipFill>
          <p:spPr>
            <a:xfrm>
              <a:off x="0" y="981000"/>
              <a:ext cx="1692360" cy="169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8" descr="nica0009 - Nicaragua © 2004 EC/R. Canessa"/>
            <p:cNvPicPr/>
            <p:nvPr/>
          </p:nvPicPr>
          <p:blipFill>
            <a:blip r:embed="rId6"/>
            <a:stretch/>
          </p:blipFill>
          <p:spPr>
            <a:xfrm>
              <a:off x="5435640" y="981000"/>
              <a:ext cx="171432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icture 9" descr="taller"/>
            <p:cNvPicPr/>
            <p:nvPr/>
          </p:nvPicPr>
          <p:blipFill>
            <a:blip r:embed="rId7"/>
            <a:srcRect l="0" t="0" r="0" b="2544"/>
            <a:stretch/>
          </p:blipFill>
          <p:spPr>
            <a:xfrm>
              <a:off x="7093080" y="981000"/>
              <a:ext cx="1655640" cy="136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10" descr="guat0014b"/>
            <p:cNvPicPr/>
            <p:nvPr/>
          </p:nvPicPr>
          <p:blipFill>
            <a:blip r:embed="rId8"/>
            <a:stretch/>
          </p:blipFill>
          <p:spPr>
            <a:xfrm>
              <a:off x="6804000" y="2278080"/>
              <a:ext cx="1944720" cy="129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Picture 11" descr="Improving water and sanitation in the rural areas of Nicaragua"/>
            <p:cNvPicPr/>
            <p:nvPr/>
          </p:nvPicPr>
          <p:blipFill>
            <a:blip r:embed="rId9"/>
            <a:stretch/>
          </p:blipFill>
          <p:spPr>
            <a:xfrm>
              <a:off x="0" y="2278080"/>
              <a:ext cx="1944720" cy="127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Picture 12" descr="cro0026 - Improvement of cross-border points in Northern Dalmatia (Croatia) © EC/A.Zrno"/>
            <p:cNvPicPr/>
            <p:nvPr/>
          </p:nvPicPr>
          <p:blipFill>
            <a:blip r:embed="rId10"/>
            <a:stretch/>
          </p:blipFill>
          <p:spPr>
            <a:xfrm>
              <a:off x="3276720" y="2278080"/>
              <a:ext cx="1942920" cy="128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Picture 13" descr="girl-Lao"/>
            <p:cNvPicPr/>
            <p:nvPr/>
          </p:nvPicPr>
          <p:blipFill>
            <a:blip r:embed="rId11"/>
            <a:stretch/>
          </p:blipFill>
          <p:spPr>
            <a:xfrm>
              <a:off x="1692360" y="2278080"/>
              <a:ext cx="1942920" cy="12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Rectangle 14"/>
            <p:cNvSpPr/>
            <p:nvPr/>
          </p:nvSpPr>
          <p:spPr>
            <a:xfrm>
              <a:off x="0" y="3502080"/>
              <a:ext cx="8748720" cy="71280"/>
            </a:xfrm>
            <a:prstGeom prst="rect">
              <a:avLst/>
            </a:prstGeom>
            <a:solidFill>
              <a:srgbClr val="3366cc"/>
            </a:solidFill>
            <a:ln w="93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7" name="Picture 15" descr="eu-flag"/>
            <p:cNvPicPr/>
            <p:nvPr/>
          </p:nvPicPr>
          <p:blipFill>
            <a:blip r:embed="rId12"/>
            <a:stretch/>
          </p:blipFill>
          <p:spPr>
            <a:xfrm>
              <a:off x="3492360" y="981000"/>
              <a:ext cx="1944720" cy="13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Rectangle 16"/>
            <p:cNvSpPr/>
            <p:nvPr/>
          </p:nvSpPr>
          <p:spPr>
            <a:xfrm>
              <a:off x="0" y="981000"/>
              <a:ext cx="8748720" cy="71640"/>
            </a:xfrm>
            <a:prstGeom prst="rect">
              <a:avLst/>
            </a:prstGeom>
            <a:solidFill>
              <a:srgbClr val="3366cc"/>
            </a:solidFill>
            <a:ln w="93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72D63-F65C-4708-8FD5-8BD7BA7AD0D8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13744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cc6600"/>
                </a:solidFill>
                <a:latin typeface="Verdana"/>
              </a:rPr>
              <a:t>Distribution of funds by horizontal programme - 2008</a:t>
            </a:r>
            <a:endParaRPr b="1" lang="en-US" sz="2600" spc="-1" strike="noStrike">
              <a:solidFill>
                <a:srgbClr val="be6d25"/>
              </a:solidFill>
              <a:latin typeface="Verdana"/>
            </a:endParaRPr>
          </a:p>
        </p:txBody>
      </p:sp>
      <p:graphicFrame>
        <p:nvGraphicFramePr>
          <p:cNvPr id="172" name="Object 3"/>
          <p:cNvGraphicFramePr/>
          <p:nvPr/>
        </p:nvGraphicFramePr>
        <p:xfrm>
          <a:off x="0" y="1413000"/>
          <a:ext cx="9091440" cy="4895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13000"/>
                    <a:ext cx="9091440" cy="48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Rectangle 4"/>
          <p:cNvSpPr/>
          <p:nvPr/>
        </p:nvSpPr>
        <p:spPr>
          <a:xfrm>
            <a:off x="0" y="6395040"/>
            <a:ext cx="5724360" cy="459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matic programmes include: non-state actors &amp; local authorities, investing in people, gender, environment, migration and food secu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337E7-3BE6-4665-BD69-6731E14F1ED3}" type="slidenum">
              <a:rPr b="0" lang="en-GB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"/>
          <p:cNvSpPr/>
          <p:nvPr/>
        </p:nvSpPr>
        <p:spPr>
          <a:xfrm>
            <a:off x="395280" y="404640"/>
            <a:ext cx="446400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7000" spc="-1" strike="noStrike">
                <a:solidFill>
                  <a:srgbClr val="c0c0c0"/>
                </a:solidFill>
                <a:latin typeface="Verdana"/>
              </a:rPr>
              <a:t>3</a:t>
            </a:r>
            <a:endParaRPr b="0" lang="en-US" sz="3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4360" y="3284280"/>
            <a:ext cx="763272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85c00"/>
                </a:solidFill>
                <a:latin typeface="Verdana"/>
              </a:rPr>
              <a:t>More means than only aid…</a:t>
            </a: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C3D43-8B4E-4A93-A574-FE686EBDA351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0755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cc6600"/>
                </a:solidFill>
                <a:latin typeface="Verdana"/>
              </a:rPr>
              <a:t>Trade and remittances</a:t>
            </a:r>
            <a:endParaRPr b="1" lang="en-US" sz="2600" spc="-1" strike="noStrike">
              <a:solidFill>
                <a:srgbClr val="be6d25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lnSpc>
                <a:spcPct val="100000"/>
              </a:lnSpc>
              <a:spcAft>
                <a:spcPts val="1800"/>
              </a:spcAft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Verdana"/>
              </a:rPr>
              <a:t>EU’s import in 2008 from Developing Countries amounts to </a:t>
            </a:r>
            <a:r>
              <a:rPr b="1" lang="en-GB" sz="2200" spc="-1" strike="noStrike">
                <a:solidFill>
                  <a:srgbClr val="cc6600"/>
                </a:solidFill>
                <a:latin typeface="Verdana"/>
              </a:rPr>
              <a:t>€</a:t>
            </a:r>
            <a:r>
              <a:rPr b="1" lang="en-GB" sz="2400" spc="-1" strike="noStrike">
                <a:solidFill>
                  <a:srgbClr val="cc6600"/>
                </a:solidFill>
                <a:latin typeface="Verdana"/>
              </a:rPr>
              <a:t> 890 billion</a:t>
            </a:r>
            <a:r>
              <a:rPr b="0" lang="en-GB" sz="2400" spc="-1" strike="noStrike">
                <a:solidFill>
                  <a:srgbClr val="003366"/>
                </a:solidFill>
                <a:latin typeface="Verdana"/>
              </a:rPr>
              <a:t> and from Least Developed Countries to </a:t>
            </a:r>
            <a:r>
              <a:rPr b="1" lang="en-GB" sz="2200" spc="-1" strike="noStrike">
                <a:solidFill>
                  <a:srgbClr val="cc6600"/>
                </a:solidFill>
                <a:latin typeface="Verdana"/>
              </a:rPr>
              <a:t>€</a:t>
            </a:r>
            <a:r>
              <a:rPr b="1" lang="en-GB" sz="2400" spc="-1" strike="noStrike">
                <a:solidFill>
                  <a:srgbClr val="cc6600"/>
                </a:solidFill>
                <a:latin typeface="Verdana"/>
              </a:rPr>
              <a:t> 25 billion</a:t>
            </a:r>
            <a:r>
              <a:rPr b="0" lang="en-GB" sz="2400" spc="-1" strike="noStrike">
                <a:solidFill>
                  <a:srgbClr val="003366"/>
                </a:solidFill>
                <a:latin typeface="Verdana"/>
              </a:rPr>
              <a:t>;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57120" indent="-357120" algn="just">
              <a:lnSpc>
                <a:spcPct val="100000"/>
              </a:lnSpc>
              <a:spcAft>
                <a:spcPts val="1800"/>
              </a:spcAft>
              <a:buClr>
                <a:srgbClr val="cc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6600"/>
                </a:solidFill>
                <a:latin typeface="Verdana"/>
              </a:rPr>
              <a:t>Recorded remittances</a:t>
            </a:r>
            <a:r>
              <a:rPr b="0" lang="en-GB" sz="2400" spc="-1" strike="noStrike">
                <a:solidFill>
                  <a:srgbClr val="003366"/>
                </a:solidFill>
                <a:latin typeface="Verdana"/>
              </a:rPr>
              <a:t> of migrant labour force  amounted to </a:t>
            </a:r>
            <a:r>
              <a:rPr b="1" lang="en-GB" sz="2400" spc="-1" strike="noStrike">
                <a:solidFill>
                  <a:srgbClr val="cc6600"/>
                </a:solidFill>
                <a:latin typeface="Verdana"/>
              </a:rPr>
              <a:t>$380 billion</a:t>
            </a:r>
            <a:r>
              <a:rPr b="0" lang="en-GB" sz="2400" spc="-1" strike="noStrike">
                <a:solidFill>
                  <a:srgbClr val="003366"/>
                </a:solidFill>
                <a:latin typeface="Verdana"/>
              </a:rPr>
              <a:t> in 2008 worldwide;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57120" indent="0" algn="just">
              <a:lnSpc>
                <a:spcPct val="10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3366"/>
                </a:solidFill>
                <a:latin typeface="Verdana"/>
              </a:rPr>
              <a:t>Unrecorded remittances adds up additional 50% to recorded remittances </a:t>
            </a:r>
            <a:r>
              <a:rPr b="0" i="1" lang="en-GB" sz="2000" spc="-1" strike="noStrike">
                <a:solidFill>
                  <a:srgbClr val="003366"/>
                </a:solidFill>
                <a:latin typeface="Verdana"/>
              </a:rPr>
              <a:t>(WB source);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357120" indent="0" algn="just">
              <a:lnSpc>
                <a:spcPct val="10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3366"/>
                </a:solidFill>
                <a:latin typeface="Verdana"/>
              </a:rPr>
              <a:t>Home countries would benefit both from ‘Brain Gain’ and conversion of remittances into productive businesses;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57120" indent="0" algn="just">
              <a:lnSpc>
                <a:spcPct val="10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cc6600"/>
                </a:solidFill>
                <a:latin typeface="Verdana"/>
              </a:rPr>
              <a:t>EU trade policies for development</a:t>
            </a:r>
            <a:endParaRPr b="1" lang="en-US" sz="2600" spc="-1" strike="noStrike">
              <a:solidFill>
                <a:srgbClr val="be6d25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 algn="just">
              <a:lnSpc>
                <a:spcPct val="100000"/>
              </a:lnSpc>
              <a:spcAft>
                <a:spcPts val="1800"/>
              </a:spcAft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Verdana"/>
              </a:rPr>
              <a:t>EU’s </a:t>
            </a:r>
            <a:r>
              <a:rPr b="1" lang="en-GB" sz="2400" spc="-1" strike="noStrike">
                <a:solidFill>
                  <a:srgbClr val="cc6600"/>
                </a:solidFill>
                <a:latin typeface="Verdana"/>
              </a:rPr>
              <a:t>Aid for Trade Strategy</a:t>
            </a:r>
            <a:r>
              <a:rPr b="0" lang="en-GB" sz="2400" spc="-1" strike="noStrike">
                <a:solidFill>
                  <a:srgbClr val="003366"/>
                </a:solidFill>
                <a:latin typeface="Verdana"/>
              </a:rPr>
              <a:t> (2007) with a pro-poor focus of the assistance (€3,109 million/2007)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 algn="just">
              <a:lnSpc>
                <a:spcPct val="100000"/>
              </a:lnSpc>
              <a:spcAft>
                <a:spcPts val="1800"/>
              </a:spcAft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Verdana"/>
              </a:rPr>
              <a:t>‘</a:t>
            </a:r>
            <a:r>
              <a:rPr b="0" lang="en-GB" sz="2400" spc="-1" strike="noStrike">
                <a:solidFill>
                  <a:srgbClr val="003366"/>
                </a:solidFill>
                <a:latin typeface="Verdana"/>
              </a:rPr>
              <a:t>Classical’ </a:t>
            </a:r>
            <a:r>
              <a:rPr b="1" lang="en-GB" sz="2400" spc="-1" strike="noStrike">
                <a:solidFill>
                  <a:srgbClr val="cc6600"/>
                </a:solidFill>
                <a:latin typeface="Verdana"/>
              </a:rPr>
              <a:t>Trade Related Assistance</a:t>
            </a:r>
            <a:r>
              <a:rPr b="0" lang="en-GB" sz="2400" spc="-1" strike="noStrike">
                <a:solidFill>
                  <a:srgbClr val="003366"/>
                </a:solidFill>
                <a:latin typeface="Verdana"/>
              </a:rPr>
              <a:t> (€1,005 million / 2007)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 algn="just">
              <a:lnSpc>
                <a:spcPct val="100000"/>
              </a:lnSpc>
              <a:spcAft>
                <a:spcPts val="1800"/>
              </a:spcAft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Improve developing countries' integration into the world trading system with a comprehensive view to poverty reduction;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 algn="just">
              <a:lnSpc>
                <a:spcPct val="100000"/>
              </a:lnSpc>
              <a:spcAft>
                <a:spcPts val="1800"/>
              </a:spcAft>
              <a:buClr>
                <a:srgbClr val="cc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6600"/>
                </a:solidFill>
                <a:latin typeface="Verdana"/>
              </a:rPr>
              <a:t>Generalised System of Preferences (GSP)</a:t>
            </a: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 trade agreements, reduced tariffs (GSP+ is conditioned on adoption of core labour standards);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8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16E28-94A8-48C3-B3D6-E52C875F2D37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78856-EC74-4B99-9A93-DBEC2799224B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24000" y="1413000"/>
            <a:ext cx="8245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lnSpc>
                <a:spcPct val="100000"/>
              </a:lnSpc>
              <a:spcAft>
                <a:spcPts val="1500"/>
              </a:spcAft>
              <a:buClr>
                <a:srgbClr val="cc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6600"/>
                </a:solidFill>
                <a:latin typeface="Verdana"/>
              </a:rPr>
              <a:t>Governance in the European Consensus on Development</a:t>
            </a:r>
            <a:r>
              <a:rPr b="0" lang="en-GB" sz="2400" spc="-1" strike="noStrike">
                <a:solidFill>
                  <a:srgbClr val="003366"/>
                </a:solidFill>
                <a:latin typeface="Verdana"/>
              </a:rPr>
              <a:t>, EC Communication, 2006 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57120" indent="0" algn="just">
              <a:lnSpc>
                <a:spcPct val="10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3366"/>
                </a:solidFill>
                <a:latin typeface="Verdana"/>
              </a:rPr>
              <a:t>Governance is a priority in donors’ development policies and aid;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57120" indent="0" algn="just">
              <a:lnSpc>
                <a:spcPct val="10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3366"/>
                </a:solidFill>
                <a:latin typeface="Verdana"/>
              </a:rPr>
              <a:t>Capacity building to support democratisation processes, </a:t>
            </a:r>
            <a:r>
              <a:rPr b="0" lang="en-GB" sz="2400" spc="-1" strike="noStrike">
                <a:solidFill>
                  <a:srgbClr val="cc6600"/>
                </a:solidFill>
                <a:latin typeface="Verdana"/>
              </a:rPr>
              <a:t>accountability, transparency</a:t>
            </a:r>
            <a:r>
              <a:rPr b="0" lang="en-GB" sz="2400" spc="-1" strike="noStrike">
                <a:solidFill>
                  <a:srgbClr val="003366"/>
                </a:solidFill>
                <a:latin typeface="Verdana"/>
              </a:rPr>
              <a:t>, etc. in partner countries;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57120" indent="0" algn="just">
              <a:lnSpc>
                <a:spcPct val="10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3366"/>
                </a:solidFill>
                <a:latin typeface="Verdana"/>
              </a:rPr>
              <a:t>Enhancing </a:t>
            </a:r>
            <a:r>
              <a:rPr b="0" lang="en-GB" sz="2400" spc="-1" strike="noStrike">
                <a:solidFill>
                  <a:srgbClr val="cc6600"/>
                </a:solidFill>
                <a:latin typeface="Verdana"/>
              </a:rPr>
              <a:t>ownership and dialogue</a:t>
            </a:r>
            <a:r>
              <a:rPr b="0" lang="en-GB" sz="2400" spc="-1" strike="noStrike">
                <a:solidFill>
                  <a:srgbClr val="003366"/>
                </a:solidFill>
                <a:latin typeface="Verdana"/>
              </a:rPr>
              <a:t> with economic and social actors;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57120" indent="0" algn="just">
              <a:lnSpc>
                <a:spcPct val="10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324000" y="189000"/>
            <a:ext cx="785808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cc6600"/>
                </a:solidFill>
                <a:latin typeface="Verdana"/>
              </a:rPr>
              <a:t>Democratic &amp; Good Governance </a:t>
            </a:r>
            <a:endParaRPr b="1" lang="en-US" sz="2600" spc="-1" strike="noStrike">
              <a:solidFill>
                <a:srgbClr val="be6d25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e6d25"/>
                </a:solidFill>
                <a:latin typeface="Verdana"/>
              </a:rPr>
              <a:t>EU’s added value - protecting the vulnerable</a:t>
            </a:r>
            <a:endParaRPr b="1" lang="en-US" sz="2400" spc="-1" strike="noStrike">
              <a:solidFill>
                <a:srgbClr val="be6d25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43588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Increased need for greater attention in development cooperation towards the systems of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1" lang="en-GB" sz="2400" spc="-1" strike="noStrike">
                <a:solidFill>
                  <a:srgbClr val="cc6600"/>
                </a:solidFill>
                <a:latin typeface="Verdana"/>
              </a:rPr>
              <a:t>Solidarity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6600"/>
                </a:solidFill>
                <a:latin typeface="Verdana"/>
              </a:rPr>
              <a:t>	</a:t>
            </a:r>
            <a:r>
              <a:rPr b="1" lang="en-GB" sz="2400" spc="-1" strike="noStrike">
                <a:solidFill>
                  <a:srgbClr val="cc6600"/>
                </a:solidFill>
                <a:latin typeface="Verdana"/>
              </a:rPr>
              <a:t>Social protection &amp; safety nets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6600"/>
                </a:solidFill>
                <a:latin typeface="Verdana"/>
              </a:rPr>
              <a:t>	</a:t>
            </a:r>
            <a:r>
              <a:rPr b="1" lang="en-GB" sz="2400" spc="-1" strike="noStrike">
                <a:solidFill>
                  <a:srgbClr val="cc6600"/>
                </a:solidFill>
                <a:latin typeface="Verdana"/>
              </a:rPr>
              <a:t>Social dialogue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3c72"/>
                </a:solidFill>
                <a:latin typeface="Verdana"/>
              </a:rPr>
              <a:t>The EU has an added value and vast experience to give inspirations to our partners in these fields.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 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8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65822-CA87-4892-8795-A82DEC736505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e6d25"/>
                </a:solidFill>
                <a:latin typeface="Verdana"/>
              </a:rPr>
              <a:t>EC aid to promote decent work</a:t>
            </a:r>
            <a:endParaRPr b="1" lang="en-US" sz="2400" spc="-1" strike="noStrike">
              <a:solidFill>
                <a:srgbClr val="be6d25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cc6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6600"/>
                </a:solidFill>
                <a:latin typeface="Verdana"/>
              </a:rPr>
              <a:t>€ </a:t>
            </a:r>
            <a:r>
              <a:rPr b="1" lang="en-GB" sz="2400" spc="-1" strike="noStrike">
                <a:solidFill>
                  <a:srgbClr val="cc6600"/>
                </a:solidFill>
                <a:latin typeface="Verdana"/>
              </a:rPr>
              <a:t>1.9 billion support to DW related programmes</a:t>
            </a: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 over 1999-2010 via bilateral and thematic aid programmes; (Investing in People)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Support provided to the development and implementation of </a:t>
            </a:r>
            <a:r>
              <a:rPr b="1" lang="en-GB" sz="2400" spc="-1" strike="noStrike">
                <a:solidFill>
                  <a:srgbClr val="cc6600"/>
                </a:solidFill>
                <a:latin typeface="Verdana"/>
              </a:rPr>
              <a:t>home-grown sector-wide reforms</a:t>
            </a: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 in partner countries;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EC supported reforms cover social protection systems, safety nets, skills development /vocational training systems, employment services, etc.; 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36FC7-C7D8-4015-97DD-81D48971FB2D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9D071-0D9A-41A1-AE15-F483CC08AADA}" type="slidenum">
              <a:rPr b="0" lang="en-GB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"/>
          <p:cNvSpPr/>
          <p:nvPr/>
        </p:nvSpPr>
        <p:spPr>
          <a:xfrm>
            <a:off x="395280" y="404640"/>
            <a:ext cx="446400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7000" spc="-1" strike="noStrike">
                <a:solidFill>
                  <a:srgbClr val="c0c0c0"/>
                </a:solidFill>
                <a:latin typeface="Verdana"/>
              </a:rPr>
              <a:t>4</a:t>
            </a:r>
            <a:endParaRPr b="0" lang="en-US" sz="3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539640" y="3716280"/>
            <a:ext cx="8136000" cy="6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6600"/>
                </a:solidFill>
                <a:latin typeface="Verdana"/>
              </a:rPr>
              <a:t>Role of Civil Society &amp; Social Partners</a:t>
            </a: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6C5C1-724F-44E1-B79B-EB7DA8B5EEC0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250560" y="1844280"/>
            <a:ext cx="835164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6600"/>
                </a:solidFill>
                <a:latin typeface="Verdana"/>
              </a:rPr>
              <a:t>Accra Action Plan 2008</a:t>
            </a:r>
            <a:r>
              <a:rPr b="0" lang="en-GB" sz="2400" spc="-1" strike="noStrike">
                <a:solidFill>
                  <a:srgbClr val="003366"/>
                </a:solidFill>
                <a:latin typeface="Verdana"/>
              </a:rPr>
              <a:t> ► agenda extended to the civil society organisations (CSOs)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CSOs are invited to examine how they can contribute to the Aid Effectiveness, reflecting on their specific added-value in development cooperation;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Working towards an “enabling environment” for CSOs; 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394920" y="404640"/>
            <a:ext cx="77137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cc6600"/>
                </a:solidFill>
                <a:latin typeface="Verdana"/>
              </a:rPr>
              <a:t>Role of the CSOs</a:t>
            </a:r>
            <a:endParaRPr b="1" lang="en-US" sz="2600" spc="-1" strike="noStrike">
              <a:solidFill>
                <a:srgbClr val="be6d25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77868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cc6600"/>
                </a:solidFill>
                <a:latin typeface="Verdana"/>
              </a:rPr>
              <a:t>CSOs initiatives in the </a:t>
            </a:r>
            <a:r>
              <a:rPr b="0" lang="fr-FR" sz="2000" spc="-1" strike="noStrike">
                <a:solidFill>
                  <a:srgbClr val="cc6600"/>
                </a:solidFill>
                <a:latin typeface="Verdana"/>
              </a:rPr>
              <a:t>«</a:t>
            </a:r>
            <a:r>
              <a:rPr b="1" lang="en-GB" sz="2600" spc="-1" strike="noStrike">
                <a:solidFill>
                  <a:srgbClr val="cc6600"/>
                </a:solidFill>
                <a:latin typeface="Verdana"/>
              </a:rPr>
              <a:t>post-Accra</a:t>
            </a:r>
            <a:r>
              <a:rPr b="0" lang="fr-FR" sz="2000" spc="-1" strike="noStrike">
                <a:solidFill>
                  <a:srgbClr val="cc6600"/>
                </a:solidFill>
                <a:latin typeface="Verdana"/>
              </a:rPr>
              <a:t>»</a:t>
            </a:r>
            <a:endParaRPr b="1" lang="en-US" sz="2000" spc="-1" strike="noStrike">
              <a:solidFill>
                <a:srgbClr val="be6d25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3c72"/>
                </a:solidFill>
                <a:latin typeface="Verdana"/>
              </a:rPr>
              <a:t>Open Forum on CSO Development Effectiveness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  </a:t>
            </a: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International CSO-driven process to define a global development effectiveness framework applicable to civil society organisations.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spcAft>
                <a:spcPts val="1800"/>
              </a:spcAft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3c72"/>
                </a:solidFill>
                <a:latin typeface="Verdana"/>
              </a:rPr>
              <a:t>Better Aid: </a:t>
            </a: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International CSO-driven process to contribute to the effective implementation of the Paris Declaration and AAA: monitoring of donors, watchdog, etc.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3c72"/>
                </a:solidFill>
                <a:latin typeface="Verdana"/>
              </a:rPr>
              <a:t>Activities: </a:t>
            </a: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Organisation of national &amp; regional CSO consultations; </a:t>
            </a: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Global Assembly in 2010 and 2011 to finalise consensus building in view of the 4th High Level Forum (Seoul 2011).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0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55CFB-8ED2-48EA-A3E0-27CF3561889D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A5690-DB11-4642-AB27-DE1A012F404B}" type="slidenum">
              <a:rPr b="0" lang="en-GB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395280" y="404640"/>
            <a:ext cx="446400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7000" spc="-1" strike="noStrike">
                <a:solidFill>
                  <a:srgbClr val="c0c0c0"/>
                </a:solidFill>
                <a:latin typeface="Verdana"/>
              </a:rPr>
              <a:t>1</a:t>
            </a:r>
            <a:endParaRPr b="0" lang="en-US" sz="3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642600" y="3285720"/>
            <a:ext cx="708804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6600"/>
                </a:solidFill>
                <a:latin typeface="Verdana"/>
              </a:rPr>
              <a:t>The EU development aid context</a:t>
            </a: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e6d25"/>
                </a:solidFill>
                <a:latin typeface="Verdana"/>
              </a:rPr>
              <a:t>Social partners in development co-operation</a:t>
            </a:r>
            <a:endParaRPr b="1" lang="en-US" sz="2400" spc="-1" strike="noStrike">
              <a:solidFill>
                <a:srgbClr val="be6d25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 algn="just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Distinguished role of social partners in the Acquis Communitaire of the EU as part of democratic governance;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 algn="just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 algn="just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Social partners have strong influence on formulation of policy reforms; </a:t>
            </a:r>
            <a:r>
              <a:rPr b="0" i="1" lang="en-GB" sz="2000" spc="-1" strike="noStrike">
                <a:solidFill>
                  <a:srgbClr val="103c72"/>
                </a:solidFill>
                <a:latin typeface="Verdana"/>
              </a:rPr>
              <a:t>(see also Corporate Social Responsibility)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 algn="just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Representation, credibility and legitimacy of the social partners are essential for effective and efficient social dialogue and thus for the acceptability of policy reforms &amp; their implementation; 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0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0205E-0B9A-47E8-962C-CD55E3DAD6FD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e6d25"/>
                </a:solidFill>
                <a:latin typeface="Verdana"/>
              </a:rPr>
              <a:t>Social partners in development co-operation</a:t>
            </a:r>
            <a:endParaRPr b="1" lang="en-US" sz="2400" spc="-1" strike="noStrike">
              <a:solidFill>
                <a:srgbClr val="be6d25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EC development assistance in partner countries covers inter alia the following aspects: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Improved effectiveness of regulations, state administration, public finance systems and public services to promote decent work related measures;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Promote social dialogue in direct  and indirect manner (e.g. VET systems) and also within the frame of improved governance and rule of law;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Provision of capacity building to social partners;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Need for reinforcement of support and for increased demand from partner governments to support DW aspects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0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5CA20-57E2-478F-B65B-CD90C22F2EE0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BC126-B3EE-4BCA-B573-1328787BE203}" type="slidenum">
              <a:rPr b="0" lang="en-GB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"/>
          <p:cNvSpPr/>
          <p:nvPr/>
        </p:nvSpPr>
        <p:spPr>
          <a:xfrm>
            <a:off x="755640" y="333360"/>
            <a:ext cx="331164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7000" spc="-1" strike="noStrike">
                <a:solidFill>
                  <a:srgbClr val="c0c0c0"/>
                </a:solidFill>
                <a:latin typeface="Verdana"/>
              </a:rPr>
              <a:t>5</a:t>
            </a:r>
            <a:endParaRPr b="0" lang="en-US" sz="3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4000" y="3141360"/>
            <a:ext cx="708804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6600"/>
                </a:solidFill>
                <a:latin typeface="Verdana"/>
              </a:rPr>
              <a:t>Challenges &amp; Priorities for the EC</a:t>
            </a: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e6d25"/>
                </a:solidFill>
                <a:latin typeface="Verdana"/>
              </a:rPr>
              <a:t>Challenges &amp; Priorities</a:t>
            </a:r>
            <a:endParaRPr b="1" lang="en-US" sz="2400" spc="-1" strike="noStrike">
              <a:solidFill>
                <a:srgbClr val="be6d25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Challenges in the </a:t>
            </a:r>
            <a:r>
              <a:rPr b="1" lang="en-GB" sz="2400" spc="-1" strike="noStrike">
                <a:solidFill>
                  <a:srgbClr val="cc6600"/>
                </a:solidFill>
                <a:latin typeface="Verdana"/>
              </a:rPr>
              <a:t>DW context</a:t>
            </a: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Empowerment of social partners to be able to fulfil their roles in sector policy design;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Open up space for social and private sector actors/partners to participate in sector reform dialogues;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EC supported Sector Programmes in partner countries to be considered as an entry points for developing social dialogue;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866EB-C7EB-4ACE-A274-1199B1B32D4F}" type="slidenum">
              <a:rPr b="0" lang="en-GB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72E39-0530-4D6D-84F8-0C59408A57F1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440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e6d25"/>
                </a:solidFill>
                <a:latin typeface="Verdana"/>
              </a:rPr>
              <a:t>Challenges &amp; Priorities</a:t>
            </a:r>
            <a:endParaRPr b="1" lang="en-US" sz="2400" spc="-1" strike="noStrike">
              <a:solidFill>
                <a:srgbClr val="be6d25"/>
              </a:solidFill>
              <a:latin typeface="Verdana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611280" y="6165720"/>
            <a:ext cx="180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360" indent="0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85c00"/>
                </a:solidFill>
                <a:latin typeface="Verdana"/>
              </a:rPr>
              <a:t>Aid effectiveness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60360" indent="0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60360" indent="0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Deliver on the Accra Agenda for Action: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60360" indent="-360360">
              <a:lnSpc>
                <a:spcPts val="2798"/>
              </a:lnSpc>
              <a:buClr>
                <a:srgbClr val="b85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85c00"/>
                </a:solidFill>
                <a:latin typeface="Verdana"/>
              </a:rPr>
              <a:t>use country systems</a:t>
            </a:r>
            <a:r>
              <a:rPr b="1" lang="en-GB" sz="2400" spc="-1" strike="noStrike">
                <a:solidFill>
                  <a:srgbClr val="103c72"/>
                </a:solidFill>
                <a:latin typeface="Verdana"/>
              </a:rPr>
              <a:t>:</a:t>
            </a: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 channel 50% of aid to 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6036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public sector through country system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60360" indent="0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60360" indent="-360360">
              <a:lnSpc>
                <a:spcPts val="2299"/>
              </a:lnSpc>
              <a:buClr>
                <a:srgbClr val="b85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85c00"/>
                </a:solidFill>
                <a:latin typeface="Verdana"/>
              </a:rPr>
              <a:t>in-country division of labour</a:t>
            </a: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: implement now 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60360" indent="0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60360" indent="-360360">
              <a:lnSpc>
                <a:spcPts val="2299"/>
              </a:lnSpc>
              <a:buClr>
                <a:srgbClr val="b85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85c00"/>
                </a:solidFill>
                <a:latin typeface="Verdana"/>
              </a:rPr>
              <a:t>untying aid</a:t>
            </a: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: elaborate plans to further untie aid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60360" indent="0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60360" indent="-360360">
              <a:lnSpc>
                <a:spcPts val="2299"/>
              </a:lnSpc>
              <a:buClr>
                <a:srgbClr val="b85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85c00"/>
                </a:solidFill>
                <a:latin typeface="Verdana"/>
              </a:rPr>
              <a:t>conditionality</a:t>
            </a: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:</a:t>
            </a:r>
            <a:r>
              <a:rPr b="1" lang="en-GB" sz="2400" spc="-1" strike="noStrike">
                <a:solidFill>
                  <a:srgbClr val="103c72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agree conditions based on 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60360" indent="0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national development strategies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60360" indent="0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60360" indent="-360360">
              <a:lnSpc>
                <a:spcPts val="2299"/>
              </a:lnSpc>
              <a:buClr>
                <a:srgbClr val="b85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85c00"/>
                </a:solidFill>
                <a:latin typeface="Verdana"/>
              </a:rPr>
              <a:t>predictability</a:t>
            </a: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: 3-5 yr forward info on expenditure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60360" indent="0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60360" indent="-360360">
              <a:lnSpc>
                <a:spcPts val="2299"/>
              </a:lnSpc>
              <a:buClr>
                <a:srgbClr val="b85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85c00"/>
                </a:solidFill>
                <a:latin typeface="Verdana"/>
              </a:rPr>
              <a:t>transparency</a:t>
            </a: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: regular public disclosure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e6d25"/>
                </a:solidFill>
                <a:latin typeface="Verdana"/>
              </a:rPr>
              <a:t>Challenges &amp; Priorities</a:t>
            </a:r>
            <a:endParaRPr b="1" lang="en-US" sz="2400" spc="-1" strike="noStrike">
              <a:solidFill>
                <a:srgbClr val="be6d25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Better orientation towards </a:t>
            </a:r>
            <a:r>
              <a:rPr b="1" lang="en-GB" sz="2400" spc="-1" strike="noStrike">
                <a:solidFill>
                  <a:srgbClr val="b85c00"/>
                </a:solidFill>
                <a:latin typeface="Verdana"/>
              </a:rPr>
              <a:t>results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Positioning of development cooperation towards the new </a:t>
            </a:r>
            <a:r>
              <a:rPr b="1" lang="en-GB" sz="2400" spc="-1" strike="noStrike">
                <a:solidFill>
                  <a:srgbClr val="b85c00"/>
                </a:solidFill>
                <a:latin typeface="Verdana"/>
              </a:rPr>
              <a:t>External Action Service</a:t>
            </a: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 (EAS)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b85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85c00"/>
                </a:solidFill>
                <a:latin typeface="Verdana"/>
              </a:rPr>
              <a:t>EU Budget revision</a:t>
            </a: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 2014 – 2020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Define position towards </a:t>
            </a:r>
            <a:r>
              <a:rPr b="1" lang="en-GB" sz="2400" spc="-1" strike="noStrike">
                <a:solidFill>
                  <a:srgbClr val="b85c00"/>
                </a:solidFill>
                <a:latin typeface="Verdana"/>
              </a:rPr>
              <a:t>Middle Income Countries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BBAE1-3EFF-4FD9-B283-18CE1D4D5155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e6d25"/>
                </a:solidFill>
                <a:latin typeface="Verdana"/>
              </a:rPr>
              <a:t>Challenges &amp; Priorities</a:t>
            </a:r>
            <a:endParaRPr b="1" lang="en-US" sz="2400" spc="-1" strike="noStrike">
              <a:solidFill>
                <a:srgbClr val="be6d25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b85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85c00"/>
                </a:solidFill>
                <a:latin typeface="Verdana"/>
              </a:rPr>
              <a:t>Policy Coherence</a:t>
            </a: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: need for coherence at EC level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Contribution to </a:t>
            </a:r>
            <a:r>
              <a:rPr b="1" lang="en-GB" sz="2400" spc="-1" strike="noStrike">
                <a:solidFill>
                  <a:srgbClr val="b85c00"/>
                </a:solidFill>
                <a:latin typeface="Verdana"/>
              </a:rPr>
              <a:t>Climate Change agenda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Observe status of </a:t>
            </a:r>
            <a:r>
              <a:rPr b="1" lang="en-GB" sz="2400" spc="-1" strike="noStrike">
                <a:solidFill>
                  <a:srgbClr val="b85c00"/>
                </a:solidFill>
                <a:latin typeface="Verdana"/>
              </a:rPr>
              <a:t>0.7% </a:t>
            </a: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contributions by MS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Overview the </a:t>
            </a:r>
            <a:r>
              <a:rPr b="1" lang="en-GB" sz="2400" spc="-1" strike="noStrike">
                <a:solidFill>
                  <a:srgbClr val="b85c00"/>
                </a:solidFill>
                <a:latin typeface="Verdana"/>
              </a:rPr>
              <a:t>implementation of EU policies on 2015 MDGs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Relevance of </a:t>
            </a:r>
            <a:r>
              <a:rPr b="1" lang="en-GB" sz="2400" spc="-1" strike="noStrike">
                <a:solidFill>
                  <a:srgbClr val="b85c00"/>
                </a:solidFill>
                <a:latin typeface="Verdana"/>
              </a:rPr>
              <a:t>ODA concept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B3D51-C4C8-4561-8BC4-C543D009A0D4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103c72"/>
                </a:solidFill>
                <a:latin typeface="Verdana"/>
              </a:rPr>
              <a:t>THANK YOU!</a:t>
            </a:r>
            <a:endParaRPr b="0" lang="en-US" sz="3200" spc="-1" strike="noStrike">
              <a:solidFill>
                <a:srgbClr val="103c72"/>
              </a:solidFill>
              <a:latin typeface="Verdana"/>
            </a:endParaRPr>
          </a:p>
          <a:p>
            <a:pPr marL="181080"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3c72"/>
              </a:solidFill>
              <a:latin typeface="Verdana"/>
            </a:endParaRPr>
          </a:p>
          <a:p>
            <a:pPr marL="181080"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3c72"/>
              </a:solidFill>
              <a:latin typeface="Verdana"/>
            </a:endParaRPr>
          </a:p>
        </p:txBody>
      </p:sp>
      <p:pic>
        <p:nvPicPr>
          <p:cNvPr id="225" name="Picture 4" descr="50-p-012531-00-23h"/>
          <p:cNvPicPr/>
          <p:nvPr/>
        </p:nvPicPr>
        <p:blipFill>
          <a:blip r:embed="rId1"/>
          <a:stretch/>
        </p:blipFill>
        <p:spPr>
          <a:xfrm>
            <a:off x="3132000" y="4508640"/>
            <a:ext cx="2664000" cy="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52E00-E707-4B61-945E-64D573724C59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77868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6600"/>
                </a:solidFill>
                <a:latin typeface="Verdana"/>
              </a:rPr>
              <a:t>EC response: the policy framework</a:t>
            </a:r>
            <a:endParaRPr b="1" lang="en-US" sz="2400" spc="-1" strike="noStrike">
              <a:solidFill>
                <a:srgbClr val="be6d25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5694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100000"/>
              </a:lnSpc>
              <a:spcAft>
                <a:spcPts val="337"/>
              </a:spcAft>
              <a:buNone/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103c72"/>
              </a:solidFill>
              <a:latin typeface="Verdana"/>
            </a:endParaRPr>
          </a:p>
          <a:p>
            <a:pPr marL="380880" indent="-38088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Times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2000</a:t>
            </a: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 UN </a:t>
            </a:r>
            <a:r>
              <a:rPr b="1" lang="en-GB" sz="2400" spc="-1" strike="noStrike">
                <a:solidFill>
                  <a:srgbClr val="b85c00"/>
                </a:solidFill>
                <a:latin typeface="Verdana"/>
              </a:rPr>
              <a:t>8</a:t>
            </a: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cc6600"/>
                </a:solidFill>
                <a:latin typeface="Verdana"/>
              </a:rPr>
              <a:t>Millennium Development Goals</a:t>
            </a: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, fixing poverty reduction objectives for 2015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80880" indent="-38088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Times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2005</a:t>
            </a: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 OECD </a:t>
            </a:r>
            <a:r>
              <a:rPr b="1" lang="en-GB" sz="2400" spc="-1" strike="noStrike">
                <a:solidFill>
                  <a:srgbClr val="cc6600"/>
                </a:solidFill>
                <a:latin typeface="Verdana"/>
              </a:rPr>
              <a:t>Paris Declaration</a:t>
            </a: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, 60 recipients and 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80880" indent="0">
              <a:lnSpc>
                <a:spcPct val="100000"/>
              </a:lnSpc>
              <a:spcAft>
                <a:spcPts val="901"/>
              </a:spcAft>
              <a:buNone/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50 donors on </a:t>
            </a:r>
            <a:r>
              <a:rPr b="1" lang="en-GB" sz="2400" spc="-1" strike="noStrike">
                <a:solidFill>
                  <a:srgbClr val="b85c00"/>
                </a:solidFill>
                <a:latin typeface="Verdana"/>
              </a:rPr>
              <a:t>aid effectiveness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80880" indent="-38088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Times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2005</a:t>
            </a: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cc6600"/>
                </a:solidFill>
                <a:latin typeface="Verdana"/>
              </a:rPr>
              <a:t>European Consensus</a:t>
            </a: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, the EU development policy, tying Member States and Commission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80880" indent="-38088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Times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2007</a:t>
            </a: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 EU Code on </a:t>
            </a:r>
            <a:r>
              <a:rPr b="1" lang="en-GB" sz="2400" spc="-1" strike="noStrike">
                <a:solidFill>
                  <a:srgbClr val="b85c00"/>
                </a:solidFill>
                <a:latin typeface="Verdana"/>
              </a:rPr>
              <a:t>Division of Labour</a:t>
            </a: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80880" indent="-38088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Times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2008</a:t>
            </a: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b85c00"/>
                </a:solidFill>
                <a:latin typeface="Verdana"/>
              </a:rPr>
              <a:t>Accra High Level Forum</a:t>
            </a: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 on aid effectiveness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80880" indent="-38088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Times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2008</a:t>
            </a: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b85c00"/>
                </a:solidFill>
                <a:latin typeface="Verdana"/>
              </a:rPr>
              <a:t>Doha Conference</a:t>
            </a: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 on financing for development.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21C2E-B1CD-471D-BBD8-FFD164B57767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77868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82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85c00"/>
                </a:solidFill>
                <a:latin typeface="Verdana"/>
              </a:rPr>
              <a:t>EU &amp; EC aid implementation</a:t>
            </a:r>
            <a:endParaRPr b="1" lang="en-US" sz="2400" spc="-1" strike="noStrike">
              <a:solidFill>
                <a:srgbClr val="be6d25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3640" y="1628280"/>
            <a:ext cx="7993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U the largest donor in the world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80880" indent="-380880">
              <a:lnSpc>
                <a:spcPct val="100000"/>
              </a:lnSpc>
              <a:spcAft>
                <a:spcPts val="601"/>
              </a:spcAft>
              <a:buClr>
                <a:srgbClr val="003366"/>
              </a:buClr>
              <a:buFont typeface="Times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Verdana"/>
              </a:rPr>
              <a:t>27 + 1 donors together responsible for </a:t>
            </a:r>
            <a:r>
              <a:rPr b="1" lang="en-GB" sz="2400" spc="-1" strike="noStrike">
                <a:solidFill>
                  <a:srgbClr val="b85c00"/>
                </a:solidFill>
                <a:latin typeface="Verdana"/>
              </a:rPr>
              <a:t>60%</a:t>
            </a:r>
            <a:r>
              <a:rPr b="1" lang="en-GB" sz="2400" spc="-1" strike="noStrike">
                <a:solidFill>
                  <a:srgbClr val="cc6600"/>
                </a:solidFill>
                <a:latin typeface="Verdana"/>
              </a:rPr>
              <a:t> of </a:t>
            </a:r>
            <a:r>
              <a:rPr b="1" lang="en-GB" sz="2400" spc="-1" strike="noStrike">
                <a:solidFill>
                  <a:srgbClr val="b85c00"/>
                </a:solidFill>
                <a:latin typeface="Verdana"/>
              </a:rPr>
              <a:t>all development aid</a:t>
            </a:r>
            <a:r>
              <a:rPr b="0" lang="en-GB" sz="2400" spc="-1" strike="noStrike">
                <a:solidFill>
                  <a:srgbClr val="003366"/>
                </a:solidFill>
                <a:latin typeface="Verdana"/>
              </a:rPr>
              <a:t> (2008: 48,6 billion)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80880" indent="-380880">
              <a:lnSpc>
                <a:spcPct val="100000"/>
              </a:lnSpc>
              <a:spcAft>
                <a:spcPts val="601"/>
              </a:spcAft>
              <a:buClr>
                <a:srgbClr val="003366"/>
              </a:buClr>
              <a:buFont typeface="Times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Verdana"/>
              </a:rPr>
              <a:t>USA provides 22%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80880"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80880"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uropean Commission on its own: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80880" indent="-380880">
              <a:lnSpc>
                <a:spcPct val="100000"/>
              </a:lnSpc>
              <a:spcAft>
                <a:spcPts val="601"/>
              </a:spcAft>
              <a:buClr>
                <a:srgbClr val="b85c00"/>
              </a:buClr>
              <a:buFont typeface="Times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85c00"/>
                </a:solidFill>
                <a:latin typeface="Verdana"/>
              </a:rPr>
              <a:t>Second largest</a:t>
            </a: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 donor of </a:t>
            </a:r>
            <a:r>
              <a:rPr b="0" lang="en-GB" sz="2400" spc="-1" strike="noStrike">
                <a:solidFill>
                  <a:srgbClr val="003366"/>
                </a:solidFill>
                <a:latin typeface="Verdana"/>
              </a:rPr>
              <a:t>humanitarian aid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80880" indent="-380880">
              <a:lnSpc>
                <a:spcPct val="100000"/>
              </a:lnSpc>
              <a:spcAft>
                <a:spcPts val="601"/>
              </a:spcAft>
              <a:buClr>
                <a:srgbClr val="b85c00"/>
              </a:buClr>
              <a:buFont typeface="Times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85c00"/>
                </a:solidFill>
                <a:latin typeface="Verdana"/>
              </a:rPr>
              <a:t>Third largest donor</a:t>
            </a: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 of </a:t>
            </a:r>
            <a:r>
              <a:rPr b="0" lang="en-GB" sz="2400" spc="-1" strike="noStrike">
                <a:solidFill>
                  <a:srgbClr val="003366"/>
                </a:solidFill>
                <a:latin typeface="Verdana"/>
              </a:rPr>
              <a:t>development aid</a:t>
            </a: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 (11%, after USA and Germany)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80880" indent="-380880">
              <a:lnSpc>
                <a:spcPct val="100000"/>
              </a:lnSpc>
              <a:spcAft>
                <a:spcPts val="601"/>
              </a:spcAft>
              <a:buClr>
                <a:srgbClr val="103c72"/>
              </a:buClr>
              <a:buFont typeface="Times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Present in aprox. </a:t>
            </a:r>
            <a:r>
              <a:rPr b="1" lang="en-GB" sz="2400" spc="-1" strike="noStrike">
                <a:solidFill>
                  <a:srgbClr val="b85c00"/>
                </a:solidFill>
                <a:latin typeface="Verdana"/>
              </a:rPr>
              <a:t>140 countries</a:t>
            </a: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727560" y="6256440"/>
            <a:ext cx="344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Based on OECD/DAC preliminary figures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458F5-6237-40DD-8667-1FF1BF477BEA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7868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85c00"/>
                </a:solidFill>
                <a:latin typeface="Verdana"/>
              </a:rPr>
              <a:t>The EC and the external aid budget 2008</a:t>
            </a:r>
            <a:endParaRPr b="1" lang="en-US" sz="2400" spc="-1" strike="noStrike">
              <a:solidFill>
                <a:srgbClr val="be6d25"/>
              </a:solidFill>
              <a:latin typeface="Verdana"/>
            </a:endParaRPr>
          </a:p>
        </p:txBody>
      </p:sp>
      <p:graphicFrame>
        <p:nvGraphicFramePr>
          <p:cNvPr id="131" name="Object 3"/>
          <p:cNvGraphicFramePr/>
          <p:nvPr/>
        </p:nvGraphicFramePr>
        <p:xfrm>
          <a:off x="468360" y="1628640"/>
          <a:ext cx="4038480" cy="427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628640"/>
                    <a:ext cx="4038480" cy="42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Object 4"/>
          <p:cNvGraphicFramePr/>
          <p:nvPr/>
        </p:nvGraphicFramePr>
        <p:xfrm>
          <a:off x="4648320" y="1600200"/>
          <a:ext cx="4038480" cy="4276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600200"/>
                    <a:ext cx="4038480" cy="42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5"/>
          <p:cNvSpPr/>
          <p:nvPr/>
        </p:nvSpPr>
        <p:spPr>
          <a:xfrm>
            <a:off x="684360" y="4365720"/>
            <a:ext cx="41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Commission budget inside EU: €124 bn (9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324000" y="220500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External aid: €12.8 bn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(9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7"/>
          <p:cNvSpPr/>
          <p:nvPr/>
        </p:nvSpPr>
        <p:spPr>
          <a:xfrm>
            <a:off x="3708360" y="2276640"/>
            <a:ext cx="1368360" cy="215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6659640" y="2565360"/>
            <a:ext cx="208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EuropeAid EDF fund:  €4.8 bn (37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5219640" y="443700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EuropeAid Budget: €4.6 bn (37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4284720" y="2637000"/>
            <a:ext cx="237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Non-EuropeAid Budget: €3.3 bn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(26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1"/>
          <p:cNvSpPr/>
          <p:nvPr/>
        </p:nvSpPr>
        <p:spPr>
          <a:xfrm>
            <a:off x="468360" y="1773360"/>
            <a:ext cx="3024000" cy="15112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2"/>
          <p:cNvSpPr/>
          <p:nvPr/>
        </p:nvSpPr>
        <p:spPr>
          <a:xfrm>
            <a:off x="324000" y="5805360"/>
            <a:ext cx="8064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EuropeAid implements external assistance. This excludes pre-accession aid, humanitarian aid, and Common Foreign and Security Policy (CFSP) aid. EC total budget includes European Development Fund (EDF).  </a:t>
            </a:r>
            <a:r>
              <a:rPr b="0" i="1" lang="en-GB" sz="1400" spc="-1" strike="noStrike">
                <a:solidFill>
                  <a:srgbClr val="000000"/>
                </a:solidFill>
                <a:latin typeface="Verdana"/>
              </a:rPr>
              <a:t>NB – 2008 provisional figures (April 0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CF6D5-AB7C-4628-A905-548F8A5659AA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86800" cy="135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85c00"/>
                </a:solidFill>
                <a:latin typeface="Verdana"/>
              </a:rPr>
              <a:t>Official Development Assistance</a:t>
            </a:r>
            <a:br>
              <a:rPr sz="2400"/>
            </a:br>
            <a:r>
              <a:rPr b="1" lang="en-GB" sz="2400" spc="-1" strike="noStrike">
                <a:solidFill>
                  <a:srgbClr val="b85c00"/>
                </a:solidFill>
                <a:latin typeface="Verdana"/>
              </a:rPr>
              <a:t> Percentage of Gross National Income: actual</a:t>
            </a:r>
            <a:r>
              <a:rPr b="1" lang="en-GB" sz="2400" spc="-1" strike="noStrike">
                <a:solidFill>
                  <a:srgbClr val="cc6600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2008</a:t>
            </a:r>
            <a:r>
              <a:rPr b="1" lang="en-GB" sz="2400" spc="-1" strike="noStrike">
                <a:solidFill>
                  <a:srgbClr val="cc6600"/>
                </a:solidFill>
                <a:latin typeface="Verdana"/>
              </a:rPr>
              <a:t>, </a:t>
            </a:r>
            <a:r>
              <a:rPr b="1" lang="en-GB" sz="2400" spc="-1" strike="noStrike">
                <a:solidFill>
                  <a:srgbClr val="b85c00"/>
                </a:solidFill>
                <a:latin typeface="Verdana"/>
              </a:rPr>
              <a:t>forecast</a:t>
            </a:r>
            <a:r>
              <a:rPr b="1" lang="en-GB" sz="2400" spc="-1" strike="noStrike">
                <a:solidFill>
                  <a:srgbClr val="cc6600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2010</a:t>
            </a:r>
            <a:r>
              <a:rPr b="1" lang="en-GB" sz="2400" spc="-1" strike="noStrike">
                <a:solidFill>
                  <a:srgbClr val="b85c00"/>
                </a:solidFill>
                <a:latin typeface="Verdana"/>
              </a:rPr>
              <a:t>,</a:t>
            </a:r>
            <a:r>
              <a:rPr b="1" lang="en-GB" sz="2400" spc="-1" strike="noStrike">
                <a:solidFill>
                  <a:srgbClr val="cc6600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b85c00"/>
                </a:solidFill>
                <a:latin typeface="Verdana"/>
              </a:rPr>
              <a:t>objective</a:t>
            </a:r>
            <a:r>
              <a:rPr b="1" lang="en-GB" sz="2400" spc="-1" strike="noStrike">
                <a:solidFill>
                  <a:srgbClr val="cc6600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2015</a:t>
            </a:r>
            <a:endParaRPr b="1" lang="en-US" sz="2400" spc="-1" strike="noStrike">
              <a:solidFill>
                <a:srgbClr val="be6d25"/>
              </a:solidFill>
              <a:latin typeface="Verdana"/>
            </a:endParaRPr>
          </a:p>
        </p:txBody>
      </p:sp>
      <p:graphicFrame>
        <p:nvGraphicFramePr>
          <p:cNvPr id="145" name="Object 3"/>
          <p:cNvGraphicFramePr/>
          <p:nvPr/>
        </p:nvGraphicFramePr>
        <p:xfrm>
          <a:off x="395280" y="1557360"/>
          <a:ext cx="7848720" cy="530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557360"/>
                    <a:ext cx="7848720" cy="53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Line 4"/>
          <p:cNvSpPr/>
          <p:nvPr/>
        </p:nvSpPr>
        <p:spPr>
          <a:xfrm>
            <a:off x="1187280" y="2637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5"/>
          <p:cNvSpPr/>
          <p:nvPr/>
        </p:nvSpPr>
        <p:spPr>
          <a:xfrm flipV="1">
            <a:off x="1116000" y="2636640"/>
            <a:ext cx="3949560" cy="69840"/>
          </a:xfrm>
          <a:custGeom>
            <a:avLst/>
            <a:gdLst>
              <a:gd name="textAreaLeft" fmla="*/ 0 w 3949560"/>
              <a:gd name="textAreaRight" fmla="*/ 3949920 w 3949560"/>
              <a:gd name="textAreaTop" fmla="*/ 360 h 69840"/>
              <a:gd name="textAreaBottom" fmla="*/ 70560 h 69840"/>
            </a:gdLst>
            <a:ahLst/>
            <a:rect l="textAreaLeft" t="textAreaTop" r="textAreaRight" b="textAreaBottom"/>
            <a:pathLst>
              <a:path w="2632" h="1">
                <a:moveTo>
                  <a:pt x="0" y="0"/>
                </a:moveTo>
                <a:lnTo>
                  <a:pt x="263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6"/>
          <p:cNvSpPr/>
          <p:nvPr/>
        </p:nvSpPr>
        <p:spPr>
          <a:xfrm>
            <a:off x="5292720" y="3789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7"/>
          <p:cNvSpPr/>
          <p:nvPr/>
        </p:nvSpPr>
        <p:spPr>
          <a:xfrm>
            <a:off x="5076720" y="3789360"/>
            <a:ext cx="2951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5307120" y="2625840"/>
            <a:ext cx="1425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4932360" y="2565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539640" y="6237360"/>
            <a:ext cx="784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Source: OECD DAC where available. EC data base on MS information to the EC or the DAC for 2008.  EU DAC Average: 0.42% in 2008 compared with 0.38% in 2007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1"/>
          <p:cNvSpPr/>
          <p:nvPr/>
        </p:nvSpPr>
        <p:spPr>
          <a:xfrm>
            <a:off x="5076720" y="2708280"/>
            <a:ext cx="0" cy="1081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6E2DE-A67B-4919-9542-988C22C4CC06}" type="slidenum">
              <a:rPr b="0" lang="en-GB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"/>
          <p:cNvSpPr/>
          <p:nvPr/>
        </p:nvSpPr>
        <p:spPr>
          <a:xfrm>
            <a:off x="395280" y="404640"/>
            <a:ext cx="446400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7000" spc="-1" strike="noStrike">
                <a:solidFill>
                  <a:srgbClr val="c0c0c0"/>
                </a:solidFill>
                <a:latin typeface="Verdana"/>
              </a:rPr>
              <a:t>2</a:t>
            </a:r>
            <a:endParaRPr b="0" lang="en-US" sz="3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684000" y="3284280"/>
            <a:ext cx="708804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6600"/>
                </a:solidFill>
                <a:latin typeface="Verdana"/>
              </a:rPr>
              <a:t>Towards delivering more &amp; better  aid</a:t>
            </a: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F5A38-574A-49F4-AF1C-9B61A1662600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06472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cc6600"/>
                </a:solidFill>
                <a:latin typeface="Verdana"/>
              </a:rPr>
              <a:t>Paid out in 2008: €7 billion</a:t>
            </a:r>
            <a:br>
              <a:rPr sz="2600"/>
            </a:b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Record year for project implementation</a:t>
            </a:r>
            <a:r>
              <a:rPr b="1" lang="en-GB" sz="2600" spc="-1" strike="noStrike">
                <a:solidFill>
                  <a:srgbClr val="ff6600"/>
                </a:solidFill>
                <a:latin typeface="Verdana"/>
              </a:rPr>
              <a:t> </a:t>
            </a:r>
            <a:endParaRPr b="1" lang="en-US" sz="2600" spc="-1" strike="noStrike">
              <a:solidFill>
                <a:srgbClr val="be6d25"/>
              </a:solidFill>
              <a:latin typeface="Verdana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5364000" y="4365720"/>
            <a:ext cx="17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Verdana"/>
              </a:rPr>
              <a:t>E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3995640" y="270828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26200"/>
                </a:solidFill>
                <a:latin typeface="Verdana"/>
              </a:rPr>
              <a:t>Bud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2843280" y="5013360"/>
            <a:ext cx="345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Object 6"/>
          <p:cNvGraphicFramePr/>
          <p:nvPr/>
        </p:nvGraphicFramePr>
        <p:xfrm>
          <a:off x="826920" y="1268280"/>
          <a:ext cx="6553440" cy="532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268280"/>
                    <a:ext cx="6553440" cy="532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B7D10-3C4F-4AB3-92DD-744BE27CAAED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064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cc6600"/>
                </a:solidFill>
                <a:latin typeface="Verdana"/>
              </a:rPr>
              <a:t>Geographic distribution of funds - 2008</a:t>
            </a:r>
            <a:endParaRPr b="1" lang="en-US" sz="2600" spc="-1" strike="noStrike">
              <a:solidFill>
                <a:srgbClr val="be6d25"/>
              </a:solidFill>
              <a:latin typeface="Verdana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402480" y="6381720"/>
            <a:ext cx="635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EuropeAid spending per region, ODA and OA, ACP </a:t>
            </a:r>
            <a:r>
              <a:rPr b="0" lang="en-GB" sz="1200" spc="-1" strike="noStrike" u="sng">
                <a:solidFill>
                  <a:srgbClr val="003366"/>
                </a:solidFill>
                <a:uFillTx/>
                <a:latin typeface="Verdana"/>
              </a:rPr>
              <a:t>including </a:t>
            </a: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South Africa and Bana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4"/>
          <p:cNvGraphicFramePr/>
          <p:nvPr/>
        </p:nvGraphicFramePr>
        <p:xfrm>
          <a:off x="203040" y="1428840"/>
          <a:ext cx="8440920" cy="473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040" y="1428840"/>
                    <a:ext cx="8440920" cy="473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0T11:19:53Z</dcterms:created>
  <dc:creator>hopstru</dc:creator>
  <dc:description/>
  <dc:language>en-US</dc:language>
  <cp:lastModifiedBy>Luc Vermeersch</cp:lastModifiedBy>
  <dcterms:modified xsi:type="dcterms:W3CDTF">2009-11-10T10:37:34Z</dcterms:modified>
  <cp:revision>327</cp:revision>
  <dc:subject/>
  <dc:title>Slide 1</dc:title>
</cp:coreProperties>
</file>