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080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DFF2B0-D008-417F-A555-F69B2A2F5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EE069B-BEBB-418C-9FC3-4A9E88310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6DA465-7134-4BA8-A4F0-E324570F5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3611E2-AB0E-4944-9882-30C0D1F7A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74F69F-6945-462C-8FCE-0B0C4FF67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AC codes are more detailed than the European Consensus: so based on DAC we would end up with mor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AIDCO DAC statistics (annex of our annual report): there are 7 chapters, divided in 33 sub-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uropean Consensus table has 6 chapters, divided in 18 sub-s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D3157A-2E49-4587-B936-CCD67A887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AD7545-C2DC-4A7E-802C-E673551FE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DAA0D0-2B5E-43A5-B6E9-8A37BD20C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D9F354-1629-49B1-811F-B9D8E9DE7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3FE219-9F2F-4841-B0DC-8635305DE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5DAEDA-FDA6-4D68-9125-81EE50B36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0046A6-A39F-409C-9B80-4B8437224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1CDF21-6983-44E2-922F-F37BDF4C1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DB5E77-555B-44DD-8E89-5BD90569E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BCB107-9172-489D-B81F-409863FED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DC5E35-0FCC-4394-B314-F7C6CD205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93BE87-73B2-4BBF-87A6-99ED8D76D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37A7CD-52C6-496A-B7FE-D5B196D55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36565E-826F-4A90-AB54-91425AF80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0A1C0A-26F5-4EF1-9601-CB38214C7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84FA52-9E8C-4341-8DF6-B9B2648686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C70692-2F9B-4B59-A426-4F7B72938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0FDE32-67E4-4A95-A152-CD53A66A1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87CE19-C922-40B9-B8A6-1054C8892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9D9E73-27DC-4F6B-A6CE-B25EFE24A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FF6544-E394-4A9A-9B6A-ECF803332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3D3AEF-07F7-4595-8D1E-B4336BE38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6119A8-E0DF-4244-8150-68B63CE64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B4F-006E-48B2-A83F-5E76FD65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B95-CBAA-4D25-AC94-0DA2541F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A58-042C-473B-9984-5213CAB2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1C1-65CD-4BC5-AA6E-E0EFABD7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05CE-AA30-4FFC-ACA5-E38758FA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B28-065F-47DC-AB40-C3644D4B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DA6F-E24C-41A3-8C25-ECF4ABF3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748-1EB7-4958-A5A8-63004038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74F3-EC16-4344-90B4-6A3E929F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AA9-5D5B-4C1E-8B83-266E5BF3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968F-D043-44F2-B222-41DE77E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FAE-A6CD-4E30-BF05-189FB2C3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D6C3-BC1B-4645-A876-4AA640B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82B2-3515-4EAF-8013-6E8F591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5A40-5C77-49BD-B5F3-A513BE7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9EDD-FC29-4AB1-AC2C-4A80AD64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028-3F4E-4356-A412-404DAEC1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C8D-7CE1-4938-933A-49AE46E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386-50A7-4E50-83BC-07D120F1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36A-7425-4B13-BF27-51E20F3A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403-2EE4-438A-9D52-E8E3336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DE8-84FF-4BEA-B886-EFC686B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886-3098-4745-AE3F-F4CFADA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0FB-35DD-44C7-8166-BD130E4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65C-889E-47B2-8DC4-9A773C20DD9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9A7B-A9B5-4826-B8BB-093CEFF3F63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schildrensvillages.org.uk/imgs/content/children-at-Cochabamba-Bolivia.jpg&amp;imgrefurl=http://www.soschildrensvillages.org.uk/sponsor-a-child/americas-child-sponsorship/bolivia.htm&amp;h=335&amp;w=500&amp;sz=57&amp;hl=en&amp;start=20&amp;um=1&amp;tbnid=YDVXO2HVQYsWUM:&amp;tbnh=87&amp;tbnw=130&amp;prev=/images?q=bolivia&amp;svnum=10&amp;um=1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directrelief.org/uploadedImages/Where_We_Work/Countries/Bolivia/Bolivia.JPG&amp;imgrefurl=http://www.directrelief.org/WorkArea/linkit.aspx?LinkIdentifier=id&amp;ItemID=1290&amp;h=327&amp;w=490&amp;sz=48&amp;hl=en&amp;start=74&amp;um=1&amp;tbnid=oskldzFL8NdHIM:&amp;tbnh=87&amp;tbnw=130&amp;prev=/images?q=bolivia&amp;start=60&amp;ndsp=20&amp;svnum=10&amp;um=1&amp;hl=en&amp;sa=N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A8F9-DA44-47F6-BB83-8C906A13A15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3933360"/>
            <a:ext cx="81342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UC Conference on “Development is Social Justice –Trade Unions for Decent Work”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3-14 October 2009</a:t>
            </a:r>
            <a:br>
              <a:rPr sz="2000"/>
            </a:br>
            <a:br>
              <a:rPr sz="18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oos Richel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or Gener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ropeAid Cooperation Off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nö, Stockholm, 13 October 2009</a:t>
            </a:r>
            <a:endParaRPr b="1" lang="en-US" sz="2000" spc="-1" strike="noStrike">
              <a:solidFill>
                <a:srgbClr val="be6d25"/>
              </a:solidFill>
              <a:latin typeface="Verdana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0" y="333360"/>
            <a:ext cx="9491760" cy="3241800"/>
            <a:chOff x="0" y="333360"/>
            <a:chExt cx="9491760" cy="3241800"/>
          </a:xfrm>
        </p:grpSpPr>
        <p:sp>
          <p:nvSpPr>
            <p:cNvPr id="106" name="Rectangle 4"/>
            <p:cNvSpPr/>
            <p:nvPr/>
          </p:nvSpPr>
          <p:spPr>
            <a:xfrm>
              <a:off x="347760" y="333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" descr="children-at-Cochabamba-Bolivi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6360" y="981000"/>
              <a:ext cx="25192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Bolivia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003640" y="2278080"/>
              <a:ext cx="19083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7" descr="interview360"/>
            <p:cNvPicPr/>
            <p:nvPr/>
          </p:nvPicPr>
          <p:blipFill>
            <a:blip r:embed="rId5"/>
            <a:stretch/>
          </p:blipFill>
          <p:spPr>
            <a:xfrm>
              <a:off x="0" y="981000"/>
              <a:ext cx="169236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8" descr="nica0009 - Nicaragua © 2004 EC/R. Canessa"/>
            <p:cNvPicPr/>
            <p:nvPr/>
          </p:nvPicPr>
          <p:blipFill>
            <a:blip r:embed="rId6"/>
            <a:stretch/>
          </p:blipFill>
          <p:spPr>
            <a:xfrm>
              <a:off x="5435640" y="981000"/>
              <a:ext cx="17143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taller"/>
            <p:cNvPicPr/>
            <p:nvPr/>
          </p:nvPicPr>
          <p:blipFill>
            <a:blip r:embed="rId7"/>
            <a:srcRect l="0" t="0" r="0" b="2544"/>
            <a:stretch/>
          </p:blipFill>
          <p:spPr>
            <a:xfrm>
              <a:off x="7093080" y="981000"/>
              <a:ext cx="1655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guat0014b"/>
            <p:cNvPicPr/>
            <p:nvPr/>
          </p:nvPicPr>
          <p:blipFill>
            <a:blip r:embed="rId8"/>
            <a:stretch/>
          </p:blipFill>
          <p:spPr>
            <a:xfrm>
              <a:off x="6804000" y="2278080"/>
              <a:ext cx="19447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Improving water and sanitation in the rural areas of Nicaragua"/>
            <p:cNvPicPr/>
            <p:nvPr/>
          </p:nvPicPr>
          <p:blipFill>
            <a:blip r:embed="rId9"/>
            <a:stretch/>
          </p:blipFill>
          <p:spPr>
            <a:xfrm>
              <a:off x="0" y="2278080"/>
              <a:ext cx="194472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cro0026 - Improvement of cross-border points in Northern Dalmatia (Croatia) © EC/A.Zrno"/>
            <p:cNvPicPr/>
            <p:nvPr/>
          </p:nvPicPr>
          <p:blipFill>
            <a:blip r:embed="rId10"/>
            <a:stretch/>
          </p:blipFill>
          <p:spPr>
            <a:xfrm>
              <a:off x="3276720" y="2278080"/>
              <a:ext cx="194292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girl-Lao"/>
            <p:cNvPicPr/>
            <p:nvPr/>
          </p:nvPicPr>
          <p:blipFill>
            <a:blip r:embed="rId11"/>
            <a:stretch/>
          </p:blipFill>
          <p:spPr>
            <a:xfrm>
              <a:off x="1692360" y="2278080"/>
              <a:ext cx="1942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4"/>
            <p:cNvSpPr/>
            <p:nvPr/>
          </p:nvSpPr>
          <p:spPr>
            <a:xfrm>
              <a:off x="0" y="3502080"/>
              <a:ext cx="8748720" cy="712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5" descr="eu-flag"/>
            <p:cNvPicPr/>
            <p:nvPr/>
          </p:nvPicPr>
          <p:blipFill>
            <a:blip r:embed="rId12"/>
            <a:stretch/>
          </p:blipFill>
          <p:spPr>
            <a:xfrm>
              <a:off x="3492360" y="981000"/>
              <a:ext cx="19447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16"/>
            <p:cNvSpPr/>
            <p:nvPr/>
          </p:nvSpPr>
          <p:spPr>
            <a:xfrm>
              <a:off x="0" y="981000"/>
              <a:ext cx="8748720" cy="71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559-D8CB-4973-9249-CFDB2C662DC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Distribution of funds by horizontal programme - 2008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0" y="1413000"/>
          <a:ext cx="90914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091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6395040"/>
            <a:ext cx="5724360" cy="45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matic programmes include: non-state actors &amp; local authorities, investing in people, gender, environment, migration and foo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B38F-B000-443D-984A-F46D6B023DB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3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360" y="3284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85c00"/>
                </a:solidFill>
                <a:latin typeface="Verdana"/>
              </a:rPr>
              <a:t>More means than only aid…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9F77-55E1-448D-ADDA-6E46E9EBD83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Trade and remittances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U’s import in 2008 from Developing Countries amounts to </a:t>
            </a:r>
            <a:r>
              <a:rPr b="1" lang="en-GB" sz="2200" spc="-1" strike="noStrike">
                <a:solidFill>
                  <a:srgbClr val="cc6600"/>
                </a:solidFill>
                <a:latin typeface="Verdana"/>
              </a:rPr>
              <a:t>€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890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and from Least Developed Countries to </a:t>
            </a:r>
            <a:r>
              <a:rPr b="1" lang="en-GB" sz="2200" spc="-1" strike="noStrike">
                <a:solidFill>
                  <a:srgbClr val="cc6600"/>
                </a:solidFill>
                <a:latin typeface="Verdana"/>
              </a:rPr>
              <a:t>€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25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-357120" algn="just">
              <a:lnSpc>
                <a:spcPct val="100000"/>
              </a:lnSpc>
              <a:spcAft>
                <a:spcPts val="18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Recorded remittances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of migrant labour force  amounted to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$380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in 2008 worldwid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Unrecorded remittances adds up additional 50% to recorded remittances </a:t>
            </a: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(WB source)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Home countries would benefit both from ‘Brain Gain’ and conversion of remittances into productive business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EU trade policies for development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U’s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Aid for Trade Strategy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2007) with a pro-poor focus of the assistance (€3,109 million/2007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lassical’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Trade Related Assistance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€1,005 million / 2007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mprove developing countries' integration into the world trading system with a comprehensive view to poverty reductio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Generalised System of Preferences (GSP)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trade agreements, reduced tariffs (GSP+ is conditioned on adoption of core labour standards)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1A1-4494-446E-BB7F-2C2F529CB9B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601-D9D2-42F2-8E11-5E77F8965B7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4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spcAft>
                <a:spcPts val="15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Governance in the European Consensus on Development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, EC Communication, 2006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Governance is a priority in donors’ development policies and aid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apacity building to support democratisation processes, </a:t>
            </a:r>
            <a:r>
              <a:rPr b="0" lang="en-GB" sz="2400" spc="-1" strike="noStrike">
                <a:solidFill>
                  <a:srgbClr val="cc6600"/>
                </a:solidFill>
                <a:latin typeface="Verdana"/>
              </a:rPr>
              <a:t>accountability, transparency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, etc. in partner countri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nhancing </a:t>
            </a:r>
            <a:r>
              <a:rPr b="0" lang="en-GB" sz="2400" spc="-1" strike="noStrike">
                <a:solidFill>
                  <a:srgbClr val="cc6600"/>
                </a:solidFill>
                <a:latin typeface="Verdana"/>
              </a:rPr>
              <a:t>ownership and dialogue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with economic and social actor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7858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Democratic &amp; Good Governance 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EU’s added value - protecting the vulnerable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creased need for greater attention in development cooperation towards the systems of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lidarity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cial protection &amp; safety ne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cial dialogu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The EU has an added value and vast experience to give inspirations to our partners in these fields.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FD1-F5B7-44FA-9F2D-70F12C91FEC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EC aid to promote decent work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cc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€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1.9 billion support to DW related programme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ver 1999-2010 via bilateral and thematic aid programmes; (Investing in People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upport provided to the development and implementation of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home-grown sector-wide reform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in partner countri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supported reforms cover social protection systems, safety nets, skills development /vocational training systems, employment services, etc.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A0F-937A-4538-B08F-E149EC24D7C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DD6-F6F7-46B6-A767-C150950BADA4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7000" spc="-1" strike="noStrike">
                <a:solidFill>
                  <a:srgbClr val="c0c0c0"/>
                </a:solidFill>
                <a:latin typeface="Verdana"/>
              </a:rPr>
              <a:t>4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Role of Civil Society &amp; Social Partner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0622-56D2-4C95-91C6-5444036646B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Accra Action Plan 2008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► agenda extended to the civil society organisations (CSO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SOs are invited to examine how they can contribute to the Aid Effectiveness, reflecting on their specific added-value in development cooperatio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Working towards an “enabling environment” for CSOs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713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Role of the CSOs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CSOs initiatives in the </a:t>
            </a:r>
            <a:r>
              <a:rPr b="0" lang="fr-FR" sz="2000" spc="-1" strike="noStrike">
                <a:solidFill>
                  <a:srgbClr val="cc6600"/>
                </a:solidFill>
                <a:latin typeface="Verdana"/>
              </a:rPr>
              <a:t>«</a:t>
            </a: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post-Accra</a:t>
            </a:r>
            <a:r>
              <a:rPr b="0" lang="fr-FR" sz="2000" spc="-1" strike="noStrike">
                <a:solidFill>
                  <a:srgbClr val="cc6600"/>
                </a:solidFill>
                <a:latin typeface="Verdana"/>
              </a:rPr>
              <a:t>»</a:t>
            </a:r>
            <a:endParaRPr b="1" lang="en-US" sz="20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Open Forum on CSO Development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ternational CSO-driven process to define a global development effectiveness framework applicable to civil society organisations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Better Aid: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ternational CSO-driven process to contribute to the effective implementation of the Paris Declaration and AAA: monitoring of donors, watchdog, etc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Activities: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rganisation of national &amp; regional CSO consultations; </a:t>
            </a: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Global Assembly in 2010 and 2011 to finalise consensus building in view of the 4th High Level Forum (Seoul 2011)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EC1-107E-49D4-B5E0-E273BEF0358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9626-7FAD-400B-91E9-F14F66EE6CA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1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285720"/>
            <a:ext cx="7088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The EU development aid contex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Social partners in development co-oper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just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istinguished role of social partners in the Acquis Communitaire of the EU as part of democratic governanc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just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ocial partners have strong influence on formulation of policy reforms;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(see also Corporate Social Responsibili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just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Representation, credibility and legitimacy of the social partners are essential for effective and efficient social dialogue and thus for the acceptability of policy reforms &amp; their implementation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9D26-35CA-430B-85EC-90DF9ABFA0C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Social partners in development co-oper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development assistance in partner countries covers inter alia the following aspect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mproved effectiveness of regulations, state administration, public finance systems and public services to promote decent work related measur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omote social dialogue in direct  and indirect manner (e.g. VET systems) and also within the frame of improved governance and rule of law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ovision of capacity building to social partner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Need for reinforcement of support and for increased demand from partner governments to support DW aspec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598-D967-48ED-A183-FBA689D1771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B856-0544-444F-B239-02696057B26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755640" y="333360"/>
            <a:ext cx="3311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5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4000" y="3141360"/>
            <a:ext cx="70880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Challenges &amp; Priorities for the EC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hallenges in the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DW context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mpowerment of social partners to be able to fulfil their roles in sector policy desig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pen up space for social and private sector actors/partners to participate in sector reform dialogu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supported Sector Programmes in partner countries to be considered as an entry points for developing social dialogu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4008-73EF-4635-8C18-084BEC64F21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516-ECA4-47F1-9D8B-D3ADBA36889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616572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eliver on the Accra Agenda for Actio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798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use country systems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channel 50% of aid to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ublic sector through country syste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in-country division of labou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implement now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untying aid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elaborate plans to further untie ai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conditionalit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agree conditions based on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national development strateg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predictabilit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3-5 yr forward info on expenditur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ransparenc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regular public disclosur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Better orientation towards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ositioning of development cooperation towards the new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xternal Action Servi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(EA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b85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U Budget revision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2014 – 2020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efine position towards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Middle Income Countr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202-B924-433F-925D-22F5BBFAEEF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b85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Policy Coheren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need for coherence at EC level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ontribution to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Climate Change agenda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bserve status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0.7%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ontributions by 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verview the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implementation of EU policies on 2015 MDG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Relevance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DA concept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FA34-E538-462A-9F20-0C79577647B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103c72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25" name="Picture 4" descr="50-p-012531-00-23h"/>
          <p:cNvPicPr/>
          <p:nvPr/>
        </p:nvPicPr>
        <p:blipFill>
          <a:blip r:embed="rId1"/>
          <a:stretch/>
        </p:blipFill>
        <p:spPr>
          <a:xfrm>
            <a:off x="3132000" y="4508640"/>
            <a:ext cx="266400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A50D-499C-40AC-A949-00EB1220693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EC response: the policy framework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Aft>
                <a:spcPts val="337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U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Millennium Development Goal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fixing poverty reduction objectives for 2015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ECD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Paris Declaration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60 recipients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50 donors o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European Consensu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the EU development policy, tying Member States and Commission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EU Code o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Division of Labou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ccra High Level Forum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n 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Doha Conferen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n financing for development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50E-0C5F-4E42-B8B1-3509F0F1C2D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U &amp; EC aid implement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U the largest donor in the worl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003366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27 + 1 donors together responsible for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60%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ll development aid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2008: 48,6 billion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003366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USA provides 22%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uropean Commission on its ow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b85c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Second largest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donor of 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humanitarian ai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b85c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hird largest dono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f 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evelopment aid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(11%, after USA and Germany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esent in aprox.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140 countrie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27560" y="6256440"/>
            <a:ext cx="34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Based on OECD/DAC preliminary figure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64D1-3F45-4353-A066-628E0C70E5B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he EC and the external aid budget 2008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468360" y="1628640"/>
          <a:ext cx="40384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4038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"/>
          <p:cNvGraphicFramePr/>
          <p:nvPr/>
        </p:nvGraphicFramePr>
        <p:xfrm>
          <a:off x="4648320" y="1600200"/>
          <a:ext cx="4038480" cy="427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0200"/>
                    <a:ext cx="4038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684360" y="436572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mission budget inside EU: €124 bn (9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220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nal aid: €12.8 b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708360" y="2276640"/>
            <a:ext cx="136836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659640" y="2565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id EDF fund:  €4.8 bn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1964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id Budget: €4.6 bn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284720" y="26370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n-EuropeAid Budget: €3.3 b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2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468360" y="1773360"/>
            <a:ext cx="3024000" cy="1511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5805360"/>
            <a:ext cx="80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ropeAid implements external assistance. This excludes pre-accession aid, humanitarian aid, and Common Foreign and Security Policy (CFSP) aid. EC total budget includes European Development Fund (EDF). 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NB – 2008 provisional figures (April 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1011-6A94-4478-9866-1A04A6BAE0E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868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fficial Development Assistance</a:t>
            </a:r>
            <a:br>
              <a:rPr sz="2400"/>
            </a:b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 Percentage of Gross National Income: actual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forecast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,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bjective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395280" y="1557360"/>
          <a:ext cx="78487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7848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4"/>
          <p:cNvSpPr/>
          <p:nvPr/>
        </p:nvSpPr>
        <p:spPr>
          <a:xfrm>
            <a:off x="1187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 flipV="1">
            <a:off x="1116000" y="2636640"/>
            <a:ext cx="3949560" cy="69840"/>
          </a:xfrm>
          <a:custGeom>
            <a:avLst/>
            <a:gdLst>
              <a:gd name="textAreaLeft" fmla="*/ 0 w 3949560"/>
              <a:gd name="textAreaRight" fmla="*/ 3949920 w 39495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632" h="1">
                <a:moveTo>
                  <a:pt x="0" y="0"/>
                </a:moveTo>
                <a:lnTo>
                  <a:pt x="26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292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5076720" y="3789360"/>
            <a:ext cx="295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307120" y="2625840"/>
            <a:ext cx="142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932360" y="256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39640" y="623736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Source: OECD DAC where available. EC data base on MS information to the EC or the DAC for 2008.  EU DAC Average: 0.42% in 2008 compared with 0.38% in 2007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076720" y="2708280"/>
            <a:ext cx="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ADF7-FD09-49B2-93D1-AC14CE4D32C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2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Towards delivering more &amp; better  aid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ADB-82F6-4C8F-87DC-0EEEC324A15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Paid out in 2008: €7 billion</a:t>
            </a:r>
            <a:br>
              <a:rPr sz="26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cord year for project implementation</a:t>
            </a:r>
            <a:r>
              <a:rPr b="1" lang="en-GB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364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E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9564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26200"/>
                </a:solidFill>
                <a:latin typeface="Verdana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843280" y="5013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826920" y="1268280"/>
          <a:ext cx="655344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655344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522C-EBC3-40B1-A65A-A30A09E681B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Geographic distribution of funds - 2008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02480" y="6381720"/>
            <a:ext cx="635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EuropeAid spending per region, ODA and OA, ACP </a:t>
            </a:r>
            <a:r>
              <a:rPr b="0" lang="en-GB" sz="1200" spc="-1" strike="noStrike" u="sng">
                <a:solidFill>
                  <a:srgbClr val="003366"/>
                </a:solidFill>
                <a:uFillTx/>
                <a:latin typeface="Verdana"/>
              </a:rPr>
              <a:t>including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South Africa and 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03040" y="1428840"/>
          <a:ext cx="844092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428840"/>
                    <a:ext cx="844092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hopstru</dc:creator>
  <dc:description/>
  <dc:language>en-US</dc:language>
  <cp:lastModifiedBy>Luc Vermeersch</cp:lastModifiedBy>
  <dcterms:modified xsi:type="dcterms:W3CDTF">2009-11-10T10:37:34Z</dcterms:modified>
  <cp:revision>327</cp:revision>
  <dc:subject/>
  <dc:title>Slide 1</dc:title>
</cp:coreProperties>
</file>