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322-7AD8-434A-80D7-9D8ECF43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E9A-6909-4D79-A892-150C7A5D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313-EABE-4F21-AD71-6CA1A69F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894-579F-4869-9679-C59B634D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013-89D7-44BE-8C34-F407EFAB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FDE-6A08-4A58-B3DC-EFDC0CA0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5B67-4B7F-4316-9A88-7595212C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588-6DDD-4EB9-AF43-51537657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31F-E173-4485-9CBC-D6860AE6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6438-489C-4496-8060-9C15C7C7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540-3661-4009-88AD-76EEEE68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671-ACF5-4C6F-9C40-3DE58122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E035-C05C-4A0C-B785-5C7D67E22072}" type="slidenum">
              <a:rPr b="0" lang="en-US" sz="1400" spc="-1" strike="noStrike">
                <a:solidFill>
                  <a:srgbClr val="3300a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914400"/>
            <a:ext cx="914076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76320" y="76320"/>
          <a:ext cx="19047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1904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3240" y="0"/>
            <a:ext cx="9140760" cy="990720"/>
          </a:xfrm>
          <a:prstGeom prst="rect">
            <a:avLst/>
          </a:pr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0" y="-76320"/>
            <a:ext cx="914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>
            <a:hlinkClick r:id="" action="ppaction://hlinkshowjump?jump=nextslide"/>
          </p:cNvPr>
          <p:cNvSpPr/>
          <p:nvPr/>
        </p:nvSpPr>
        <p:spPr>
          <a:xfrm>
            <a:off x="838080" y="1295280"/>
            <a:ext cx="7467840" cy="5029200"/>
          </a:xfrm>
          <a:prstGeom prst="roundRect">
            <a:avLst>
              <a:gd name="adj" fmla="val 2815"/>
            </a:avLst>
          </a:prstGeom>
          <a:solidFill>
            <a:srgbClr val="ffffff"/>
          </a:solidFill>
          <a:ln w="1260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995400"/>
            <a:ext cx="914076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8"/>
          <p:cNvGraphicFramePr/>
          <p:nvPr/>
        </p:nvGraphicFramePr>
        <p:xfrm>
          <a:off x="990720" y="1447920"/>
          <a:ext cx="22860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447920"/>
                    <a:ext cx="2286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90720" y="312336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333399"/>
                </a:solidFill>
                <a:latin typeface="Arial"/>
              </a:rPr>
              <a:t>Planification stratégique </a:t>
            </a:r>
            <a:r>
              <a:rPr b="1" lang="fr-FR" sz="3200" spc="-1" strike="noStrike">
                <a:solidFill>
                  <a:srgbClr val="333399"/>
                </a:solidFill>
                <a:latin typeface="Arial"/>
              </a:rPr>
              <a:t>(concept et démarche)</a:t>
            </a:r>
            <a:r>
              <a:rPr b="1" lang="fr-FR" sz="45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360" y="-306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3300af"/>
                </a:solidFill>
                <a:latin typeface="Arial"/>
              </a:rPr>
              <a:t>Processus de Planification Stratégique </a:t>
            </a:r>
            <a:r>
              <a:rPr b="0" lang="fr-FR" sz="2400" spc="-1" strike="noStrike">
                <a:solidFill>
                  <a:srgbClr val="3300af"/>
                </a:solidFill>
                <a:latin typeface="Arial"/>
              </a:rPr>
              <a:t>(à base de l’analyse SWOT )</a:t>
            </a:r>
            <a:endParaRPr b="0" lang="en-US" sz="24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52280" y="3276720"/>
            <a:ext cx="12956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io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sio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295280" y="2590920"/>
            <a:ext cx="1447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e des ac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295280" y="1981080"/>
            <a:ext cx="1447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e des fac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371600" y="4495680"/>
            <a:ext cx="152388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e in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200400" y="2133720"/>
            <a:ext cx="15238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portunités &amp; Men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666880" y="3352680"/>
            <a:ext cx="14479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atégies altern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3276720" y="4495680"/>
            <a:ext cx="152388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ces &amp; Faibl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4876920" y="1447920"/>
            <a:ext cx="27432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e en profond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FF // options 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4267080" y="3352680"/>
            <a:ext cx="13716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ientation Straté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5791320" y="335268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nification  Straté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7391520" y="335268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nification  (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2209680" y="5562720"/>
            <a:ext cx="152424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val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5486400" y="5105520"/>
            <a:ext cx="83808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6019920" y="5562720"/>
            <a:ext cx="152388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914400" y="2209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1066680" y="4038480"/>
            <a:ext cx="18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9144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274320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>
            <a:off x="27432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2971800" y="205740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29718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1066680" y="5867280"/>
            <a:ext cx="1143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6"/>
          <p:cNvSpPr/>
          <p:nvPr/>
        </p:nvSpPr>
        <p:spPr>
          <a:xfrm flipH="1">
            <a:off x="3733920" y="5791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 flipH="1">
            <a:off x="754344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2895480" y="4800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9"/>
          <p:cNvSpPr/>
          <p:nvPr/>
        </p:nvSpPr>
        <p:spPr>
          <a:xfrm>
            <a:off x="3809880" y="266688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 flipV="1">
            <a:off x="3733920" y="40384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411480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2"/>
          <p:cNvSpPr/>
          <p:nvPr/>
        </p:nvSpPr>
        <p:spPr>
          <a:xfrm>
            <a:off x="91440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3"/>
          <p:cNvSpPr/>
          <p:nvPr/>
        </p:nvSpPr>
        <p:spPr>
          <a:xfrm>
            <a:off x="106668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4"/>
          <p:cNvSpPr/>
          <p:nvPr/>
        </p:nvSpPr>
        <p:spPr>
          <a:xfrm>
            <a:off x="5638680" y="3733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5"/>
          <p:cNvSpPr/>
          <p:nvPr/>
        </p:nvSpPr>
        <p:spPr>
          <a:xfrm>
            <a:off x="7238880" y="3657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6"/>
          <p:cNvSpPr/>
          <p:nvPr/>
        </p:nvSpPr>
        <p:spPr>
          <a:xfrm flipV="1">
            <a:off x="5029200" y="25146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7"/>
          <p:cNvSpPr/>
          <p:nvPr/>
        </p:nvSpPr>
        <p:spPr>
          <a:xfrm>
            <a:off x="6705720" y="2514600"/>
            <a:ext cx="1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8"/>
          <p:cNvSpPr/>
          <p:nvPr/>
        </p:nvSpPr>
        <p:spPr>
          <a:xfrm>
            <a:off x="7086600" y="25146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9"/>
          <p:cNvSpPr/>
          <p:nvPr/>
        </p:nvSpPr>
        <p:spPr>
          <a:xfrm>
            <a:off x="7848720" y="403848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0"/>
          <p:cNvSpPr/>
          <p:nvPr/>
        </p:nvSpPr>
        <p:spPr>
          <a:xfrm>
            <a:off x="0" y="990720"/>
            <a:ext cx="9144000" cy="586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1"/>
          <p:cNvSpPr/>
          <p:nvPr/>
        </p:nvSpPr>
        <p:spPr>
          <a:xfrm rot="2700000">
            <a:off x="-236160" y="27500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1295280" y="1143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Form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3"/>
          <p:cNvSpPr/>
          <p:nvPr/>
        </p:nvSpPr>
        <p:spPr>
          <a:xfrm>
            <a:off x="6324480" y="990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Appréc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4"/>
          <p:cNvSpPr/>
          <p:nvPr/>
        </p:nvSpPr>
        <p:spPr>
          <a:xfrm>
            <a:off x="7772400" y="4952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Financ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5"/>
          <p:cNvSpPr/>
          <p:nvPr/>
        </p:nvSpPr>
        <p:spPr>
          <a:xfrm>
            <a:off x="6400800" y="62625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Mise en œuv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6"/>
          <p:cNvSpPr/>
          <p:nvPr/>
        </p:nvSpPr>
        <p:spPr>
          <a:xfrm>
            <a:off x="106668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Éval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480" y="158400"/>
            <a:ext cx="60962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af"/>
                </a:solidFill>
                <a:latin typeface="Arial"/>
              </a:rPr>
              <a:t>PS : démarche</a:t>
            </a:r>
            <a:endParaRPr b="0" lang="en-US" sz="40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532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3300af"/>
                </a:solidFill>
                <a:latin typeface="Arial"/>
              </a:rPr>
              <a:t>I.</a:t>
            </a: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Diagnostic organisationnel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Analyse SWOT</a:t>
            </a:r>
            <a:r>
              <a:rPr b="0" lang="fr-FR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 FFOM) </a:t>
            </a: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  <a:p>
            <a:pPr marL="343080" indent="0">
              <a:spcBef>
                <a:spcPts val="30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3300af"/>
                </a:solidFill>
                <a:latin typeface="Arial"/>
              </a:rPr>
              <a:t>II.</a:t>
            </a: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Définition des orientations stratégiques 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  <a:p>
            <a:pPr marL="343080" indent="0">
              <a:spcBef>
                <a:spcPts val="30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    </a:t>
            </a:r>
            <a:r>
              <a:rPr b="0" lang="fr-FR" sz="3500" spc="-1" strike="noStrike">
                <a:solidFill>
                  <a:srgbClr val="3300af"/>
                </a:solidFill>
                <a:latin typeface="Symbol"/>
                <a:ea typeface="Symbol"/>
              </a:rPr>
              <a:t></a:t>
            </a: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</a:t>
            </a:r>
            <a:r>
              <a:rPr b="0" lang="fr-FR" sz="3500" spc="-1" strike="noStrike">
                <a:solidFill>
                  <a:srgbClr val="ff0000"/>
                </a:solidFill>
                <a:latin typeface="Arial"/>
              </a:rPr>
              <a:t>MOS (outil)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  <a:p>
            <a:pPr marL="343080" indent="0">
              <a:spcBef>
                <a:spcPts val="30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3300af"/>
                </a:solidFill>
                <a:latin typeface="Arial"/>
              </a:rPr>
              <a:t>III.</a:t>
            </a: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Planification </a:t>
            </a:r>
            <a:r>
              <a:rPr b="0" lang="fr-FR" sz="3500" spc="-1" strike="noStrike">
                <a:solidFill>
                  <a:srgbClr val="3300af"/>
                </a:solidFill>
                <a:latin typeface="Symbol"/>
                <a:ea typeface="Symbol"/>
              </a:rPr>
              <a:t></a:t>
            </a: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</a:t>
            </a:r>
            <a:r>
              <a:rPr b="0" lang="fr-FR" sz="3500" spc="-1" strike="noStrike">
                <a:solidFill>
                  <a:srgbClr val="ff0000"/>
                </a:solidFill>
                <a:latin typeface="Arial"/>
              </a:rPr>
              <a:t>Cadre Logique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5640" y="15840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af"/>
                </a:solidFill>
                <a:latin typeface="Arial"/>
              </a:rPr>
              <a:t>PS : Quelques éléments clés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6934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Projection dans le moyen - long terme (5, 10 et plus)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Vision et mission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Stratégies 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Politiques globales – thématiques (ex: genre, VIH / sida, bonne gouvernance, etc.) 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Objectifs globaux / stratégiques de l’organisation 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Domaines d’action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Systèmes et procédures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Etc.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82440"/>
            <a:ext cx="64771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af"/>
                </a:solidFill>
                <a:latin typeface="Arial"/>
              </a:rPr>
              <a:t>Opportunité  / Menace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38098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Arial"/>
              </a:rPr>
              <a:t>Menace :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Un fait ou un développement externe qui a,  ou peut avoir un effet négatif substantiel sur les performances de l'organisation.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Les menaces sont des défis posés par des tendances ou développements défavorables dans le contexte qui, en l'absence d'action corrective, pourraient venir éroder la position de l'organisation.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6320" y="1143000"/>
            <a:ext cx="9067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Arial"/>
              </a:rPr>
              <a:t>Opportunité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Un fait ou un développement externe qui, si on en tire profit, peut être réellement utilisé pour apporter une contribution substantielle à la mission de l'organisation ou à régler le problème de ba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600" y="82440"/>
            <a:ext cx="64771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af"/>
                </a:solidFill>
                <a:latin typeface="Arial"/>
              </a:rPr>
              <a:t>Force  / Faiblesse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45720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0000"/>
                </a:solidFill>
                <a:latin typeface="Arial"/>
              </a:rPr>
              <a:t>Faiblesse :</a:t>
            </a:r>
            <a:endParaRPr b="0" lang="en-US" sz="2300" spc="-1" strike="noStrike">
              <a:solidFill>
                <a:srgbClr val="3300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3300af"/>
                </a:solidFill>
                <a:latin typeface="Arial"/>
              </a:rPr>
              <a:t>Une caractéristique interne qui influence négativement et substantiellement le fonctionnement de l'organisation.</a:t>
            </a:r>
            <a:endParaRPr b="0" lang="en-US" sz="2300" spc="-1" strike="noStrike">
              <a:solidFill>
                <a:srgbClr val="3300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3300af"/>
                </a:solidFill>
                <a:latin typeface="Arial"/>
              </a:rPr>
              <a:t>Les faiblesses sont des conditions internes qui érodent la position de l'organisation, entravent la coopération avec d'autres ou font obstacle à l'exploitation des opportunités.</a:t>
            </a:r>
            <a:endParaRPr b="0" lang="en-US" sz="23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76320" y="990720"/>
            <a:ext cx="90676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0000"/>
                </a:solidFill>
                <a:latin typeface="Arial"/>
              </a:rPr>
              <a:t>Force 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3300af"/>
                </a:solidFill>
                <a:latin typeface="Arial"/>
              </a:rPr>
              <a:t>Une caractéristique interne qui contribue substantiellement à la réalisation de la mission de l'organisation ou à régler le problème de bas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3300af"/>
                </a:solidFill>
                <a:latin typeface="Arial"/>
              </a:rPr>
              <a:t>Une force est un atout interne existant (gestion, capacités/motivation du personnel, connaissances, ressources, liens avec d'autres entreprises, etc.) qui aidera à exploiter les opportunités (ou à satisfaire les demandes) et à combattre les mena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26880" y="274680"/>
            <a:ext cx="61167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00af"/>
                </a:solidFill>
                <a:latin typeface="Arial"/>
              </a:rPr>
              <a:t>Stratégie </a:t>
            </a:r>
            <a:r>
              <a:rPr b="1" lang="fr-FR" sz="3200" spc="-1" strike="noStrike">
                <a:solidFill>
                  <a:srgbClr val="3300af"/>
                </a:solidFill>
                <a:latin typeface="Arial"/>
                <a:ea typeface="Arial"/>
              </a:rPr>
              <a:t>≠ </a:t>
            </a:r>
            <a:r>
              <a:rPr b="1" lang="fr-FR" sz="3200" spc="-1" strike="noStrike">
                <a:solidFill>
                  <a:srgbClr val="3300af"/>
                </a:solidFill>
                <a:latin typeface="Arial"/>
              </a:rPr>
              <a:t>Planification</a:t>
            </a: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400" y="1454040"/>
          <a:ext cx="4338360" cy="498600"/>
        </p:xfrm>
        <a:graphic>
          <a:graphicData uri="http://schemas.openxmlformats.org/drawingml/2006/table">
            <a:tbl>
              <a:tblPr/>
              <a:tblGrid>
                <a:gridCol w="43383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éveloppement de straté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422600" y="1454040"/>
          <a:ext cx="4664160" cy="498600"/>
        </p:xfrm>
        <a:graphic>
          <a:graphicData uri="http://schemas.openxmlformats.org/drawingml/2006/table">
            <a:tbl>
              <a:tblPr/>
              <a:tblGrid>
                <a:gridCol w="46641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8160" y="2577960"/>
          <a:ext cx="4338720" cy="49860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novation (chercher du nouvea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422600" y="2025720"/>
          <a:ext cx="4664160" cy="498240"/>
        </p:xfrm>
        <a:graphic>
          <a:graphicData uri="http://schemas.openxmlformats.org/drawingml/2006/table">
            <a:tbl>
              <a:tblPr/>
              <a:tblGrid>
                <a:gridCol w="4664160"/>
              </a:tblGrid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rétisation (la direction est donné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424400" y="2597040"/>
          <a:ext cx="4662360" cy="49860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arranger les vieilles id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8160" y="2006640"/>
          <a:ext cx="4338720" cy="51732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rcher la dir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8160" y="3149640"/>
          <a:ext cx="4338720" cy="49860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nthè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24400" y="3149640"/>
          <a:ext cx="4662360" cy="49860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y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8160" y="3701880"/>
          <a:ext cx="4338720" cy="49860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ts/v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424400" y="3701880"/>
          <a:ext cx="4662360" cy="49860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8160" y="4254480"/>
          <a:ext cx="4338720" cy="44136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424400" y="4254480"/>
          <a:ext cx="4662360" cy="49860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8160" y="4807080"/>
          <a:ext cx="4338720" cy="49824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te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424400" y="4807080"/>
          <a:ext cx="4662360" cy="49824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t te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8160" y="5378400"/>
          <a:ext cx="4338720" cy="63180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ention aux forces et opportun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424400" y="5378400"/>
          <a:ext cx="4662360" cy="64296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olution de problèmes (faiblesses, menac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240" y="6149880"/>
          <a:ext cx="4338720" cy="64296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met de recourir à l'intuition, y compris l'information incerta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443480" y="6149880"/>
          <a:ext cx="4662360" cy="64296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nnel, utilise l'information sû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vité</cp:lastModifiedBy>
  <dcterms:modified xsi:type="dcterms:W3CDTF">2009-09-29T14:23:14Z</dcterms:modified>
  <cp:revision>2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