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3BC7-B8A3-4729-9771-AF24F957F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DB84-3B2E-4D54-BF42-38789D83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9678-4CF8-43BB-9BE6-529AAF28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6AA4-27CC-4E07-BC67-C840B31D3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3F45-8C11-4143-829D-E1C850DC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62BC-9611-4EAC-996F-086BC6FA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A9AB-0D83-4713-B5B2-DD42B59E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D309-21E3-4601-8116-7CD38CEA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DF38-B095-42DA-A812-F0C8F053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CFC1-D27C-4E80-A189-103BCF10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B543-9F3F-4FEA-A1C2-CA7307EA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F3BA-B288-4D38-8DA8-C4049586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a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a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a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a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a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1D13-2F01-445B-A9A4-9D8E63EBA4AE}" type="slidenum">
              <a:rPr b="0" lang="en-US" sz="1400" spc="-1" strike="noStrike">
                <a:solidFill>
                  <a:srgbClr val="3300a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914400"/>
            <a:ext cx="9140760" cy="71280"/>
          </a:xfrm>
          <a:prstGeom prst="rect">
            <a:avLst/>
          </a:prstGeom>
          <a:solidFill>
            <a:srgbClr val="0000ff"/>
          </a:solidFill>
          <a:ln w="9360">
            <a:solidFill>
              <a:srgbClr val="938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6320" y="76320"/>
          <a:ext cx="190476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76320"/>
                    <a:ext cx="1904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a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a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a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00a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a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a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00a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3300a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8"/>
          <p:cNvSpPr/>
          <p:nvPr/>
        </p:nvSpPr>
        <p:spPr>
          <a:xfrm>
            <a:off x="3240" y="0"/>
            <a:ext cx="9140760" cy="990720"/>
          </a:xfrm>
          <a:prstGeom prst="rect">
            <a:avLst/>
          </a:prstGeom>
          <a:solidFill>
            <a:srgbClr val="ffcc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8"/>
          <p:cNvSpPr/>
          <p:nvPr/>
        </p:nvSpPr>
        <p:spPr>
          <a:xfrm>
            <a:off x="0" y="-76320"/>
            <a:ext cx="9140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838080" y="1295280"/>
            <a:ext cx="7467840" cy="5029200"/>
          </a:xfrm>
          <a:prstGeom prst="roundRect">
            <a:avLst>
              <a:gd name="adj" fmla="val 2815"/>
            </a:avLst>
          </a:prstGeom>
          <a:solidFill>
            <a:srgbClr val="ffffff"/>
          </a:solidFill>
          <a:ln w="12600">
            <a:solidFill>
              <a:srgbClr val="938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0" y="995400"/>
            <a:ext cx="9140760" cy="71280"/>
          </a:xfrm>
          <a:prstGeom prst="rect">
            <a:avLst/>
          </a:prstGeom>
          <a:solidFill>
            <a:srgbClr val="0000ff"/>
          </a:solidFill>
          <a:ln w="9360">
            <a:solidFill>
              <a:srgbClr val="938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838080" y="1600200"/>
          <a:ext cx="228600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600200"/>
                    <a:ext cx="22860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a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a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a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a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a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a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a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a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4656600" y="1006560"/>
            <a:ext cx="3930120" cy="5714640"/>
            <a:chOff x="4656600" y="1006560"/>
            <a:chExt cx="3930120" cy="5714640"/>
          </a:xfrm>
        </p:grpSpPr>
        <p:sp>
          <p:nvSpPr>
            <p:cNvPr id="92" name=""/>
            <p:cNvSpPr/>
            <p:nvPr/>
          </p:nvSpPr>
          <p:spPr>
            <a:xfrm flipH="1">
              <a:off x="4757760" y="1006560"/>
              <a:ext cx="3828600" cy="3524040"/>
            </a:xfrm>
            <a:custGeom>
              <a:avLst/>
              <a:gdLst/>
              <a:ahLst/>
              <a:rect l="l" t="t" r="r" b="b"/>
              <a:pathLst>
                <a:path w="2707" h="2337">
                  <a:moveTo>
                    <a:pt x="531" y="69"/>
                  </a:moveTo>
                  <a:cubicBezTo>
                    <a:pt x="788" y="138"/>
                    <a:pt x="1336" y="297"/>
                    <a:pt x="1699" y="549"/>
                  </a:cubicBezTo>
                  <a:cubicBezTo>
                    <a:pt x="2059" y="796"/>
                    <a:pt x="2539" y="1320"/>
                    <a:pt x="2707" y="1581"/>
                  </a:cubicBezTo>
                  <a:lnTo>
                    <a:pt x="2707" y="2141"/>
                  </a:lnTo>
                  <a:cubicBezTo>
                    <a:pt x="2534" y="2264"/>
                    <a:pt x="1983" y="2297"/>
                    <a:pt x="1667" y="2317"/>
                  </a:cubicBezTo>
                  <a:cubicBezTo>
                    <a:pt x="1351" y="2337"/>
                    <a:pt x="1003" y="2309"/>
                    <a:pt x="811" y="2261"/>
                  </a:cubicBezTo>
                  <a:cubicBezTo>
                    <a:pt x="619" y="2213"/>
                    <a:pt x="606" y="2189"/>
                    <a:pt x="515" y="2029"/>
                  </a:cubicBezTo>
                  <a:cubicBezTo>
                    <a:pt x="424" y="1869"/>
                    <a:pt x="350" y="1534"/>
                    <a:pt x="267" y="1301"/>
                  </a:cubicBezTo>
                  <a:cubicBezTo>
                    <a:pt x="184" y="1068"/>
                    <a:pt x="38" y="824"/>
                    <a:pt x="19" y="629"/>
                  </a:cubicBezTo>
                  <a:cubicBezTo>
                    <a:pt x="0" y="434"/>
                    <a:pt x="70" y="226"/>
                    <a:pt x="155" y="133"/>
                  </a:cubicBezTo>
                  <a:cubicBezTo>
                    <a:pt x="240" y="40"/>
                    <a:pt x="274" y="0"/>
                    <a:pt x="531" y="69"/>
                  </a:cubicBez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4724280" y="4058280"/>
              <a:ext cx="3356640" cy="2662920"/>
            </a:xfrm>
            <a:custGeom>
              <a:avLst/>
              <a:gdLst/>
              <a:ahLst/>
              <a:rect l="l" t="t" r="r" b="b"/>
              <a:pathLst>
                <a:path w="2373" h="1766">
                  <a:moveTo>
                    <a:pt x="2357" y="133"/>
                  </a:moveTo>
                  <a:cubicBezTo>
                    <a:pt x="2190" y="0"/>
                    <a:pt x="1704" y="236"/>
                    <a:pt x="1373" y="253"/>
                  </a:cubicBezTo>
                  <a:cubicBezTo>
                    <a:pt x="1049" y="268"/>
                    <a:pt x="574" y="180"/>
                    <a:pt x="373" y="237"/>
                  </a:cubicBezTo>
                  <a:cubicBezTo>
                    <a:pt x="373" y="237"/>
                    <a:pt x="149" y="429"/>
                    <a:pt x="149" y="429"/>
                  </a:cubicBezTo>
                  <a:cubicBezTo>
                    <a:pt x="149" y="429"/>
                    <a:pt x="0" y="712"/>
                    <a:pt x="29" y="845"/>
                  </a:cubicBezTo>
                  <a:cubicBezTo>
                    <a:pt x="54" y="973"/>
                    <a:pt x="80" y="1158"/>
                    <a:pt x="149" y="1253"/>
                  </a:cubicBezTo>
                  <a:cubicBezTo>
                    <a:pt x="206" y="1365"/>
                    <a:pt x="258" y="1437"/>
                    <a:pt x="373" y="1517"/>
                  </a:cubicBezTo>
                  <a:cubicBezTo>
                    <a:pt x="497" y="1657"/>
                    <a:pt x="612" y="1710"/>
                    <a:pt x="837" y="1733"/>
                  </a:cubicBezTo>
                  <a:cubicBezTo>
                    <a:pt x="1062" y="1756"/>
                    <a:pt x="1469" y="1766"/>
                    <a:pt x="1725" y="1653"/>
                  </a:cubicBezTo>
                  <a:cubicBezTo>
                    <a:pt x="1988" y="1552"/>
                    <a:pt x="2236" y="1318"/>
                    <a:pt x="2373" y="1053"/>
                  </a:cubicBezTo>
                  <a:lnTo>
                    <a:pt x="2357" y="133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4656600" y="1334880"/>
              <a:ext cx="3281040" cy="3032280"/>
            </a:xfrm>
            <a:custGeom>
              <a:avLst/>
              <a:gdLst/>
              <a:ahLst/>
              <a:rect l="l" t="t" r="r" b="b"/>
              <a:pathLst>
                <a:path w="2320" h="2011">
                  <a:moveTo>
                    <a:pt x="472" y="283"/>
                  </a:moveTo>
                  <a:cubicBezTo>
                    <a:pt x="358" y="330"/>
                    <a:pt x="136" y="67"/>
                    <a:pt x="144" y="443"/>
                  </a:cubicBezTo>
                  <a:cubicBezTo>
                    <a:pt x="104" y="619"/>
                    <a:pt x="551" y="555"/>
                    <a:pt x="552" y="611"/>
                  </a:cubicBezTo>
                  <a:cubicBezTo>
                    <a:pt x="553" y="667"/>
                    <a:pt x="0" y="459"/>
                    <a:pt x="152" y="779"/>
                  </a:cubicBezTo>
                  <a:cubicBezTo>
                    <a:pt x="208" y="1035"/>
                    <a:pt x="569" y="848"/>
                    <a:pt x="600" y="907"/>
                  </a:cubicBezTo>
                  <a:cubicBezTo>
                    <a:pt x="631" y="966"/>
                    <a:pt x="216" y="875"/>
                    <a:pt x="336" y="1131"/>
                  </a:cubicBezTo>
                  <a:cubicBezTo>
                    <a:pt x="456" y="1387"/>
                    <a:pt x="773" y="1171"/>
                    <a:pt x="808" y="1227"/>
                  </a:cubicBezTo>
                  <a:cubicBezTo>
                    <a:pt x="835" y="1267"/>
                    <a:pt x="392" y="1195"/>
                    <a:pt x="496" y="1371"/>
                  </a:cubicBezTo>
                  <a:cubicBezTo>
                    <a:pt x="600" y="1547"/>
                    <a:pt x="899" y="1406"/>
                    <a:pt x="944" y="1459"/>
                  </a:cubicBezTo>
                  <a:cubicBezTo>
                    <a:pt x="989" y="1512"/>
                    <a:pt x="759" y="1635"/>
                    <a:pt x="768" y="1691"/>
                  </a:cubicBezTo>
                  <a:cubicBezTo>
                    <a:pt x="880" y="1835"/>
                    <a:pt x="932" y="1796"/>
                    <a:pt x="1000" y="1795"/>
                  </a:cubicBezTo>
                  <a:lnTo>
                    <a:pt x="1320" y="1579"/>
                  </a:lnTo>
                  <a:cubicBezTo>
                    <a:pt x="1332" y="1612"/>
                    <a:pt x="832" y="1803"/>
                    <a:pt x="1072" y="1995"/>
                  </a:cubicBezTo>
                  <a:cubicBezTo>
                    <a:pt x="1560" y="2011"/>
                    <a:pt x="2005" y="1870"/>
                    <a:pt x="2176" y="1747"/>
                  </a:cubicBezTo>
                  <a:cubicBezTo>
                    <a:pt x="2200" y="1555"/>
                    <a:pt x="2320" y="1523"/>
                    <a:pt x="2096" y="1259"/>
                  </a:cubicBezTo>
                  <a:cubicBezTo>
                    <a:pt x="1872" y="995"/>
                    <a:pt x="1103" y="326"/>
                    <a:pt x="832" y="163"/>
                  </a:cubicBezTo>
                  <a:cubicBezTo>
                    <a:pt x="561" y="0"/>
                    <a:pt x="586" y="236"/>
                    <a:pt x="472" y="28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e1ff"/>
                </a:gs>
              </a:gsLst>
              <a:lin ang="10800000"/>
            </a:gradFill>
            <a:ln w="28440">
              <a:solidFill>
                <a:srgbClr val="e1e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4894200" y="1351800"/>
              <a:ext cx="2500560" cy="2062440"/>
            </a:xfrm>
            <a:custGeom>
              <a:avLst/>
              <a:gdLst/>
              <a:ahLst/>
              <a:rect l="l" t="t" r="r" b="b"/>
              <a:pathLst>
                <a:path w="1768" h="1368">
                  <a:moveTo>
                    <a:pt x="1768" y="1272"/>
                  </a:moveTo>
                  <a:cubicBezTo>
                    <a:pt x="1664" y="1072"/>
                    <a:pt x="1351" y="779"/>
                    <a:pt x="1096" y="576"/>
                  </a:cubicBezTo>
                  <a:cubicBezTo>
                    <a:pt x="841" y="373"/>
                    <a:pt x="401" y="112"/>
                    <a:pt x="240" y="56"/>
                  </a:cubicBezTo>
                  <a:cubicBezTo>
                    <a:pt x="79" y="0"/>
                    <a:pt x="0" y="119"/>
                    <a:pt x="128" y="240"/>
                  </a:cubicBezTo>
                  <a:cubicBezTo>
                    <a:pt x="256" y="361"/>
                    <a:pt x="761" y="603"/>
                    <a:pt x="1008" y="784"/>
                  </a:cubicBezTo>
                  <a:cubicBezTo>
                    <a:pt x="1255" y="965"/>
                    <a:pt x="1488" y="1288"/>
                    <a:pt x="1608" y="1328"/>
                  </a:cubicBezTo>
                  <a:cubicBezTo>
                    <a:pt x="1728" y="1320"/>
                    <a:pt x="1696" y="1368"/>
                    <a:pt x="1768" y="127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e1ff"/>
                </a:gs>
              </a:gsLst>
              <a:lin ang="10800000"/>
            </a:gradFill>
            <a:ln w="28440">
              <a:solidFill>
                <a:srgbClr val="e1e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7903800" y="1713600"/>
              <a:ext cx="327960" cy="28944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7677720" y="2944080"/>
              <a:ext cx="237600" cy="27720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032600" y="3836880"/>
              <a:ext cx="339120" cy="24120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7214040" y="4886280"/>
              <a:ext cx="259920" cy="10872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7179840" y="5417280"/>
              <a:ext cx="237600" cy="24084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703920" y="5911560"/>
              <a:ext cx="294120" cy="42228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5878440" y="6176880"/>
              <a:ext cx="361800" cy="30132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4939200" y="4886280"/>
              <a:ext cx="226080" cy="30132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61960" y="993600"/>
            <a:ext cx="3928680" cy="5716440"/>
            <a:chOff x="561960" y="993600"/>
            <a:chExt cx="3928680" cy="5716440"/>
          </a:xfrm>
        </p:grpSpPr>
        <p:sp>
          <p:nvSpPr>
            <p:cNvPr id="105" name=""/>
            <p:cNvSpPr/>
            <p:nvPr/>
          </p:nvSpPr>
          <p:spPr>
            <a:xfrm>
              <a:off x="561960" y="993600"/>
              <a:ext cx="3827160" cy="3525120"/>
            </a:xfrm>
            <a:custGeom>
              <a:avLst/>
              <a:gdLst/>
              <a:ahLst/>
              <a:rect l="l" t="t" r="r" b="b"/>
              <a:pathLst>
                <a:path w="2707" h="2337">
                  <a:moveTo>
                    <a:pt x="531" y="69"/>
                  </a:moveTo>
                  <a:cubicBezTo>
                    <a:pt x="788" y="138"/>
                    <a:pt x="1336" y="297"/>
                    <a:pt x="1699" y="549"/>
                  </a:cubicBezTo>
                  <a:cubicBezTo>
                    <a:pt x="2059" y="796"/>
                    <a:pt x="2539" y="1320"/>
                    <a:pt x="2707" y="1581"/>
                  </a:cubicBezTo>
                  <a:lnTo>
                    <a:pt x="2707" y="2141"/>
                  </a:lnTo>
                  <a:cubicBezTo>
                    <a:pt x="2534" y="2264"/>
                    <a:pt x="1983" y="2297"/>
                    <a:pt x="1667" y="2317"/>
                  </a:cubicBezTo>
                  <a:cubicBezTo>
                    <a:pt x="1351" y="2337"/>
                    <a:pt x="1003" y="2309"/>
                    <a:pt x="811" y="2261"/>
                  </a:cubicBezTo>
                  <a:cubicBezTo>
                    <a:pt x="619" y="2213"/>
                    <a:pt x="606" y="2189"/>
                    <a:pt x="515" y="2029"/>
                  </a:cubicBezTo>
                  <a:cubicBezTo>
                    <a:pt x="424" y="1869"/>
                    <a:pt x="350" y="1534"/>
                    <a:pt x="267" y="1301"/>
                  </a:cubicBezTo>
                  <a:cubicBezTo>
                    <a:pt x="184" y="1068"/>
                    <a:pt x="38" y="824"/>
                    <a:pt x="19" y="629"/>
                  </a:cubicBezTo>
                  <a:cubicBezTo>
                    <a:pt x="0" y="434"/>
                    <a:pt x="70" y="226"/>
                    <a:pt x="155" y="133"/>
                  </a:cubicBezTo>
                  <a:cubicBezTo>
                    <a:pt x="240" y="40"/>
                    <a:pt x="274" y="0"/>
                    <a:pt x="531" y="69"/>
                  </a:cubicBez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67760" y="4046400"/>
              <a:ext cx="3355200" cy="2663640"/>
            </a:xfrm>
            <a:custGeom>
              <a:avLst/>
              <a:gdLst/>
              <a:ahLst/>
              <a:rect l="l" t="t" r="r" b="b"/>
              <a:pathLst>
                <a:path w="2373" h="1766">
                  <a:moveTo>
                    <a:pt x="2357" y="133"/>
                  </a:moveTo>
                  <a:cubicBezTo>
                    <a:pt x="2190" y="0"/>
                    <a:pt x="1704" y="236"/>
                    <a:pt x="1373" y="253"/>
                  </a:cubicBezTo>
                  <a:cubicBezTo>
                    <a:pt x="1049" y="268"/>
                    <a:pt x="574" y="180"/>
                    <a:pt x="373" y="237"/>
                  </a:cubicBezTo>
                  <a:cubicBezTo>
                    <a:pt x="373" y="237"/>
                    <a:pt x="149" y="429"/>
                    <a:pt x="149" y="429"/>
                  </a:cubicBezTo>
                  <a:cubicBezTo>
                    <a:pt x="149" y="429"/>
                    <a:pt x="0" y="712"/>
                    <a:pt x="29" y="845"/>
                  </a:cubicBezTo>
                  <a:cubicBezTo>
                    <a:pt x="54" y="973"/>
                    <a:pt x="80" y="1158"/>
                    <a:pt x="149" y="1253"/>
                  </a:cubicBezTo>
                  <a:cubicBezTo>
                    <a:pt x="206" y="1365"/>
                    <a:pt x="258" y="1437"/>
                    <a:pt x="373" y="1517"/>
                  </a:cubicBezTo>
                  <a:cubicBezTo>
                    <a:pt x="497" y="1657"/>
                    <a:pt x="612" y="1710"/>
                    <a:pt x="837" y="1733"/>
                  </a:cubicBezTo>
                  <a:cubicBezTo>
                    <a:pt x="1062" y="1756"/>
                    <a:pt x="1469" y="1766"/>
                    <a:pt x="1725" y="1653"/>
                  </a:cubicBezTo>
                  <a:cubicBezTo>
                    <a:pt x="1988" y="1552"/>
                    <a:pt x="2236" y="1318"/>
                    <a:pt x="2373" y="1053"/>
                  </a:cubicBezTo>
                  <a:lnTo>
                    <a:pt x="2357" y="133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10680" y="1322280"/>
              <a:ext cx="3279960" cy="3033360"/>
            </a:xfrm>
            <a:custGeom>
              <a:avLst/>
              <a:gdLst/>
              <a:ahLst/>
              <a:rect l="l" t="t" r="r" b="b"/>
              <a:pathLst>
                <a:path w="2320" h="2011">
                  <a:moveTo>
                    <a:pt x="472" y="283"/>
                  </a:moveTo>
                  <a:cubicBezTo>
                    <a:pt x="358" y="330"/>
                    <a:pt x="136" y="67"/>
                    <a:pt x="144" y="443"/>
                  </a:cubicBezTo>
                  <a:cubicBezTo>
                    <a:pt x="104" y="619"/>
                    <a:pt x="551" y="555"/>
                    <a:pt x="552" y="611"/>
                  </a:cubicBezTo>
                  <a:cubicBezTo>
                    <a:pt x="553" y="667"/>
                    <a:pt x="0" y="459"/>
                    <a:pt x="152" y="779"/>
                  </a:cubicBezTo>
                  <a:cubicBezTo>
                    <a:pt x="208" y="1035"/>
                    <a:pt x="569" y="848"/>
                    <a:pt x="600" y="907"/>
                  </a:cubicBezTo>
                  <a:cubicBezTo>
                    <a:pt x="631" y="966"/>
                    <a:pt x="216" y="875"/>
                    <a:pt x="336" y="1131"/>
                  </a:cubicBezTo>
                  <a:cubicBezTo>
                    <a:pt x="456" y="1387"/>
                    <a:pt x="773" y="1171"/>
                    <a:pt x="808" y="1227"/>
                  </a:cubicBezTo>
                  <a:cubicBezTo>
                    <a:pt x="835" y="1267"/>
                    <a:pt x="392" y="1195"/>
                    <a:pt x="496" y="1371"/>
                  </a:cubicBezTo>
                  <a:cubicBezTo>
                    <a:pt x="600" y="1547"/>
                    <a:pt x="899" y="1406"/>
                    <a:pt x="944" y="1459"/>
                  </a:cubicBezTo>
                  <a:cubicBezTo>
                    <a:pt x="989" y="1512"/>
                    <a:pt x="759" y="1635"/>
                    <a:pt x="768" y="1691"/>
                  </a:cubicBezTo>
                  <a:cubicBezTo>
                    <a:pt x="880" y="1835"/>
                    <a:pt x="932" y="1796"/>
                    <a:pt x="1000" y="1795"/>
                  </a:cubicBezTo>
                  <a:lnTo>
                    <a:pt x="1320" y="1579"/>
                  </a:lnTo>
                  <a:cubicBezTo>
                    <a:pt x="1332" y="1612"/>
                    <a:pt x="832" y="1803"/>
                    <a:pt x="1072" y="1995"/>
                  </a:cubicBezTo>
                  <a:cubicBezTo>
                    <a:pt x="1560" y="2011"/>
                    <a:pt x="2005" y="1870"/>
                    <a:pt x="2176" y="1747"/>
                  </a:cubicBezTo>
                  <a:cubicBezTo>
                    <a:pt x="2200" y="1555"/>
                    <a:pt x="2320" y="1523"/>
                    <a:pt x="2096" y="1259"/>
                  </a:cubicBezTo>
                  <a:cubicBezTo>
                    <a:pt x="1872" y="995"/>
                    <a:pt x="1103" y="326"/>
                    <a:pt x="832" y="163"/>
                  </a:cubicBezTo>
                  <a:cubicBezTo>
                    <a:pt x="561" y="0"/>
                    <a:pt x="586" y="236"/>
                    <a:pt x="472" y="28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e1ff"/>
                </a:gs>
              </a:gsLst>
              <a:lin ang="10800000"/>
            </a:gradFill>
            <a:ln w="28440">
              <a:solidFill>
                <a:srgbClr val="e1e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53560" y="1338840"/>
              <a:ext cx="2499480" cy="2063160"/>
            </a:xfrm>
            <a:custGeom>
              <a:avLst/>
              <a:gdLst/>
              <a:ahLst/>
              <a:rect l="l" t="t" r="r" b="b"/>
              <a:pathLst>
                <a:path w="1768" h="1368">
                  <a:moveTo>
                    <a:pt x="1768" y="1272"/>
                  </a:moveTo>
                  <a:cubicBezTo>
                    <a:pt x="1664" y="1072"/>
                    <a:pt x="1351" y="779"/>
                    <a:pt x="1096" y="576"/>
                  </a:cubicBezTo>
                  <a:cubicBezTo>
                    <a:pt x="841" y="373"/>
                    <a:pt x="401" y="112"/>
                    <a:pt x="240" y="56"/>
                  </a:cubicBezTo>
                  <a:cubicBezTo>
                    <a:pt x="79" y="0"/>
                    <a:pt x="0" y="119"/>
                    <a:pt x="128" y="240"/>
                  </a:cubicBezTo>
                  <a:cubicBezTo>
                    <a:pt x="256" y="361"/>
                    <a:pt x="761" y="603"/>
                    <a:pt x="1008" y="784"/>
                  </a:cubicBezTo>
                  <a:cubicBezTo>
                    <a:pt x="1255" y="965"/>
                    <a:pt x="1488" y="1288"/>
                    <a:pt x="1608" y="1328"/>
                  </a:cubicBezTo>
                  <a:cubicBezTo>
                    <a:pt x="1728" y="1320"/>
                    <a:pt x="1696" y="1368"/>
                    <a:pt x="1768" y="127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e1ff"/>
                </a:gs>
              </a:gsLst>
              <a:lin ang="10800000"/>
            </a:gradFill>
            <a:ln w="28440">
              <a:solidFill>
                <a:srgbClr val="e1e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6560" y="1700640"/>
              <a:ext cx="327960" cy="28944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33360" y="2931840"/>
              <a:ext cx="237240" cy="27720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76240" y="3824640"/>
              <a:ext cx="339120" cy="24120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74360" y="4874400"/>
              <a:ext cx="259920" cy="10872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30880" y="5405760"/>
              <a:ext cx="237240" cy="24084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49560" y="5900400"/>
              <a:ext cx="293760" cy="42228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07360" y="6165720"/>
              <a:ext cx="361800" cy="30168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81960" y="4874400"/>
              <a:ext cx="225720" cy="30168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824280" y="2762280"/>
            <a:ext cx="1558800" cy="4079880"/>
          </a:xfrm>
          <a:custGeom>
            <a:avLst/>
            <a:gdLst/>
            <a:ahLst/>
            <a:rect l="l" t="t" r="r" b="b"/>
            <a:pathLst>
              <a:path w="1103" h="2705">
                <a:moveTo>
                  <a:pt x="72" y="2137"/>
                </a:moveTo>
                <a:cubicBezTo>
                  <a:pt x="0" y="1722"/>
                  <a:pt x="72" y="185"/>
                  <a:pt x="72" y="185"/>
                </a:cubicBezTo>
                <a:cubicBezTo>
                  <a:pt x="72" y="185"/>
                  <a:pt x="173" y="50"/>
                  <a:pt x="296" y="25"/>
                </a:cubicBezTo>
                <a:cubicBezTo>
                  <a:pt x="419" y="0"/>
                  <a:pt x="687" y="0"/>
                  <a:pt x="808" y="33"/>
                </a:cubicBezTo>
                <a:cubicBezTo>
                  <a:pt x="929" y="66"/>
                  <a:pt x="1024" y="201"/>
                  <a:pt x="1024" y="201"/>
                </a:cubicBezTo>
                <a:cubicBezTo>
                  <a:pt x="1024" y="201"/>
                  <a:pt x="1103" y="1665"/>
                  <a:pt x="1016" y="2073"/>
                </a:cubicBezTo>
                <a:cubicBezTo>
                  <a:pt x="929" y="2481"/>
                  <a:pt x="728" y="2705"/>
                  <a:pt x="512" y="2681"/>
                </a:cubicBezTo>
                <a:cubicBezTo>
                  <a:pt x="355" y="2692"/>
                  <a:pt x="144" y="2552"/>
                  <a:pt x="72" y="2137"/>
                </a:cubicBezTo>
                <a:close/>
              </a:path>
            </a:pathLst>
          </a:custGeom>
          <a:solidFill>
            <a:srgbClr val="e1e1ff"/>
          </a:solidFill>
          <a:ln w="28440">
            <a:solidFill>
              <a:srgbClr val="92aad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af"/>
                </a:solidFill>
                <a:latin typeface="Arial"/>
              </a:rPr>
              <a:t>Le Manager</a:t>
            </a:r>
            <a:endParaRPr b="0" lang="en-US" sz="35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30480" y="5418000"/>
            <a:ext cx="1301760" cy="1266840"/>
          </a:xfrm>
          <a:prstGeom prst="ellipse">
            <a:avLst/>
          </a:prstGeom>
          <a:solidFill>
            <a:srgbClr val="e1e1ff"/>
          </a:solidFill>
          <a:ln w="936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sz="1800" spc="-1" strike="noStrike">
                <a:solidFill>
                  <a:srgbClr val="a50021"/>
                </a:solidFill>
                <a:latin typeface="Arial"/>
              </a:rPr>
              <a:t>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Gestion 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sz="1800" spc="-1" strike="noStrike">
                <a:solidFill>
                  <a:srgbClr val="a50021"/>
                </a:solidFill>
                <a:latin typeface="Arial"/>
              </a:rPr>
              <a:t>Conflit</a:t>
            </a: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30480" y="3763800"/>
            <a:ext cx="1324080" cy="905040"/>
          </a:xfrm>
          <a:prstGeom prst="can">
            <a:avLst>
              <a:gd name="adj" fmla="val 25000"/>
            </a:avLst>
          </a:prstGeom>
          <a:solidFill>
            <a:srgbClr val="e1e1ff"/>
          </a:solidFill>
          <a:ln w="936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sz="1800" spc="-1" strike="noStrike">
                <a:solidFill>
                  <a:srgbClr val="a50021"/>
                </a:solidFill>
                <a:latin typeface="Arial"/>
              </a:rPr>
              <a:t>Nego</a:t>
            </a:r>
            <a:r>
              <a:rPr b="0" lang="fr-FR" sz="1800" spc="-1" strike="noStrike">
                <a:solidFill>
                  <a:srgbClr val="a50021"/>
                </a:solidFill>
                <a:latin typeface="Arial"/>
              </a:rPr>
              <a:t>t</a:t>
            </a:r>
            <a:r>
              <a:rPr b="0" sz="1800" spc="-1" strike="noStrike">
                <a:solidFill>
                  <a:srgbClr val="a50021"/>
                </a:solidFill>
                <a:latin typeface="Arial"/>
              </a:rPr>
              <a:t>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sz="1800" spc="-1" strike="noStrike">
                <a:solidFill>
                  <a:srgbClr val="a50021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97360" y="4608360"/>
            <a:ext cx="1380960" cy="844560"/>
          </a:xfrm>
          <a:prstGeom prst="can">
            <a:avLst>
              <a:gd name="adj" fmla="val 7666"/>
            </a:avLst>
          </a:prstGeom>
          <a:solidFill>
            <a:srgbClr val="d1d1ff"/>
          </a:solidFill>
          <a:ln w="936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Gestion 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équ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Réun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4600" y="3005280"/>
            <a:ext cx="1288800" cy="904680"/>
          </a:xfrm>
          <a:prstGeom prst="can">
            <a:avLst>
              <a:gd name="adj" fmla="val 7666"/>
            </a:avLst>
          </a:prstGeom>
          <a:solidFill>
            <a:srgbClr val="d1d1ff"/>
          </a:solidFill>
          <a:ln w="936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sz="1800" spc="-1" strike="noStrike">
                <a:solidFill>
                  <a:srgbClr val="a50021"/>
                </a:solidFill>
                <a:latin typeface="Arial"/>
              </a:rPr>
              <a:t>Commun</a:t>
            </a: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i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cation 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sz="1800" spc="-1" strike="noStrike">
                <a:solidFill>
                  <a:srgbClr val="a50021"/>
                </a:solidFill>
                <a:latin typeface="Arial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2184480"/>
            <a:ext cx="1086120" cy="892080"/>
          </a:xfrm>
          <a:prstGeom prst="ellipse">
            <a:avLst/>
          </a:prstGeom>
          <a:solidFill>
            <a:srgbClr val="e1e1ff"/>
          </a:solidFill>
          <a:ln w="936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ô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â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44080" y="1292400"/>
            <a:ext cx="153036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600" spc="-1" strike="noStrike">
                <a:solidFill>
                  <a:srgbClr val="3300af"/>
                </a:solidFill>
                <a:latin typeface="Arial"/>
              </a:rPr>
              <a:t>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39040" y="2354400"/>
            <a:ext cx="1676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sz="2200" spc="-1" strike="noStrike">
                <a:solidFill>
                  <a:srgbClr val="a50021"/>
                </a:solidFill>
                <a:latin typeface="Arial"/>
              </a:rPr>
              <a:t>Plan</a:t>
            </a:r>
            <a:r>
              <a:rPr b="0" lang="en-GB" sz="2200" spc="-1" strike="noStrike">
                <a:solidFill>
                  <a:srgbClr val="a50021"/>
                </a:solidFill>
                <a:latin typeface="Arial"/>
              </a:rPr>
              <a:t>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62400" y="2354400"/>
            <a:ext cx="195696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sz="2200" spc="-1" strike="noStrike">
                <a:solidFill>
                  <a:srgbClr val="a50021"/>
                </a:solidFill>
                <a:latin typeface="Arial"/>
              </a:rPr>
              <a:t>Analys</a:t>
            </a:r>
            <a:r>
              <a:rPr b="0" lang="en-GB" sz="2200" spc="-1" strike="noStrike">
                <a:solidFill>
                  <a:srgbClr val="a50021"/>
                </a:solidFill>
                <a:latin typeface="Arial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200" spc="-1" strike="noStrike">
                <a:solidFill>
                  <a:srgbClr val="a50021"/>
                </a:solidFill>
                <a:latin typeface="Arial"/>
              </a:rPr>
              <a:t>Institutionnel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51400" y="3497400"/>
            <a:ext cx="24210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200" spc="-1" strike="noStrike">
                <a:solidFill>
                  <a:srgbClr val="a50021"/>
                </a:solidFill>
                <a:latin typeface="Arial"/>
              </a:rPr>
              <a:t>Analy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sz="2200" spc="-1" strike="noStrike">
                <a:solidFill>
                  <a:srgbClr val="a50021"/>
                </a:solidFill>
                <a:latin typeface="Arial"/>
              </a:rPr>
              <a:t>Organisation</a:t>
            </a:r>
            <a:r>
              <a:rPr b="0" lang="en-GB" sz="2200" spc="-1" strike="noStrike">
                <a:solidFill>
                  <a:srgbClr val="a50021"/>
                </a:solidFill>
                <a:latin typeface="Arial"/>
              </a:rPr>
              <a:t>nel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60600" y="5262480"/>
            <a:ext cx="17665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200" spc="-1" strike="noStrike">
                <a:solidFill>
                  <a:srgbClr val="a50021"/>
                </a:solidFill>
                <a:latin typeface="Arial"/>
              </a:rPr>
              <a:t>Gestion 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sz="2200" spc="-1" strike="noStrike">
                <a:solidFill>
                  <a:srgbClr val="a50021"/>
                </a:solidFill>
                <a:latin typeface="Arial"/>
              </a:rPr>
              <a:t>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72560" y="3497400"/>
            <a:ext cx="774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200" spc="-1" strike="noStrike">
                <a:solidFill>
                  <a:srgbClr val="a50021"/>
                </a:solidFill>
                <a:latin typeface="Arial"/>
              </a:rPr>
              <a:t>Suiv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59440" y="5262480"/>
            <a:ext cx="14738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sz="2200" spc="-1" strike="noStrike">
                <a:solidFill>
                  <a:srgbClr val="a50021"/>
                </a:solidFill>
                <a:latin typeface="Arial"/>
              </a:rPr>
              <a:t>Eval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1244520"/>
            <a:ext cx="171936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sz="2200" spc="-1" strike="noStrike">
                <a:solidFill>
                  <a:srgbClr val="3300af"/>
                </a:solidFill>
                <a:latin typeface="Arial"/>
              </a:rPr>
              <a:t>Project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sz="2200" spc="-1" strike="noStrike">
                <a:solidFill>
                  <a:srgbClr val="3300af"/>
                </a:solidFill>
                <a:latin typeface="Arial"/>
              </a:rPr>
              <a:t>Program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14000" y="1401840"/>
            <a:ext cx="18900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sz="2200" spc="-1" strike="noStrike">
                <a:solidFill>
                  <a:srgbClr val="3300af"/>
                </a:solidFill>
                <a:latin typeface="Arial"/>
              </a:rPr>
              <a:t>Organis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-326520" y="5664240"/>
            <a:ext cx="1082520" cy="1211400"/>
            <a:chOff x="-326520" y="5664240"/>
            <a:chExt cx="1082520" cy="1211400"/>
          </a:xfrm>
        </p:grpSpPr>
        <p:grpSp>
          <p:nvGrpSpPr>
            <p:cNvPr id="134" name=""/>
            <p:cNvGrpSpPr/>
            <p:nvPr/>
          </p:nvGrpSpPr>
          <p:grpSpPr>
            <a:xfrm>
              <a:off x="-294480" y="5725080"/>
              <a:ext cx="1003680" cy="1137240"/>
              <a:chOff x="-294480" y="5725080"/>
              <a:chExt cx="1003680" cy="113724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-82080" y="5725080"/>
                <a:ext cx="577800" cy="1137240"/>
                <a:chOff x="-82080" y="5725080"/>
                <a:chExt cx="577800" cy="1137240"/>
              </a:xfrm>
            </p:grpSpPr>
            <p:sp>
              <p:nvSpPr>
                <p:cNvPr id="136" name=""/>
                <p:cNvSpPr/>
                <p:nvPr/>
              </p:nvSpPr>
              <p:spPr>
                <a:xfrm rot="1454400">
                  <a:off x="254880" y="5729400"/>
                  <a:ext cx="136800" cy="53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rot="1454400">
                  <a:off x="21960" y="6321240"/>
                  <a:ext cx="137160" cy="53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-294480" y="5996160"/>
                <a:ext cx="1003680" cy="603000"/>
                <a:chOff x="-294480" y="5996160"/>
                <a:chExt cx="1003680" cy="603000"/>
              </a:xfrm>
            </p:grpSpPr>
            <p:sp>
              <p:nvSpPr>
                <p:cNvPr id="139" name=""/>
                <p:cNvSpPr/>
                <p:nvPr/>
              </p:nvSpPr>
              <p:spPr>
                <a:xfrm rot="6854400">
                  <a:off x="385560" y="6198840"/>
                  <a:ext cx="157680" cy="46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rot="6854400">
                  <a:off x="-128160" y="5930640"/>
                  <a:ext cx="157680" cy="46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" name=""/>
            <p:cNvGrpSpPr/>
            <p:nvPr/>
          </p:nvGrpSpPr>
          <p:grpSpPr>
            <a:xfrm>
              <a:off x="-326520" y="5779080"/>
              <a:ext cx="1082520" cy="1010520"/>
              <a:chOff x="-326520" y="5779080"/>
              <a:chExt cx="1082520" cy="101052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-90360" y="5779080"/>
                <a:ext cx="603720" cy="1010520"/>
                <a:chOff x="-90360" y="5779080"/>
                <a:chExt cx="603720" cy="1010520"/>
              </a:xfrm>
            </p:grpSpPr>
            <p:sp>
              <p:nvSpPr>
                <p:cNvPr id="143" name=""/>
                <p:cNvSpPr/>
                <p:nvPr/>
              </p:nvSpPr>
              <p:spPr>
                <a:xfrm rot="19905600">
                  <a:off x="10440" y="5788440"/>
                  <a:ext cx="157680" cy="46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rot="19905600">
                  <a:off x="254880" y="6314040"/>
                  <a:ext cx="157680" cy="46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-326520" y="5935680"/>
                <a:ext cx="1082520" cy="702360"/>
                <a:chOff x="-326520" y="5935680"/>
                <a:chExt cx="1082520" cy="702360"/>
              </a:xfrm>
            </p:grpSpPr>
            <p:sp>
              <p:nvSpPr>
                <p:cNvPr id="146" name=""/>
                <p:cNvSpPr/>
                <p:nvPr/>
              </p:nvSpPr>
              <p:spPr>
                <a:xfrm rot="3705600">
                  <a:off x="418680" y="5854320"/>
                  <a:ext cx="136800" cy="53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3705600">
                  <a:off x="-126000" y="6182280"/>
                  <a:ext cx="137160" cy="53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-315720" y="5664240"/>
              <a:ext cx="1059480" cy="1176120"/>
              <a:chOff x="-315720" y="5664240"/>
              <a:chExt cx="1059480" cy="117612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64080" y="5664240"/>
                <a:ext cx="294840" cy="1176120"/>
                <a:chOff x="64080" y="5664240"/>
                <a:chExt cx="294840" cy="1176120"/>
              </a:xfrm>
            </p:grpSpPr>
            <p:sp>
              <p:nvSpPr>
                <p:cNvPr id="150" name=""/>
                <p:cNvSpPr/>
                <p:nvPr/>
              </p:nvSpPr>
              <p:spPr>
                <a:xfrm rot="21224400">
                  <a:off x="92880" y="5670000"/>
                  <a:ext cx="136800" cy="53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rot="21224400">
                  <a:off x="192960" y="6297840"/>
                  <a:ext cx="137160" cy="53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-315720" y="6137640"/>
                <a:ext cx="1059480" cy="237240"/>
                <a:chOff x="-315720" y="6137640"/>
                <a:chExt cx="1059480" cy="237240"/>
              </a:xfrm>
            </p:grpSpPr>
            <p:sp>
              <p:nvSpPr>
                <p:cNvPr id="153" name=""/>
                <p:cNvSpPr/>
                <p:nvPr/>
              </p:nvSpPr>
              <p:spPr>
                <a:xfrm rot="5023800">
                  <a:off x="424440" y="6008400"/>
                  <a:ext cx="157680" cy="46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rot="5023800">
                  <a:off x="-154440" y="6037920"/>
                  <a:ext cx="157680" cy="46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"/>
            <p:cNvGrpSpPr/>
            <p:nvPr/>
          </p:nvGrpSpPr>
          <p:grpSpPr>
            <a:xfrm>
              <a:off x="-241200" y="5784840"/>
              <a:ext cx="912960" cy="938160"/>
              <a:chOff x="-241200" y="5784840"/>
              <a:chExt cx="912960" cy="93816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-197640" y="5811480"/>
                <a:ext cx="818280" cy="881640"/>
                <a:chOff x="-197640" y="5811480"/>
                <a:chExt cx="818280" cy="881640"/>
              </a:xfrm>
            </p:grpSpPr>
            <p:sp>
              <p:nvSpPr>
                <p:cNvPr id="157" name=""/>
                <p:cNvSpPr/>
                <p:nvPr/>
              </p:nvSpPr>
              <p:spPr>
                <a:xfrm rot="18944400">
                  <a:off x="-57240" y="5800320"/>
                  <a:ext cx="157680" cy="46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rot="18944400">
                  <a:off x="322560" y="6238080"/>
                  <a:ext cx="157680" cy="46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-241200" y="5784840"/>
                <a:ext cx="912960" cy="938160"/>
                <a:chOff x="-241200" y="5784840"/>
                <a:chExt cx="912960" cy="938160"/>
              </a:xfrm>
            </p:grpSpPr>
            <p:sp>
              <p:nvSpPr>
                <p:cNvPr id="160" name=""/>
                <p:cNvSpPr/>
                <p:nvPr/>
              </p:nvSpPr>
              <p:spPr>
                <a:xfrm rot="2743800">
                  <a:off x="363600" y="5752800"/>
                  <a:ext cx="136800" cy="53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rot="2743800">
                  <a:off x="-69480" y="6218280"/>
                  <a:ext cx="137160" cy="53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"/>
            <p:cNvGrpSpPr/>
            <p:nvPr/>
          </p:nvGrpSpPr>
          <p:grpSpPr>
            <a:xfrm>
              <a:off x="-316440" y="5693040"/>
              <a:ext cx="1050120" cy="1182600"/>
              <a:chOff x="-316440" y="5693040"/>
              <a:chExt cx="1050120" cy="118260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48960" y="5693040"/>
                <a:ext cx="316080" cy="1182600"/>
                <a:chOff x="48960" y="5693040"/>
                <a:chExt cx="316080" cy="1182600"/>
              </a:xfrm>
            </p:grpSpPr>
            <p:sp>
              <p:nvSpPr>
                <p:cNvPr id="164" name=""/>
                <p:cNvSpPr/>
                <p:nvPr/>
              </p:nvSpPr>
              <p:spPr>
                <a:xfrm rot="624000">
                  <a:off x="180720" y="5700960"/>
                  <a:ext cx="136800" cy="53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rot="624000">
                  <a:off x="96120" y="6331320"/>
                  <a:ext cx="137160" cy="53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-316440" y="6100200"/>
                <a:ext cx="1050120" cy="376920"/>
                <a:chOff x="-316440" y="6100200"/>
                <a:chExt cx="1050120" cy="376920"/>
              </a:xfrm>
            </p:grpSpPr>
            <p:sp>
              <p:nvSpPr>
                <p:cNvPr id="167" name=""/>
                <p:cNvSpPr/>
                <p:nvPr/>
              </p:nvSpPr>
              <p:spPr>
                <a:xfrm rot="6024600">
                  <a:off x="411480" y="6124320"/>
                  <a:ext cx="157680" cy="46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rot="6024600">
                  <a:off x="-151560" y="5986800"/>
                  <a:ext cx="157680" cy="46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9" name=""/>
            <p:cNvGrpSpPr/>
            <p:nvPr/>
          </p:nvGrpSpPr>
          <p:grpSpPr>
            <a:xfrm>
              <a:off x="-259920" y="5734440"/>
              <a:ext cx="943200" cy="1073880"/>
              <a:chOff x="-259920" y="5734440"/>
              <a:chExt cx="943200" cy="107388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-259920" y="5905800"/>
                <a:ext cx="943200" cy="730080"/>
                <a:chOff x="-259920" y="5905800"/>
                <a:chExt cx="943200" cy="730080"/>
              </a:xfrm>
            </p:grpSpPr>
            <p:sp>
              <p:nvSpPr>
                <p:cNvPr id="171" name=""/>
                <p:cNvSpPr/>
                <p:nvPr/>
              </p:nvSpPr>
              <p:spPr>
                <a:xfrm rot="18183600">
                  <a:off x="-100440" y="5865840"/>
                  <a:ext cx="157680" cy="46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rot="18183600">
                  <a:off x="366120" y="6209640"/>
                  <a:ext cx="157680" cy="46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-148680" y="5734440"/>
                <a:ext cx="728280" cy="1073880"/>
                <a:chOff x="-148680" y="5734440"/>
                <a:chExt cx="728280" cy="1073880"/>
              </a:xfrm>
            </p:grpSpPr>
            <p:sp>
              <p:nvSpPr>
                <p:cNvPr id="174" name=""/>
                <p:cNvSpPr/>
                <p:nvPr/>
              </p:nvSpPr>
              <p:spPr>
                <a:xfrm rot="1983000">
                  <a:off x="307080" y="5728320"/>
                  <a:ext cx="136800" cy="53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rot="1983000">
                  <a:off x="-13320" y="6277680"/>
                  <a:ext cx="137160" cy="53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6" name=""/>
            <p:cNvSpPr/>
            <p:nvPr/>
          </p:nvSpPr>
          <p:spPr>
            <a:xfrm>
              <a:off x="114840" y="6140520"/>
              <a:ext cx="196920" cy="24012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8001360" y="3797640"/>
            <a:ext cx="924480" cy="1043280"/>
            <a:chOff x="8001360" y="3797640"/>
            <a:chExt cx="924480" cy="1043280"/>
          </a:xfrm>
        </p:grpSpPr>
        <p:grpSp>
          <p:nvGrpSpPr>
            <p:cNvPr id="178" name=""/>
            <p:cNvGrpSpPr/>
            <p:nvPr/>
          </p:nvGrpSpPr>
          <p:grpSpPr>
            <a:xfrm>
              <a:off x="8047440" y="3848400"/>
              <a:ext cx="821880" cy="981720"/>
              <a:chOff x="8047440" y="3848400"/>
              <a:chExt cx="821880" cy="98172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8215920" y="3848400"/>
                <a:ext cx="482760" cy="981720"/>
                <a:chOff x="8215920" y="3848400"/>
                <a:chExt cx="482760" cy="981720"/>
              </a:xfrm>
            </p:grpSpPr>
            <p:sp>
              <p:nvSpPr>
                <p:cNvPr id="180" name=""/>
                <p:cNvSpPr/>
                <p:nvPr/>
              </p:nvSpPr>
              <p:spPr>
                <a:xfrm rot="1454400">
                  <a:off x="8496360" y="3850560"/>
                  <a:ext cx="11160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1454400">
                  <a:off x="8306280" y="4362840"/>
                  <a:ext cx="11196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8047440" y="4086360"/>
                <a:ext cx="821880" cy="513000"/>
                <a:chOff x="8047440" y="4086360"/>
                <a:chExt cx="821880" cy="513000"/>
              </a:xfrm>
            </p:grpSpPr>
            <p:sp>
              <p:nvSpPr>
                <p:cNvPr id="183" name=""/>
                <p:cNvSpPr/>
                <p:nvPr/>
              </p:nvSpPr>
              <p:spPr>
                <a:xfrm rot="6854400">
                  <a:off x="8599680" y="426888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rot="6854400">
                  <a:off x="8180280" y="403668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5" name=""/>
            <p:cNvGrpSpPr/>
            <p:nvPr/>
          </p:nvGrpSpPr>
          <p:grpSpPr>
            <a:xfrm>
              <a:off x="8001360" y="3911760"/>
              <a:ext cx="924480" cy="838800"/>
              <a:chOff x="8001360" y="3911760"/>
              <a:chExt cx="924480" cy="83880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8215560" y="3911760"/>
                <a:ext cx="491400" cy="838800"/>
                <a:chOff x="8215560" y="3911760"/>
                <a:chExt cx="491400" cy="838800"/>
              </a:xfrm>
            </p:grpSpPr>
            <p:sp>
              <p:nvSpPr>
                <p:cNvPr id="187" name=""/>
                <p:cNvSpPr/>
                <p:nvPr/>
              </p:nvSpPr>
              <p:spPr>
                <a:xfrm rot="19905600">
                  <a:off x="8297280" y="392112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19905600">
                  <a:off x="8488440" y="436068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8001360" y="4028400"/>
                <a:ext cx="924480" cy="608760"/>
                <a:chOff x="8001360" y="4028400"/>
                <a:chExt cx="924480" cy="608760"/>
              </a:xfrm>
            </p:grpSpPr>
            <p:sp>
              <p:nvSpPr>
                <p:cNvPr id="190" name=""/>
                <p:cNvSpPr/>
                <p:nvPr/>
              </p:nvSpPr>
              <p:spPr>
                <a:xfrm rot="3705600">
                  <a:off x="8638920" y="3954960"/>
                  <a:ext cx="11160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rot="3705600">
                  <a:off x="8175960" y="4245840"/>
                  <a:ext cx="11196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2" name=""/>
            <p:cNvGrpSpPr/>
            <p:nvPr/>
          </p:nvGrpSpPr>
          <p:grpSpPr>
            <a:xfrm>
              <a:off x="8027280" y="3797640"/>
              <a:ext cx="871920" cy="1011600"/>
              <a:chOff x="8027280" y="3797640"/>
              <a:chExt cx="871920" cy="101160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8331840" y="3797640"/>
                <a:ext cx="258120" cy="1011600"/>
                <a:chOff x="8331840" y="3797640"/>
                <a:chExt cx="258120" cy="1011600"/>
              </a:xfrm>
            </p:grpSpPr>
            <p:sp>
              <p:nvSpPr>
                <p:cNvPr id="194" name=""/>
                <p:cNvSpPr/>
                <p:nvPr/>
              </p:nvSpPr>
              <p:spPr>
                <a:xfrm rot="21224400">
                  <a:off x="8356680" y="3802320"/>
                  <a:ext cx="11160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rot="21224400">
                  <a:off x="8452800" y="4340160"/>
                  <a:ext cx="11196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8027280" y="4211280"/>
                <a:ext cx="871920" cy="190080"/>
                <a:chOff x="8027280" y="4211280"/>
                <a:chExt cx="871920" cy="190080"/>
              </a:xfrm>
            </p:grpSpPr>
            <p:sp>
              <p:nvSpPr>
                <p:cNvPr id="197" name=""/>
                <p:cNvSpPr/>
                <p:nvPr/>
              </p:nvSpPr>
              <p:spPr>
                <a:xfrm rot="5023800">
                  <a:off x="8634600" y="410976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5023800">
                  <a:off x="8155440" y="412272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9" name=""/>
            <p:cNvGrpSpPr/>
            <p:nvPr/>
          </p:nvGrpSpPr>
          <p:grpSpPr>
            <a:xfrm>
              <a:off x="8076240" y="3898440"/>
              <a:ext cx="775080" cy="811440"/>
              <a:chOff x="8076240" y="3898440"/>
              <a:chExt cx="775080" cy="81144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8127000" y="3934800"/>
                <a:ext cx="668520" cy="737280"/>
                <a:chOff x="8127000" y="3934800"/>
                <a:chExt cx="668520" cy="737280"/>
              </a:xfrm>
            </p:grpSpPr>
            <p:sp>
              <p:nvSpPr>
                <p:cNvPr id="201" name=""/>
                <p:cNvSpPr/>
                <p:nvPr/>
              </p:nvSpPr>
              <p:spPr>
                <a:xfrm rot="18944400">
                  <a:off x="8240040" y="392832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8944400">
                  <a:off x="8545320" y="429804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8076240" y="3898440"/>
                <a:ext cx="775080" cy="811440"/>
                <a:chOff x="8076240" y="3898440"/>
                <a:chExt cx="775080" cy="811440"/>
              </a:xfrm>
            </p:grpSpPr>
            <p:sp>
              <p:nvSpPr>
                <p:cNvPr id="204" name=""/>
                <p:cNvSpPr/>
                <p:nvPr/>
              </p:nvSpPr>
              <p:spPr>
                <a:xfrm rot="2743800">
                  <a:off x="8590320" y="3868200"/>
                  <a:ext cx="11160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2743800">
                  <a:off x="8225640" y="4275360"/>
                  <a:ext cx="11196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6" name=""/>
            <p:cNvGrpSpPr/>
            <p:nvPr/>
          </p:nvGrpSpPr>
          <p:grpSpPr>
            <a:xfrm>
              <a:off x="8028720" y="3821040"/>
              <a:ext cx="861120" cy="1019880"/>
              <a:chOff x="8028720" y="3821040"/>
              <a:chExt cx="861120" cy="101988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8329680" y="3821040"/>
                <a:ext cx="255600" cy="1019880"/>
                <a:chOff x="8329680" y="3821040"/>
                <a:chExt cx="255600" cy="1019880"/>
              </a:xfrm>
            </p:grpSpPr>
            <p:sp>
              <p:nvSpPr>
                <p:cNvPr id="208" name=""/>
                <p:cNvSpPr/>
                <p:nvPr/>
              </p:nvSpPr>
              <p:spPr>
                <a:xfrm rot="624000">
                  <a:off x="8432640" y="3827160"/>
                  <a:ext cx="11160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624000">
                  <a:off x="8370720" y="4370040"/>
                  <a:ext cx="11196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8028720" y="4170240"/>
                <a:ext cx="861120" cy="328320"/>
                <a:chOff x="8028720" y="4170240"/>
                <a:chExt cx="861120" cy="328320"/>
              </a:xfrm>
            </p:grpSpPr>
            <p:sp>
              <p:nvSpPr>
                <p:cNvPr id="211" name=""/>
                <p:cNvSpPr/>
                <p:nvPr/>
              </p:nvSpPr>
              <p:spPr>
                <a:xfrm rot="6024600">
                  <a:off x="8622000" y="420696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6024600">
                  <a:off x="8159400" y="408168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8075160" y="3855960"/>
              <a:ext cx="772200" cy="927360"/>
              <a:chOff x="8075160" y="3855960"/>
              <a:chExt cx="772200" cy="927360"/>
            </a:xfrm>
          </p:grpSpPr>
          <p:grpSp>
            <p:nvGrpSpPr>
              <p:cNvPr id="214" name=""/>
              <p:cNvGrpSpPr/>
              <p:nvPr/>
            </p:nvGrpSpPr>
            <p:grpSpPr>
              <a:xfrm>
                <a:off x="8075160" y="4011480"/>
                <a:ext cx="772200" cy="615600"/>
                <a:chOff x="8075160" y="4011480"/>
                <a:chExt cx="772200" cy="615600"/>
              </a:xfrm>
            </p:grpSpPr>
            <p:sp>
              <p:nvSpPr>
                <p:cNvPr id="215" name=""/>
                <p:cNvSpPr/>
                <p:nvPr/>
              </p:nvSpPr>
              <p:spPr>
                <a:xfrm rot="18183600">
                  <a:off x="8203320" y="398232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rot="18183600">
                  <a:off x="8582400" y="427608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8157240" y="3855960"/>
                <a:ext cx="613440" cy="927360"/>
                <a:chOff x="8157240" y="3855960"/>
                <a:chExt cx="613440" cy="927360"/>
              </a:xfrm>
            </p:grpSpPr>
            <p:sp>
              <p:nvSpPr>
                <p:cNvPr id="218" name=""/>
                <p:cNvSpPr/>
                <p:nvPr/>
              </p:nvSpPr>
              <p:spPr>
                <a:xfrm rot="1983000">
                  <a:off x="8541360" y="3848760"/>
                  <a:ext cx="11160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rot="1983000">
                  <a:off x="8274960" y="4325760"/>
                  <a:ext cx="11196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0" name=""/>
            <p:cNvSpPr/>
            <p:nvPr/>
          </p:nvSpPr>
          <p:spPr>
            <a:xfrm>
              <a:off x="8382600" y="4206600"/>
              <a:ext cx="160560" cy="20808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13040" y="5161320"/>
            <a:ext cx="924480" cy="1043280"/>
            <a:chOff x="113040" y="5161320"/>
            <a:chExt cx="924480" cy="1043280"/>
          </a:xfrm>
        </p:grpSpPr>
        <p:grpSp>
          <p:nvGrpSpPr>
            <p:cNvPr id="222" name=""/>
            <p:cNvGrpSpPr/>
            <p:nvPr/>
          </p:nvGrpSpPr>
          <p:grpSpPr>
            <a:xfrm>
              <a:off x="159120" y="5212080"/>
              <a:ext cx="821880" cy="981720"/>
              <a:chOff x="159120" y="5212080"/>
              <a:chExt cx="821880" cy="98172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327600" y="5212080"/>
                <a:ext cx="482760" cy="981720"/>
                <a:chOff x="327600" y="5212080"/>
                <a:chExt cx="482760" cy="981720"/>
              </a:xfrm>
            </p:grpSpPr>
            <p:sp>
              <p:nvSpPr>
                <p:cNvPr id="224" name=""/>
                <p:cNvSpPr/>
                <p:nvPr/>
              </p:nvSpPr>
              <p:spPr>
                <a:xfrm rot="1454400">
                  <a:off x="608040" y="5214240"/>
                  <a:ext cx="11160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rot="1454400">
                  <a:off x="417960" y="5726520"/>
                  <a:ext cx="11196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159120" y="5450040"/>
                <a:ext cx="821880" cy="513000"/>
                <a:chOff x="159120" y="5450040"/>
                <a:chExt cx="821880" cy="513000"/>
              </a:xfrm>
            </p:grpSpPr>
            <p:sp>
              <p:nvSpPr>
                <p:cNvPr id="227" name=""/>
                <p:cNvSpPr/>
                <p:nvPr/>
              </p:nvSpPr>
              <p:spPr>
                <a:xfrm rot="6854400">
                  <a:off x="711360" y="563256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rot="6854400">
                  <a:off x="291960" y="540036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13040" y="5275440"/>
              <a:ext cx="924480" cy="838800"/>
              <a:chOff x="113040" y="5275440"/>
              <a:chExt cx="924480" cy="83880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327240" y="5275440"/>
                <a:ext cx="491400" cy="838800"/>
                <a:chOff x="327240" y="5275440"/>
                <a:chExt cx="491400" cy="838800"/>
              </a:xfrm>
            </p:grpSpPr>
            <p:sp>
              <p:nvSpPr>
                <p:cNvPr id="231" name=""/>
                <p:cNvSpPr/>
                <p:nvPr/>
              </p:nvSpPr>
              <p:spPr>
                <a:xfrm rot="19905600">
                  <a:off x="408960" y="528480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19905600">
                  <a:off x="600120" y="572436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113040" y="5392080"/>
                <a:ext cx="924480" cy="608760"/>
                <a:chOff x="113040" y="5392080"/>
                <a:chExt cx="924480" cy="608760"/>
              </a:xfrm>
            </p:grpSpPr>
            <p:sp>
              <p:nvSpPr>
                <p:cNvPr id="234" name=""/>
                <p:cNvSpPr/>
                <p:nvPr/>
              </p:nvSpPr>
              <p:spPr>
                <a:xfrm rot="3705600">
                  <a:off x="750600" y="5318640"/>
                  <a:ext cx="11160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rot="3705600">
                  <a:off x="287640" y="5609520"/>
                  <a:ext cx="11196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6" name=""/>
            <p:cNvGrpSpPr/>
            <p:nvPr/>
          </p:nvGrpSpPr>
          <p:grpSpPr>
            <a:xfrm>
              <a:off x="138960" y="5161320"/>
              <a:ext cx="871920" cy="1011600"/>
              <a:chOff x="138960" y="5161320"/>
              <a:chExt cx="871920" cy="1011600"/>
            </a:xfrm>
          </p:grpSpPr>
          <p:grpSp>
            <p:nvGrpSpPr>
              <p:cNvPr id="237" name=""/>
              <p:cNvGrpSpPr/>
              <p:nvPr/>
            </p:nvGrpSpPr>
            <p:grpSpPr>
              <a:xfrm>
                <a:off x="443520" y="5161320"/>
                <a:ext cx="258120" cy="1011600"/>
                <a:chOff x="443520" y="5161320"/>
                <a:chExt cx="258120" cy="1011600"/>
              </a:xfrm>
            </p:grpSpPr>
            <p:sp>
              <p:nvSpPr>
                <p:cNvPr id="238" name=""/>
                <p:cNvSpPr/>
                <p:nvPr/>
              </p:nvSpPr>
              <p:spPr>
                <a:xfrm rot="21224400">
                  <a:off x="468360" y="5166000"/>
                  <a:ext cx="11160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rot="21224400">
                  <a:off x="564480" y="5703840"/>
                  <a:ext cx="11196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138960" y="5574960"/>
                <a:ext cx="871920" cy="190080"/>
                <a:chOff x="138960" y="5574960"/>
                <a:chExt cx="871920" cy="190080"/>
              </a:xfrm>
            </p:grpSpPr>
            <p:sp>
              <p:nvSpPr>
                <p:cNvPr id="241" name=""/>
                <p:cNvSpPr/>
                <p:nvPr/>
              </p:nvSpPr>
              <p:spPr>
                <a:xfrm rot="5023800">
                  <a:off x="746280" y="547344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rot="5023800">
                  <a:off x="267120" y="548640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3" name=""/>
            <p:cNvGrpSpPr/>
            <p:nvPr/>
          </p:nvGrpSpPr>
          <p:grpSpPr>
            <a:xfrm>
              <a:off x="187920" y="5262120"/>
              <a:ext cx="775080" cy="811440"/>
              <a:chOff x="187920" y="5262120"/>
              <a:chExt cx="775080" cy="81144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238680" y="5298480"/>
                <a:ext cx="668520" cy="737280"/>
                <a:chOff x="238680" y="5298480"/>
                <a:chExt cx="668520" cy="737280"/>
              </a:xfrm>
            </p:grpSpPr>
            <p:sp>
              <p:nvSpPr>
                <p:cNvPr id="245" name=""/>
                <p:cNvSpPr/>
                <p:nvPr/>
              </p:nvSpPr>
              <p:spPr>
                <a:xfrm rot="18944400">
                  <a:off x="351720" y="529200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rot="18944400">
                  <a:off x="657000" y="566172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187920" y="5262120"/>
                <a:ext cx="775080" cy="811440"/>
                <a:chOff x="187920" y="5262120"/>
                <a:chExt cx="775080" cy="811440"/>
              </a:xfrm>
            </p:grpSpPr>
            <p:sp>
              <p:nvSpPr>
                <p:cNvPr id="248" name=""/>
                <p:cNvSpPr/>
                <p:nvPr/>
              </p:nvSpPr>
              <p:spPr>
                <a:xfrm rot="2743800">
                  <a:off x="702000" y="5231880"/>
                  <a:ext cx="11160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2743800">
                  <a:off x="337320" y="5639040"/>
                  <a:ext cx="11196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140400" y="5184720"/>
              <a:ext cx="861120" cy="1019880"/>
              <a:chOff x="140400" y="5184720"/>
              <a:chExt cx="861120" cy="101988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441360" y="5184720"/>
                <a:ext cx="255600" cy="1019880"/>
                <a:chOff x="441360" y="5184720"/>
                <a:chExt cx="255600" cy="1019880"/>
              </a:xfrm>
            </p:grpSpPr>
            <p:sp>
              <p:nvSpPr>
                <p:cNvPr id="252" name=""/>
                <p:cNvSpPr/>
                <p:nvPr/>
              </p:nvSpPr>
              <p:spPr>
                <a:xfrm rot="624000">
                  <a:off x="544320" y="5190840"/>
                  <a:ext cx="11160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rot="624000">
                  <a:off x="482400" y="5733720"/>
                  <a:ext cx="11196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140400" y="5533920"/>
                <a:ext cx="861120" cy="328320"/>
                <a:chOff x="140400" y="5533920"/>
                <a:chExt cx="861120" cy="328320"/>
              </a:xfrm>
            </p:grpSpPr>
            <p:sp>
              <p:nvSpPr>
                <p:cNvPr id="255" name=""/>
                <p:cNvSpPr/>
                <p:nvPr/>
              </p:nvSpPr>
              <p:spPr>
                <a:xfrm rot="6024600">
                  <a:off x="733680" y="557064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6024600">
                  <a:off x="271080" y="544536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"/>
            <p:cNvGrpSpPr/>
            <p:nvPr/>
          </p:nvGrpSpPr>
          <p:grpSpPr>
            <a:xfrm>
              <a:off x="186840" y="5219640"/>
              <a:ext cx="772200" cy="927360"/>
              <a:chOff x="186840" y="5219640"/>
              <a:chExt cx="772200" cy="92736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186840" y="5375160"/>
                <a:ext cx="772200" cy="615600"/>
                <a:chOff x="186840" y="5375160"/>
                <a:chExt cx="772200" cy="615600"/>
              </a:xfrm>
            </p:grpSpPr>
            <p:sp>
              <p:nvSpPr>
                <p:cNvPr id="259" name=""/>
                <p:cNvSpPr/>
                <p:nvPr/>
              </p:nvSpPr>
              <p:spPr>
                <a:xfrm rot="18183600">
                  <a:off x="315000" y="534600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rot="18183600">
                  <a:off x="694080" y="563976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268920" y="5219640"/>
                <a:ext cx="613440" cy="927360"/>
                <a:chOff x="268920" y="5219640"/>
                <a:chExt cx="613440" cy="927360"/>
              </a:xfrm>
            </p:grpSpPr>
            <p:sp>
              <p:nvSpPr>
                <p:cNvPr id="262" name=""/>
                <p:cNvSpPr/>
                <p:nvPr/>
              </p:nvSpPr>
              <p:spPr>
                <a:xfrm rot="1983000">
                  <a:off x="653040" y="5212440"/>
                  <a:ext cx="11160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1983000">
                  <a:off x="386640" y="5689440"/>
                  <a:ext cx="11196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4" name=""/>
            <p:cNvSpPr/>
            <p:nvPr/>
          </p:nvSpPr>
          <p:spPr>
            <a:xfrm>
              <a:off x="494280" y="5570280"/>
              <a:ext cx="160560" cy="20808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17600" y="5980320"/>
            <a:ext cx="925920" cy="1045440"/>
            <a:chOff x="417600" y="5980320"/>
            <a:chExt cx="925920" cy="1045440"/>
          </a:xfrm>
        </p:grpSpPr>
        <p:grpSp>
          <p:nvGrpSpPr>
            <p:cNvPr id="266" name=""/>
            <p:cNvGrpSpPr/>
            <p:nvPr/>
          </p:nvGrpSpPr>
          <p:grpSpPr>
            <a:xfrm>
              <a:off x="463680" y="6031080"/>
              <a:ext cx="822240" cy="983520"/>
              <a:chOff x="463680" y="6031080"/>
              <a:chExt cx="822240" cy="98352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32880" y="6031080"/>
                <a:ext cx="482760" cy="983520"/>
                <a:chOff x="632880" y="6031080"/>
                <a:chExt cx="482760" cy="983520"/>
              </a:xfrm>
            </p:grpSpPr>
            <p:sp>
              <p:nvSpPr>
                <p:cNvPr id="268" name=""/>
                <p:cNvSpPr/>
                <p:nvPr/>
              </p:nvSpPr>
              <p:spPr>
                <a:xfrm rot="1454400">
                  <a:off x="913320" y="6033240"/>
                  <a:ext cx="11160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rot="1454400">
                  <a:off x="723240" y="6546600"/>
                  <a:ext cx="11196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63680" y="6269760"/>
                <a:ext cx="822240" cy="513360"/>
                <a:chOff x="463680" y="6269760"/>
                <a:chExt cx="822240" cy="513360"/>
              </a:xfrm>
            </p:grpSpPr>
            <p:sp>
              <p:nvSpPr>
                <p:cNvPr id="271" name=""/>
                <p:cNvSpPr/>
                <p:nvPr/>
              </p:nvSpPr>
              <p:spPr>
                <a:xfrm rot="6854400">
                  <a:off x="1015920" y="645264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rot="6854400">
                  <a:off x="596520" y="622008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3" name=""/>
            <p:cNvGrpSpPr/>
            <p:nvPr/>
          </p:nvGrpSpPr>
          <p:grpSpPr>
            <a:xfrm>
              <a:off x="417600" y="6095160"/>
              <a:ext cx="925920" cy="839520"/>
              <a:chOff x="417600" y="6095160"/>
              <a:chExt cx="925920" cy="83952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632160" y="6095160"/>
                <a:ext cx="491400" cy="839520"/>
                <a:chOff x="632160" y="6095160"/>
                <a:chExt cx="491400" cy="839520"/>
              </a:xfrm>
            </p:grpSpPr>
            <p:sp>
              <p:nvSpPr>
                <p:cNvPr id="275" name=""/>
                <p:cNvSpPr/>
                <p:nvPr/>
              </p:nvSpPr>
              <p:spPr>
                <a:xfrm rot="19905600">
                  <a:off x="713880" y="610488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9905600">
                  <a:off x="905040" y="654480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417600" y="6211800"/>
                <a:ext cx="925920" cy="609840"/>
                <a:chOff x="417600" y="6211800"/>
                <a:chExt cx="92592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 rot="3705600">
                  <a:off x="1056240" y="6138360"/>
                  <a:ext cx="11160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3705600">
                  <a:off x="592560" y="6429600"/>
                  <a:ext cx="11196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0" name=""/>
            <p:cNvGrpSpPr/>
            <p:nvPr/>
          </p:nvGrpSpPr>
          <p:grpSpPr>
            <a:xfrm>
              <a:off x="443880" y="5980320"/>
              <a:ext cx="872280" cy="1013400"/>
              <a:chOff x="443880" y="5980320"/>
              <a:chExt cx="872280" cy="1013400"/>
            </a:xfrm>
          </p:grpSpPr>
          <p:grpSp>
            <p:nvGrpSpPr>
              <p:cNvPr id="281" name=""/>
              <p:cNvGrpSpPr/>
              <p:nvPr/>
            </p:nvGrpSpPr>
            <p:grpSpPr>
              <a:xfrm>
                <a:off x="748080" y="5980320"/>
                <a:ext cx="258840" cy="1013400"/>
                <a:chOff x="748080" y="5980320"/>
                <a:chExt cx="258840" cy="1013400"/>
              </a:xfrm>
            </p:grpSpPr>
            <p:sp>
              <p:nvSpPr>
                <p:cNvPr id="282" name=""/>
                <p:cNvSpPr/>
                <p:nvPr/>
              </p:nvSpPr>
              <p:spPr>
                <a:xfrm rot="21224400">
                  <a:off x="772920" y="5985000"/>
                  <a:ext cx="11160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21224400">
                  <a:off x="869760" y="6523920"/>
                  <a:ext cx="11196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443880" y="6395040"/>
                <a:ext cx="872280" cy="190080"/>
                <a:chOff x="443880" y="6395040"/>
                <a:chExt cx="872280" cy="190080"/>
              </a:xfrm>
            </p:grpSpPr>
            <p:sp>
              <p:nvSpPr>
                <p:cNvPr id="285" name=""/>
                <p:cNvSpPr/>
                <p:nvPr/>
              </p:nvSpPr>
              <p:spPr>
                <a:xfrm rot="5023800">
                  <a:off x="1050840" y="629352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5023800">
                  <a:off x="571680" y="630612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"/>
            <p:cNvGrpSpPr/>
            <p:nvPr/>
          </p:nvGrpSpPr>
          <p:grpSpPr>
            <a:xfrm>
              <a:off x="492840" y="6081480"/>
              <a:ext cx="775800" cy="812880"/>
              <a:chOff x="492840" y="6081480"/>
              <a:chExt cx="775800" cy="812880"/>
            </a:xfrm>
          </p:grpSpPr>
          <p:grpSp>
            <p:nvGrpSpPr>
              <p:cNvPr id="288" name=""/>
              <p:cNvGrpSpPr/>
              <p:nvPr/>
            </p:nvGrpSpPr>
            <p:grpSpPr>
              <a:xfrm>
                <a:off x="543600" y="6118200"/>
                <a:ext cx="668520" cy="737640"/>
                <a:chOff x="543600" y="6118200"/>
                <a:chExt cx="668520" cy="737640"/>
              </a:xfrm>
            </p:grpSpPr>
            <p:sp>
              <p:nvSpPr>
                <p:cNvPr id="289" name=""/>
                <p:cNvSpPr/>
                <p:nvPr/>
              </p:nvSpPr>
              <p:spPr>
                <a:xfrm rot="18944400">
                  <a:off x="656640" y="611172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rot="18944400">
                  <a:off x="961920" y="648180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92840" y="6081480"/>
                <a:ext cx="775800" cy="812880"/>
                <a:chOff x="492840" y="6081480"/>
                <a:chExt cx="775800" cy="812880"/>
              </a:xfrm>
            </p:grpSpPr>
            <p:sp>
              <p:nvSpPr>
                <p:cNvPr id="292" name=""/>
                <p:cNvSpPr/>
                <p:nvPr/>
              </p:nvSpPr>
              <p:spPr>
                <a:xfrm rot="2743800">
                  <a:off x="1007280" y="6050880"/>
                  <a:ext cx="11160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rot="2743800">
                  <a:off x="642240" y="6459120"/>
                  <a:ext cx="11196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444960" y="6004080"/>
              <a:ext cx="861480" cy="1021680"/>
              <a:chOff x="444960" y="6004080"/>
              <a:chExt cx="861480" cy="102168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746280" y="6004080"/>
                <a:ext cx="255600" cy="1021680"/>
                <a:chOff x="746280" y="6004080"/>
                <a:chExt cx="255600" cy="1021680"/>
              </a:xfrm>
            </p:grpSpPr>
            <p:sp>
              <p:nvSpPr>
                <p:cNvPr id="296" name=""/>
                <p:cNvSpPr/>
                <p:nvPr/>
              </p:nvSpPr>
              <p:spPr>
                <a:xfrm rot="624000">
                  <a:off x="848880" y="6010200"/>
                  <a:ext cx="11160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rot="624000">
                  <a:off x="786960" y="6554160"/>
                  <a:ext cx="11196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444960" y="6354000"/>
                <a:ext cx="861480" cy="329040"/>
                <a:chOff x="444960" y="6354000"/>
                <a:chExt cx="861480" cy="329040"/>
              </a:xfrm>
            </p:grpSpPr>
            <p:sp>
              <p:nvSpPr>
                <p:cNvPr id="299" name=""/>
                <p:cNvSpPr/>
                <p:nvPr/>
              </p:nvSpPr>
              <p:spPr>
                <a:xfrm rot="6024600">
                  <a:off x="1038600" y="639108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6024600">
                  <a:off x="575640" y="626544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"/>
            <p:cNvGrpSpPr/>
            <p:nvPr/>
          </p:nvGrpSpPr>
          <p:grpSpPr>
            <a:xfrm>
              <a:off x="492120" y="6038640"/>
              <a:ext cx="771840" cy="929160"/>
              <a:chOff x="492120" y="6038640"/>
              <a:chExt cx="771840" cy="92916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492120" y="6194520"/>
                <a:ext cx="771840" cy="616320"/>
                <a:chOff x="492120" y="6194520"/>
                <a:chExt cx="771840" cy="616320"/>
              </a:xfrm>
            </p:grpSpPr>
            <p:sp>
              <p:nvSpPr>
                <p:cNvPr id="303" name=""/>
                <p:cNvSpPr/>
                <p:nvPr/>
              </p:nvSpPr>
              <p:spPr>
                <a:xfrm rot="18183600">
                  <a:off x="620280" y="616536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18183600">
                  <a:off x="999000" y="645948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573840" y="6038640"/>
                <a:ext cx="614160" cy="929160"/>
                <a:chOff x="573840" y="6038640"/>
                <a:chExt cx="614160" cy="929160"/>
              </a:xfrm>
            </p:grpSpPr>
            <p:sp>
              <p:nvSpPr>
                <p:cNvPr id="306" name=""/>
                <p:cNvSpPr/>
                <p:nvPr/>
              </p:nvSpPr>
              <p:spPr>
                <a:xfrm rot="1983000">
                  <a:off x="958320" y="6031440"/>
                  <a:ext cx="11160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1983000">
                  <a:off x="691560" y="6509520"/>
                  <a:ext cx="11196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799200" y="6390000"/>
              <a:ext cx="160560" cy="20844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-57240" y="2686320"/>
            <a:ext cx="925920" cy="1045440"/>
            <a:chOff x="-57240" y="2686320"/>
            <a:chExt cx="925920" cy="1045440"/>
          </a:xfrm>
        </p:grpSpPr>
        <p:grpSp>
          <p:nvGrpSpPr>
            <p:cNvPr id="310" name=""/>
            <p:cNvGrpSpPr/>
            <p:nvPr/>
          </p:nvGrpSpPr>
          <p:grpSpPr>
            <a:xfrm>
              <a:off x="-11160" y="2737080"/>
              <a:ext cx="822240" cy="983520"/>
              <a:chOff x="-11160" y="2737080"/>
              <a:chExt cx="822240" cy="983520"/>
            </a:xfrm>
          </p:grpSpPr>
          <p:grpSp>
            <p:nvGrpSpPr>
              <p:cNvPr id="311" name=""/>
              <p:cNvGrpSpPr/>
              <p:nvPr/>
            </p:nvGrpSpPr>
            <p:grpSpPr>
              <a:xfrm>
                <a:off x="158040" y="2737080"/>
                <a:ext cx="482760" cy="983520"/>
                <a:chOff x="158040" y="2737080"/>
                <a:chExt cx="482760" cy="983520"/>
              </a:xfrm>
            </p:grpSpPr>
            <p:sp>
              <p:nvSpPr>
                <p:cNvPr id="312" name=""/>
                <p:cNvSpPr/>
                <p:nvPr/>
              </p:nvSpPr>
              <p:spPr>
                <a:xfrm rot="1454400">
                  <a:off x="438480" y="2739240"/>
                  <a:ext cx="11160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454400">
                  <a:off x="248400" y="3252600"/>
                  <a:ext cx="11196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-11160" y="2975760"/>
                <a:ext cx="822240" cy="513360"/>
                <a:chOff x="-11160" y="2975760"/>
                <a:chExt cx="822240" cy="513360"/>
              </a:xfrm>
            </p:grpSpPr>
            <p:sp>
              <p:nvSpPr>
                <p:cNvPr id="315" name=""/>
                <p:cNvSpPr/>
                <p:nvPr/>
              </p:nvSpPr>
              <p:spPr>
                <a:xfrm rot="6854400">
                  <a:off x="541080" y="315864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6854400">
                  <a:off x="121680" y="292608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7" name=""/>
            <p:cNvGrpSpPr/>
            <p:nvPr/>
          </p:nvGrpSpPr>
          <p:grpSpPr>
            <a:xfrm>
              <a:off x="-57240" y="2801160"/>
              <a:ext cx="925920" cy="839520"/>
              <a:chOff x="-57240" y="2801160"/>
              <a:chExt cx="925920" cy="83952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157320" y="2801160"/>
                <a:ext cx="491400" cy="839520"/>
                <a:chOff x="157320" y="2801160"/>
                <a:chExt cx="491400" cy="839520"/>
              </a:xfrm>
            </p:grpSpPr>
            <p:sp>
              <p:nvSpPr>
                <p:cNvPr id="319" name=""/>
                <p:cNvSpPr/>
                <p:nvPr/>
              </p:nvSpPr>
              <p:spPr>
                <a:xfrm rot="19905600">
                  <a:off x="239040" y="281088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rot="19905600">
                  <a:off x="430200" y="325080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-57240" y="2917800"/>
                <a:ext cx="925920" cy="609840"/>
                <a:chOff x="-57240" y="2917800"/>
                <a:chExt cx="925920" cy="609840"/>
              </a:xfrm>
            </p:grpSpPr>
            <p:sp>
              <p:nvSpPr>
                <p:cNvPr id="322" name=""/>
                <p:cNvSpPr/>
                <p:nvPr/>
              </p:nvSpPr>
              <p:spPr>
                <a:xfrm rot="3705600">
                  <a:off x="581400" y="2844360"/>
                  <a:ext cx="11160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rot="3705600">
                  <a:off x="117720" y="3135600"/>
                  <a:ext cx="11196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4" name=""/>
            <p:cNvGrpSpPr/>
            <p:nvPr/>
          </p:nvGrpSpPr>
          <p:grpSpPr>
            <a:xfrm>
              <a:off x="-30960" y="2686320"/>
              <a:ext cx="872280" cy="1013400"/>
              <a:chOff x="-30960" y="2686320"/>
              <a:chExt cx="872280" cy="101340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273240" y="2686320"/>
                <a:ext cx="258840" cy="1013400"/>
                <a:chOff x="273240" y="2686320"/>
                <a:chExt cx="258840" cy="1013400"/>
              </a:xfrm>
            </p:grpSpPr>
            <p:sp>
              <p:nvSpPr>
                <p:cNvPr id="326" name=""/>
                <p:cNvSpPr/>
                <p:nvPr/>
              </p:nvSpPr>
              <p:spPr>
                <a:xfrm rot="21224400">
                  <a:off x="298080" y="2691000"/>
                  <a:ext cx="11160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rot="21224400">
                  <a:off x="394920" y="3229920"/>
                  <a:ext cx="11196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-30960" y="3101040"/>
                <a:ext cx="872280" cy="190080"/>
                <a:chOff x="-30960" y="3101040"/>
                <a:chExt cx="872280" cy="190080"/>
              </a:xfrm>
            </p:grpSpPr>
            <p:sp>
              <p:nvSpPr>
                <p:cNvPr id="329" name=""/>
                <p:cNvSpPr/>
                <p:nvPr/>
              </p:nvSpPr>
              <p:spPr>
                <a:xfrm rot="5023800">
                  <a:off x="576000" y="299952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rot="5023800">
                  <a:off x="96840" y="301212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1" name=""/>
            <p:cNvGrpSpPr/>
            <p:nvPr/>
          </p:nvGrpSpPr>
          <p:grpSpPr>
            <a:xfrm>
              <a:off x="18000" y="2787480"/>
              <a:ext cx="775800" cy="812880"/>
              <a:chOff x="18000" y="2787480"/>
              <a:chExt cx="775800" cy="812880"/>
            </a:xfrm>
          </p:grpSpPr>
          <p:grpSp>
            <p:nvGrpSpPr>
              <p:cNvPr id="332" name=""/>
              <p:cNvGrpSpPr/>
              <p:nvPr/>
            </p:nvGrpSpPr>
            <p:grpSpPr>
              <a:xfrm>
                <a:off x="68760" y="2824200"/>
                <a:ext cx="668520" cy="737640"/>
                <a:chOff x="68760" y="2824200"/>
                <a:chExt cx="668520" cy="737640"/>
              </a:xfrm>
            </p:grpSpPr>
            <p:sp>
              <p:nvSpPr>
                <p:cNvPr id="333" name=""/>
                <p:cNvSpPr/>
                <p:nvPr/>
              </p:nvSpPr>
              <p:spPr>
                <a:xfrm rot="18944400">
                  <a:off x="181800" y="281772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rot="18944400">
                  <a:off x="487080" y="318780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18000" y="2787480"/>
                <a:ext cx="775800" cy="812880"/>
                <a:chOff x="18000" y="2787480"/>
                <a:chExt cx="775800" cy="812880"/>
              </a:xfrm>
            </p:grpSpPr>
            <p:sp>
              <p:nvSpPr>
                <p:cNvPr id="336" name=""/>
                <p:cNvSpPr/>
                <p:nvPr/>
              </p:nvSpPr>
              <p:spPr>
                <a:xfrm rot="2743800">
                  <a:off x="532440" y="2756880"/>
                  <a:ext cx="11160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2743800">
                  <a:off x="167400" y="3165120"/>
                  <a:ext cx="11196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8" name=""/>
            <p:cNvGrpSpPr/>
            <p:nvPr/>
          </p:nvGrpSpPr>
          <p:grpSpPr>
            <a:xfrm>
              <a:off x="-29880" y="2710080"/>
              <a:ext cx="861480" cy="1021680"/>
              <a:chOff x="-29880" y="2710080"/>
              <a:chExt cx="861480" cy="102168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271440" y="2710080"/>
                <a:ext cx="255600" cy="1021680"/>
                <a:chOff x="271440" y="2710080"/>
                <a:chExt cx="255600" cy="1021680"/>
              </a:xfrm>
            </p:grpSpPr>
            <p:sp>
              <p:nvSpPr>
                <p:cNvPr id="340" name=""/>
                <p:cNvSpPr/>
                <p:nvPr/>
              </p:nvSpPr>
              <p:spPr>
                <a:xfrm rot="624000">
                  <a:off x="374040" y="2716200"/>
                  <a:ext cx="11160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624000">
                  <a:off x="312120" y="3260160"/>
                  <a:ext cx="11196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-29880" y="3060000"/>
                <a:ext cx="861480" cy="329040"/>
                <a:chOff x="-29880" y="3060000"/>
                <a:chExt cx="861480" cy="329040"/>
              </a:xfrm>
            </p:grpSpPr>
            <p:sp>
              <p:nvSpPr>
                <p:cNvPr id="343" name=""/>
                <p:cNvSpPr/>
                <p:nvPr/>
              </p:nvSpPr>
              <p:spPr>
                <a:xfrm rot="6024600">
                  <a:off x="563760" y="309708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6024600">
                  <a:off x="100800" y="297144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5" name=""/>
            <p:cNvGrpSpPr/>
            <p:nvPr/>
          </p:nvGrpSpPr>
          <p:grpSpPr>
            <a:xfrm>
              <a:off x="17280" y="2744640"/>
              <a:ext cx="771840" cy="929160"/>
              <a:chOff x="17280" y="2744640"/>
              <a:chExt cx="771840" cy="92916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17280" y="2900520"/>
                <a:ext cx="771840" cy="616320"/>
                <a:chOff x="17280" y="2900520"/>
                <a:chExt cx="771840" cy="616320"/>
              </a:xfrm>
            </p:grpSpPr>
            <p:sp>
              <p:nvSpPr>
                <p:cNvPr id="347" name=""/>
                <p:cNvSpPr/>
                <p:nvPr/>
              </p:nvSpPr>
              <p:spPr>
                <a:xfrm rot="18183600">
                  <a:off x="145440" y="287136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183600">
                  <a:off x="524160" y="316548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99000" y="2744640"/>
                <a:ext cx="614160" cy="929160"/>
                <a:chOff x="99000" y="2744640"/>
                <a:chExt cx="614160" cy="929160"/>
              </a:xfrm>
            </p:grpSpPr>
            <p:sp>
              <p:nvSpPr>
                <p:cNvPr id="350" name=""/>
                <p:cNvSpPr/>
                <p:nvPr/>
              </p:nvSpPr>
              <p:spPr>
                <a:xfrm rot="1983000">
                  <a:off x="483480" y="2737440"/>
                  <a:ext cx="11160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rot="1983000">
                  <a:off x="216720" y="3215520"/>
                  <a:ext cx="11196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2" name=""/>
            <p:cNvSpPr/>
            <p:nvPr/>
          </p:nvSpPr>
          <p:spPr>
            <a:xfrm>
              <a:off x="324360" y="3096000"/>
              <a:ext cx="160560" cy="20844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3166920" y="1243080"/>
            <a:ext cx="1131840" cy="1061640"/>
            <a:chOff x="3166920" y="1243080"/>
            <a:chExt cx="1131840" cy="1061640"/>
          </a:xfrm>
        </p:grpSpPr>
        <p:sp>
          <p:nvSpPr>
            <p:cNvPr id="354" name=""/>
            <p:cNvSpPr/>
            <p:nvPr/>
          </p:nvSpPr>
          <p:spPr>
            <a:xfrm>
              <a:off x="3268800" y="1351440"/>
              <a:ext cx="1029960" cy="953280"/>
            </a:xfrm>
            <a:custGeom>
              <a:avLst/>
              <a:gdLst/>
              <a:ahLst/>
              <a:rect l="l" t="t" r="r" b="b"/>
              <a:pathLst>
                <a:path w="728" h="632">
                  <a:moveTo>
                    <a:pt x="728" y="632"/>
                  </a:moveTo>
                  <a:cubicBezTo>
                    <a:pt x="675" y="564"/>
                    <a:pt x="529" y="329"/>
                    <a:pt x="408" y="224"/>
                  </a:cubicBezTo>
                  <a:cubicBezTo>
                    <a:pt x="287" y="119"/>
                    <a:pt x="85" y="47"/>
                    <a:pt x="0" y="0"/>
                  </a:cubicBezTo>
                </a:path>
              </a:pathLst>
            </a:cu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166920" y="1243080"/>
              <a:ext cx="147240" cy="14472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07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863960" y="1243080"/>
            <a:ext cx="1131840" cy="1061640"/>
            <a:chOff x="4863960" y="1243080"/>
            <a:chExt cx="1131840" cy="1061640"/>
          </a:xfrm>
        </p:grpSpPr>
        <p:sp>
          <p:nvSpPr>
            <p:cNvPr id="357" name=""/>
            <p:cNvSpPr/>
            <p:nvPr/>
          </p:nvSpPr>
          <p:spPr>
            <a:xfrm flipH="1">
              <a:off x="4863600" y="1351440"/>
              <a:ext cx="1029960" cy="953280"/>
            </a:xfrm>
            <a:custGeom>
              <a:avLst/>
              <a:gdLst/>
              <a:ahLst/>
              <a:rect l="l" t="t" r="r" b="b"/>
              <a:pathLst>
                <a:path w="728" h="632">
                  <a:moveTo>
                    <a:pt x="728" y="632"/>
                  </a:moveTo>
                  <a:cubicBezTo>
                    <a:pt x="675" y="564"/>
                    <a:pt x="529" y="329"/>
                    <a:pt x="408" y="224"/>
                  </a:cubicBezTo>
                  <a:cubicBezTo>
                    <a:pt x="287" y="119"/>
                    <a:pt x="85" y="47"/>
                    <a:pt x="0" y="0"/>
                  </a:cubicBezTo>
                </a:path>
              </a:pathLst>
            </a:cu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5848200" y="1243080"/>
              <a:ext cx="147240" cy="14472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07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990720" y="3428280"/>
            <a:ext cx="7238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99"/>
                </a:solidFill>
                <a:latin typeface="Arial"/>
              </a:rPr>
              <a:t>Cycle de Projet</a:t>
            </a:r>
            <a:r>
              <a:rPr b="1" lang="en-US" sz="5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2362320" y="3049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Cycle de projet / cycle des opération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590920" y="1523880"/>
            <a:ext cx="251460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adre politiqu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ogrammatio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80880" y="4343400"/>
            <a:ext cx="228600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Mise en œuv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895480" y="5943600"/>
            <a:ext cx="213372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Financement/ Engagement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876920" y="4419720"/>
            <a:ext cx="2133360" cy="76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rmulation/ Instructio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76920" y="2895480"/>
            <a:ext cx="213336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dentificatio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3520" y="2819520"/>
            <a:ext cx="2133360" cy="76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valuation &amp; Audi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191480" y="185904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85975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859755"/>
              </a:path>
            </a:pathLst>
          </a:custGeom>
          <a:noFill/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4551600">
            <a:off x="4012920" y="4375440"/>
            <a:ext cx="1834560" cy="21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8896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889637"/>
              </a:path>
            </a:pathLst>
          </a:custGeom>
          <a:noFill/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10800000">
            <a:off x="1523880" y="4279680"/>
            <a:ext cx="3200040" cy="20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261" y="99"/>
                </a:moveTo>
                <a:arcTo wR="10800" hR="10800" stAng="-4933651" swAng="5097695"/>
                <a:lnTo>
                  <a:pt x="10800" y="10800"/>
                </a:lnTo>
                <a:close/>
              </a:path>
              <a:path fill="none" w="21600" h="21600">
                <a:moveTo>
                  <a:pt x="12261" y="99"/>
                </a:moveTo>
                <a:arcTo wR="10800" hR="10800" stAng="-4933651" swAng="5097695"/>
              </a:path>
            </a:pathLst>
          </a:custGeom>
          <a:noFill/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16450200">
            <a:off x="1352160" y="1917720"/>
            <a:ext cx="2288880" cy="188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8020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80207"/>
              </a:path>
            </a:pathLst>
          </a:custGeom>
          <a:noFill/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95880" y="3657600"/>
            <a:ext cx="0" cy="7621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523880" y="3581280"/>
            <a:ext cx="0" cy="7621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666880" y="3124080"/>
            <a:ext cx="221004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472520" y="3352680"/>
            <a:ext cx="1442880" cy="1447920"/>
          </a:xfrm>
          <a:prstGeom prst="diamond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543800" y="38257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Décision de finan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400800" y="3048120"/>
            <a:ext cx="1218960" cy="147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85975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85975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rot="6703200">
            <a:off x="6409440" y="3839760"/>
            <a:ext cx="1992960" cy="80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85975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859755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362320" y="4952880"/>
            <a:ext cx="1904760" cy="76212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vi inte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3733920"/>
            <a:ext cx="1905120" cy="76176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5257800"/>
            <a:ext cx="1905120" cy="76212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vi exte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629400" y="2209680"/>
            <a:ext cx="1905120" cy="76212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valuation   ex-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2133720"/>
            <a:ext cx="1905120" cy="76176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Évaluation   ex-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48320" y="1066680"/>
            <a:ext cx="1904760" cy="76212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valuation du 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86000" y="3352680"/>
            <a:ext cx="1905120" cy="76212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valuation fi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286000" y="2362320"/>
            <a:ext cx="1523880" cy="76176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4876920" y="228600"/>
            <a:ext cx="419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Documents par ph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00400" y="1523880"/>
            <a:ext cx="251460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adre Politique / Programmatio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990720" y="4343400"/>
            <a:ext cx="228600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Mise en œuv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505320" y="5943600"/>
            <a:ext cx="213336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inancement/ Engagement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486400" y="4419720"/>
            <a:ext cx="2133720" cy="76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rmulation/ Instructio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486400" y="2895480"/>
            <a:ext cx="213372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dentificatio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48120" y="4724280"/>
            <a:ext cx="1904760" cy="762120"/>
          </a:xfrm>
          <a:prstGeom prst="flowChart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opérati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3886200"/>
            <a:ext cx="1905120" cy="762120"/>
          </a:xfrm>
          <a:prstGeom prst="flowChart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port de suivi / monito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238880" y="5105520"/>
            <a:ext cx="1905120" cy="990360"/>
          </a:xfrm>
          <a:prstGeom prst="flowChart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ort d’étude de faisabi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086600" y="2209680"/>
            <a:ext cx="1905120" cy="990720"/>
          </a:xfrm>
          <a:prstGeom prst="flowChart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ort d’étude de préfaisabi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2133720"/>
            <a:ext cx="1905120" cy="761760"/>
          </a:xfrm>
          <a:prstGeom prst="flowChart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ort d’é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1066680"/>
            <a:ext cx="1904760" cy="762120"/>
          </a:xfrm>
          <a:prstGeom prst="flowChart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tique nat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43000" y="2819520"/>
            <a:ext cx="2133720" cy="76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Évaluation &amp; Audi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71800" y="3200400"/>
            <a:ext cx="1905120" cy="762120"/>
          </a:xfrm>
          <a:prstGeom prst="flowChart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ort d’aud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800960" y="185904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85975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859755"/>
              </a:path>
            </a:pathLst>
          </a:custGeom>
          <a:noFill/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4551600">
            <a:off x="4622400" y="4375440"/>
            <a:ext cx="1834560" cy="21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8896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889637"/>
              </a:path>
            </a:pathLst>
          </a:custGeom>
          <a:noFill/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0800000">
            <a:off x="2133720" y="4279680"/>
            <a:ext cx="3200040" cy="20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261" y="99"/>
                </a:moveTo>
                <a:arcTo wR="10800" hR="10800" stAng="-4933651" swAng="5097695"/>
                <a:lnTo>
                  <a:pt x="10800" y="10800"/>
                </a:lnTo>
                <a:close/>
              </a:path>
              <a:path fill="none" w="21600" h="21600">
                <a:moveTo>
                  <a:pt x="12261" y="99"/>
                </a:moveTo>
                <a:arcTo wR="10800" hR="10800" stAng="-4933651" swAng="5097695"/>
              </a:path>
            </a:pathLst>
          </a:custGeom>
          <a:noFill/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16450200">
            <a:off x="1962000" y="1917360"/>
            <a:ext cx="2288880" cy="18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8020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80207"/>
              </a:path>
            </a:pathLst>
          </a:custGeom>
          <a:noFill/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705720" y="3657600"/>
            <a:ext cx="0" cy="7621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33720" y="3581280"/>
            <a:ext cx="0" cy="7621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3124080"/>
            <a:ext cx="22096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133720" y="990720"/>
            <a:ext cx="1904760" cy="761760"/>
          </a:xfrm>
          <a:prstGeom prst="flowChart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ification stratég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238880" y="3962520"/>
            <a:ext cx="1905120" cy="1066680"/>
          </a:xfrm>
          <a:prstGeom prst="flowChart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de projet (CL, budg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715000"/>
            <a:ext cx="1905120" cy="838080"/>
          </a:xfrm>
          <a:prstGeom prst="flowChart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ntion de finan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000"/>
                            </p:stCondLst>
                            <p:childTnLst>
                              <p:par>
                                <p:cTn id="4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4000"/>
                            </p:stCondLst>
                            <p:childTnLst>
                              <p:par>
                                <p:cTn id="4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1447920"/>
            <a:ext cx="2666880" cy="1143000"/>
          </a:xfrm>
          <a:prstGeom prst="rect">
            <a:avLst/>
          </a:prstGeom>
          <a:solidFill>
            <a:srgbClr val="ccffcc">
              <a:alpha val="85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gramm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666880" y="1447920"/>
            <a:ext cx="6477120" cy="1143000"/>
          </a:xfrm>
          <a:prstGeom prst="rect">
            <a:avLst/>
          </a:prstGeom>
          <a:solidFill>
            <a:srgbClr val="ffccff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00af"/>
                </a:solidFill>
                <a:latin typeface="Arial"/>
              </a:rPr>
              <a:t>Prise en compte des indicateurs socio-économ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00af"/>
                </a:solidFill>
                <a:latin typeface="Arial"/>
              </a:rPr>
              <a:t>Revue des priorités nationales et des don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00af"/>
                </a:solidFill>
                <a:latin typeface="Arial"/>
              </a:rPr>
              <a:t>Recherche d'un consensus sur les secteurs à choisir et le focus de l'aide au développ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2590920"/>
            <a:ext cx="2666880" cy="838080"/>
          </a:xfrm>
          <a:prstGeom prst="rect">
            <a:avLst/>
          </a:prstGeom>
          <a:solidFill>
            <a:srgbClr val="ccffcc">
              <a:alpha val="85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666880" y="2590920"/>
            <a:ext cx="6477120" cy="838080"/>
          </a:xfrm>
          <a:prstGeom prst="rect">
            <a:avLst/>
          </a:prstGeom>
          <a:solidFill>
            <a:srgbClr val="ffccff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af"/>
                </a:solidFill>
                <a:latin typeface="Arial"/>
              </a:rPr>
              <a:t>Sélections des interventions stratég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af"/>
                </a:solidFill>
                <a:latin typeface="Arial"/>
              </a:rPr>
              <a:t>Choix des interventions à soumettre à des études supplément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429000"/>
            <a:ext cx="2666880" cy="1143000"/>
          </a:xfrm>
          <a:prstGeom prst="rect">
            <a:avLst/>
          </a:prstGeom>
          <a:solidFill>
            <a:srgbClr val="ccffcc">
              <a:alpha val="85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666880" y="3429000"/>
            <a:ext cx="6477120" cy="1143000"/>
          </a:xfrm>
          <a:prstGeom prst="rect">
            <a:avLst/>
          </a:prstGeom>
          <a:solidFill>
            <a:srgbClr val="ffccff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3" marL="538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af"/>
                </a:solidFill>
                <a:latin typeface="Arial"/>
              </a:rPr>
              <a:t>Conduite de l'étude de faisa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38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af"/>
                </a:solidFill>
                <a:latin typeface="Arial"/>
              </a:rPr>
              <a:t>Précisions sur l' idée de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38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af"/>
                </a:solidFill>
                <a:latin typeface="Arial"/>
              </a:rPr>
              <a:t>Préparation de la proposition de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38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af"/>
                </a:solidFill>
                <a:latin typeface="Arial"/>
              </a:rPr>
              <a:t>Examen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5181480"/>
            <a:ext cx="2666880" cy="838440"/>
          </a:xfrm>
          <a:prstGeom prst="rect">
            <a:avLst/>
          </a:prstGeom>
          <a:solidFill>
            <a:srgbClr val="ccffcc">
              <a:alpha val="85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ise en œuv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666880" y="5181480"/>
            <a:ext cx="6477120" cy="838440"/>
          </a:xfrm>
          <a:prstGeom prst="rect">
            <a:avLst/>
          </a:prstGeom>
          <a:solidFill>
            <a:srgbClr val="ffccff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af"/>
                </a:solidFill>
                <a:latin typeface="Arial"/>
              </a:rPr>
              <a:t>Mise au concours et attribution du march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af"/>
                </a:solidFill>
                <a:latin typeface="Arial"/>
              </a:rPr>
              <a:t>Mobilisation et  mise en œ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af"/>
                </a:solidFill>
                <a:latin typeface="Arial"/>
              </a:rPr>
              <a:t>Su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6019920"/>
            <a:ext cx="2666880" cy="838080"/>
          </a:xfrm>
          <a:prstGeom prst="rect">
            <a:avLst/>
          </a:prstGeom>
          <a:solidFill>
            <a:srgbClr val="ccffcc">
              <a:alpha val="85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666880" y="6019920"/>
            <a:ext cx="6477120" cy="838080"/>
          </a:xfrm>
          <a:prstGeom prst="rect">
            <a:avLst/>
          </a:prstGeom>
          <a:solidFill>
            <a:srgbClr val="ffccff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af"/>
                </a:solidFill>
                <a:latin typeface="Arial"/>
              </a:rPr>
              <a:t>Analyse des effets et de l'impact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af"/>
                </a:solidFill>
                <a:latin typeface="Arial"/>
              </a:rPr>
              <a:t>Recommandations sur l'orientation de projets futurs dans le secteur concer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33720" y="152280"/>
            <a:ext cx="693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Activités par  phase / étap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990720"/>
            <a:ext cx="2666880" cy="457200"/>
          </a:xfrm>
          <a:prstGeom prst="rect">
            <a:avLst/>
          </a:prstGeom>
          <a:solidFill>
            <a:srgbClr val="ffcc99">
              <a:alpha val="9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666880" y="990720"/>
            <a:ext cx="6477120" cy="457200"/>
          </a:xfrm>
          <a:prstGeom prst="rect">
            <a:avLst/>
          </a:prstGeom>
          <a:solidFill>
            <a:srgbClr val="ffcc99">
              <a:alpha val="7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3300af"/>
                </a:solidFill>
                <a:latin typeface="Arial"/>
              </a:rPr>
              <a:t>Activités clé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4572000"/>
            <a:ext cx="2666880" cy="609480"/>
          </a:xfrm>
          <a:prstGeom prst="rect">
            <a:avLst/>
          </a:prstGeom>
          <a:solidFill>
            <a:srgbClr val="ccffcc">
              <a:alpha val="85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inancemen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666880" y="4572000"/>
            <a:ext cx="6477120" cy="609480"/>
          </a:xfrm>
          <a:prstGeom prst="rect">
            <a:avLst/>
          </a:prstGeom>
          <a:solidFill>
            <a:srgbClr val="ffccff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écision financière de la part du donateur  et du pays partenaire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p</cp:lastModifiedBy>
  <dcterms:modified xsi:type="dcterms:W3CDTF">2009-09-29T07:37:11Z</dcterms:modified>
  <cp:revision>1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