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9E8-426A-427F-BFC3-EED2402D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3BF-408E-4D6C-9AB3-52B2188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548-51DF-4F8A-8567-88BE0BE3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82F-305D-4C9E-B8C4-06FBCF91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CB7-D626-4BAD-830F-965BBAB1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B5F-5F65-4C4C-B716-366CD127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DD1-A18B-4CD8-9B7F-8BF08138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872-D139-44E5-92F3-EDC23EF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D47-1098-4BFB-A4ED-F9BE50A1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118-49F4-4035-9637-C687F15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7B2-EE8D-4AB1-BDF6-221EC39F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8A1-9397-497B-9F1E-A3DBBD22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A92-BC67-443A-A592-79E791A5189C}" type="slidenum">
              <a:rPr b="0" lang="en-US" sz="1400" spc="-1" strike="noStrike">
                <a:solidFill>
                  <a:srgbClr val="3300a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914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76320"/>
          <a:ext cx="1904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1904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160020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656600" y="1006560"/>
            <a:ext cx="3930120" cy="5714640"/>
            <a:chOff x="4656600" y="1006560"/>
            <a:chExt cx="3930120" cy="5714640"/>
          </a:xfrm>
        </p:grpSpPr>
        <p:sp>
          <p:nvSpPr>
            <p:cNvPr id="92" name=""/>
            <p:cNvSpPr/>
            <p:nvPr/>
          </p:nvSpPr>
          <p:spPr>
            <a:xfrm flipH="1">
              <a:off x="4757760" y="1006560"/>
              <a:ext cx="3828600" cy="3524040"/>
            </a:xfrm>
            <a:custGeom>
              <a:avLst/>
              <a:gdLst/>
              <a:ahLst/>
              <a:rect l="l" t="t" r="r" b="b"/>
              <a:pathLst>
                <a:path w="2707" h="2337">
                  <a:moveTo>
                    <a:pt x="531" y="69"/>
                  </a:moveTo>
                  <a:cubicBezTo>
                    <a:pt x="788" y="138"/>
                    <a:pt x="1336" y="297"/>
                    <a:pt x="1699" y="549"/>
                  </a:cubicBezTo>
                  <a:cubicBezTo>
                    <a:pt x="2059" y="796"/>
                    <a:pt x="2539" y="1320"/>
                    <a:pt x="2707" y="1581"/>
                  </a:cubicBezTo>
                  <a:lnTo>
                    <a:pt x="2707" y="2141"/>
                  </a:lnTo>
                  <a:cubicBezTo>
                    <a:pt x="2534" y="2264"/>
                    <a:pt x="1983" y="2297"/>
                    <a:pt x="1667" y="2317"/>
                  </a:cubicBezTo>
                  <a:cubicBezTo>
                    <a:pt x="1351" y="2337"/>
                    <a:pt x="1003" y="2309"/>
                    <a:pt x="811" y="2261"/>
                  </a:cubicBezTo>
                  <a:cubicBezTo>
                    <a:pt x="619" y="2213"/>
                    <a:pt x="606" y="2189"/>
                    <a:pt x="515" y="2029"/>
                  </a:cubicBezTo>
                  <a:cubicBezTo>
                    <a:pt x="424" y="1869"/>
                    <a:pt x="350" y="1534"/>
                    <a:pt x="267" y="1301"/>
                  </a:cubicBezTo>
                  <a:cubicBezTo>
                    <a:pt x="184" y="1068"/>
                    <a:pt x="38" y="824"/>
                    <a:pt x="19" y="629"/>
                  </a:cubicBezTo>
                  <a:cubicBezTo>
                    <a:pt x="0" y="434"/>
                    <a:pt x="70" y="226"/>
                    <a:pt x="155" y="133"/>
                  </a:cubicBezTo>
                  <a:cubicBezTo>
                    <a:pt x="240" y="40"/>
                    <a:pt x="274" y="0"/>
                    <a:pt x="531" y="69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724280" y="4058280"/>
              <a:ext cx="3356640" cy="2662920"/>
            </a:xfrm>
            <a:custGeom>
              <a:avLst/>
              <a:gdLst/>
              <a:ahLst/>
              <a:rect l="l" t="t" r="r" b="b"/>
              <a:pathLst>
                <a:path w="2373" h="1766">
                  <a:moveTo>
                    <a:pt x="2357" y="133"/>
                  </a:moveTo>
                  <a:cubicBezTo>
                    <a:pt x="2190" y="0"/>
                    <a:pt x="1704" y="236"/>
                    <a:pt x="1373" y="253"/>
                  </a:cubicBezTo>
                  <a:cubicBezTo>
                    <a:pt x="1049" y="268"/>
                    <a:pt x="574" y="180"/>
                    <a:pt x="373" y="237"/>
                  </a:cubicBezTo>
                  <a:cubicBezTo>
                    <a:pt x="373" y="237"/>
                    <a:pt x="149" y="429"/>
                    <a:pt x="149" y="429"/>
                  </a:cubicBezTo>
                  <a:cubicBezTo>
                    <a:pt x="149" y="429"/>
                    <a:pt x="0" y="712"/>
                    <a:pt x="29" y="845"/>
                  </a:cubicBezTo>
                  <a:cubicBezTo>
                    <a:pt x="54" y="973"/>
                    <a:pt x="80" y="1158"/>
                    <a:pt x="149" y="1253"/>
                  </a:cubicBezTo>
                  <a:cubicBezTo>
                    <a:pt x="206" y="1365"/>
                    <a:pt x="258" y="1437"/>
                    <a:pt x="373" y="1517"/>
                  </a:cubicBezTo>
                  <a:cubicBezTo>
                    <a:pt x="497" y="1657"/>
                    <a:pt x="612" y="1710"/>
                    <a:pt x="837" y="1733"/>
                  </a:cubicBezTo>
                  <a:cubicBezTo>
                    <a:pt x="1062" y="1756"/>
                    <a:pt x="1469" y="1766"/>
                    <a:pt x="1725" y="1653"/>
                  </a:cubicBezTo>
                  <a:cubicBezTo>
                    <a:pt x="1988" y="1552"/>
                    <a:pt x="2236" y="1318"/>
                    <a:pt x="2373" y="1053"/>
                  </a:cubicBezTo>
                  <a:lnTo>
                    <a:pt x="2357" y="13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656600" y="1334880"/>
              <a:ext cx="3281040" cy="3032280"/>
            </a:xfrm>
            <a:custGeom>
              <a:avLst/>
              <a:gdLst/>
              <a:ahLst/>
              <a:rect l="l" t="t" r="r" b="b"/>
              <a:pathLst>
                <a:path w="2320" h="2011">
                  <a:moveTo>
                    <a:pt x="472" y="283"/>
                  </a:moveTo>
                  <a:cubicBezTo>
                    <a:pt x="358" y="330"/>
                    <a:pt x="136" y="67"/>
                    <a:pt x="144" y="443"/>
                  </a:cubicBezTo>
                  <a:cubicBezTo>
                    <a:pt x="104" y="619"/>
                    <a:pt x="551" y="555"/>
                    <a:pt x="552" y="611"/>
                  </a:cubicBezTo>
                  <a:cubicBezTo>
                    <a:pt x="553" y="667"/>
                    <a:pt x="0" y="459"/>
                    <a:pt x="152" y="779"/>
                  </a:cubicBezTo>
                  <a:cubicBezTo>
                    <a:pt x="208" y="1035"/>
                    <a:pt x="569" y="848"/>
                    <a:pt x="600" y="907"/>
                  </a:cubicBezTo>
                  <a:cubicBezTo>
                    <a:pt x="631" y="966"/>
                    <a:pt x="216" y="875"/>
                    <a:pt x="336" y="1131"/>
                  </a:cubicBezTo>
                  <a:cubicBezTo>
                    <a:pt x="456" y="1387"/>
                    <a:pt x="773" y="1171"/>
                    <a:pt x="808" y="1227"/>
                  </a:cubicBezTo>
                  <a:cubicBezTo>
                    <a:pt x="835" y="1267"/>
                    <a:pt x="392" y="1195"/>
                    <a:pt x="496" y="1371"/>
                  </a:cubicBezTo>
                  <a:cubicBezTo>
                    <a:pt x="600" y="1547"/>
                    <a:pt x="899" y="1406"/>
                    <a:pt x="944" y="1459"/>
                  </a:cubicBezTo>
                  <a:cubicBezTo>
                    <a:pt x="989" y="1512"/>
                    <a:pt x="759" y="1635"/>
                    <a:pt x="768" y="1691"/>
                  </a:cubicBezTo>
                  <a:cubicBezTo>
                    <a:pt x="880" y="1835"/>
                    <a:pt x="932" y="1796"/>
                    <a:pt x="1000" y="1795"/>
                  </a:cubicBezTo>
                  <a:lnTo>
                    <a:pt x="1320" y="1579"/>
                  </a:lnTo>
                  <a:cubicBezTo>
                    <a:pt x="1332" y="1612"/>
                    <a:pt x="832" y="1803"/>
                    <a:pt x="1072" y="1995"/>
                  </a:cubicBezTo>
                  <a:cubicBezTo>
                    <a:pt x="1560" y="2011"/>
                    <a:pt x="2005" y="1870"/>
                    <a:pt x="2176" y="1747"/>
                  </a:cubicBezTo>
                  <a:cubicBezTo>
                    <a:pt x="2200" y="1555"/>
                    <a:pt x="2320" y="1523"/>
                    <a:pt x="2096" y="1259"/>
                  </a:cubicBezTo>
                  <a:cubicBezTo>
                    <a:pt x="1872" y="995"/>
                    <a:pt x="1103" y="326"/>
                    <a:pt x="832" y="163"/>
                  </a:cubicBezTo>
                  <a:cubicBezTo>
                    <a:pt x="561" y="0"/>
                    <a:pt x="586" y="236"/>
                    <a:pt x="472" y="28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894200" y="1351800"/>
              <a:ext cx="2500560" cy="2062440"/>
            </a:xfrm>
            <a:custGeom>
              <a:avLst/>
              <a:gdLst/>
              <a:ahLst/>
              <a:rect l="l" t="t" r="r" b="b"/>
              <a:pathLst>
                <a:path w="1768" h="1368">
                  <a:moveTo>
                    <a:pt x="1768" y="1272"/>
                  </a:moveTo>
                  <a:cubicBezTo>
                    <a:pt x="1664" y="1072"/>
                    <a:pt x="1351" y="779"/>
                    <a:pt x="1096" y="576"/>
                  </a:cubicBezTo>
                  <a:cubicBezTo>
                    <a:pt x="841" y="373"/>
                    <a:pt x="401" y="112"/>
                    <a:pt x="240" y="56"/>
                  </a:cubicBezTo>
                  <a:cubicBezTo>
                    <a:pt x="79" y="0"/>
                    <a:pt x="0" y="119"/>
                    <a:pt x="128" y="240"/>
                  </a:cubicBezTo>
                  <a:cubicBezTo>
                    <a:pt x="256" y="361"/>
                    <a:pt x="761" y="603"/>
                    <a:pt x="1008" y="784"/>
                  </a:cubicBezTo>
                  <a:cubicBezTo>
                    <a:pt x="1255" y="965"/>
                    <a:pt x="1488" y="1288"/>
                    <a:pt x="1608" y="1328"/>
                  </a:cubicBezTo>
                  <a:cubicBezTo>
                    <a:pt x="1728" y="1320"/>
                    <a:pt x="1696" y="1368"/>
                    <a:pt x="1768" y="12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7903800" y="1713600"/>
              <a:ext cx="327960" cy="2894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677720" y="2944080"/>
              <a:ext cx="237600" cy="277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032600" y="3836880"/>
              <a:ext cx="339120" cy="241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214040" y="4886280"/>
              <a:ext cx="259920" cy="1087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179840" y="5417280"/>
              <a:ext cx="237600" cy="2408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703920" y="5911560"/>
              <a:ext cx="294120" cy="4222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878440" y="6176880"/>
              <a:ext cx="361800" cy="3013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939200" y="4886280"/>
              <a:ext cx="226080" cy="3013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960" y="993600"/>
            <a:ext cx="3928680" cy="5716440"/>
            <a:chOff x="561960" y="993600"/>
            <a:chExt cx="3928680" cy="5716440"/>
          </a:xfrm>
        </p:grpSpPr>
        <p:sp>
          <p:nvSpPr>
            <p:cNvPr id="105" name=""/>
            <p:cNvSpPr/>
            <p:nvPr/>
          </p:nvSpPr>
          <p:spPr>
            <a:xfrm>
              <a:off x="561960" y="993600"/>
              <a:ext cx="3827160" cy="3525120"/>
            </a:xfrm>
            <a:custGeom>
              <a:avLst/>
              <a:gdLst/>
              <a:ahLst/>
              <a:rect l="l" t="t" r="r" b="b"/>
              <a:pathLst>
                <a:path w="2707" h="2337">
                  <a:moveTo>
                    <a:pt x="531" y="69"/>
                  </a:moveTo>
                  <a:cubicBezTo>
                    <a:pt x="788" y="138"/>
                    <a:pt x="1336" y="297"/>
                    <a:pt x="1699" y="549"/>
                  </a:cubicBezTo>
                  <a:cubicBezTo>
                    <a:pt x="2059" y="796"/>
                    <a:pt x="2539" y="1320"/>
                    <a:pt x="2707" y="1581"/>
                  </a:cubicBezTo>
                  <a:lnTo>
                    <a:pt x="2707" y="2141"/>
                  </a:lnTo>
                  <a:cubicBezTo>
                    <a:pt x="2534" y="2264"/>
                    <a:pt x="1983" y="2297"/>
                    <a:pt x="1667" y="2317"/>
                  </a:cubicBezTo>
                  <a:cubicBezTo>
                    <a:pt x="1351" y="2337"/>
                    <a:pt x="1003" y="2309"/>
                    <a:pt x="811" y="2261"/>
                  </a:cubicBezTo>
                  <a:cubicBezTo>
                    <a:pt x="619" y="2213"/>
                    <a:pt x="606" y="2189"/>
                    <a:pt x="515" y="2029"/>
                  </a:cubicBezTo>
                  <a:cubicBezTo>
                    <a:pt x="424" y="1869"/>
                    <a:pt x="350" y="1534"/>
                    <a:pt x="267" y="1301"/>
                  </a:cubicBezTo>
                  <a:cubicBezTo>
                    <a:pt x="184" y="1068"/>
                    <a:pt x="38" y="824"/>
                    <a:pt x="19" y="629"/>
                  </a:cubicBezTo>
                  <a:cubicBezTo>
                    <a:pt x="0" y="434"/>
                    <a:pt x="70" y="226"/>
                    <a:pt x="155" y="133"/>
                  </a:cubicBezTo>
                  <a:cubicBezTo>
                    <a:pt x="240" y="40"/>
                    <a:pt x="274" y="0"/>
                    <a:pt x="531" y="69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7760" y="4046400"/>
              <a:ext cx="3355200" cy="2663640"/>
            </a:xfrm>
            <a:custGeom>
              <a:avLst/>
              <a:gdLst/>
              <a:ahLst/>
              <a:rect l="l" t="t" r="r" b="b"/>
              <a:pathLst>
                <a:path w="2373" h="1766">
                  <a:moveTo>
                    <a:pt x="2357" y="133"/>
                  </a:moveTo>
                  <a:cubicBezTo>
                    <a:pt x="2190" y="0"/>
                    <a:pt x="1704" y="236"/>
                    <a:pt x="1373" y="253"/>
                  </a:cubicBezTo>
                  <a:cubicBezTo>
                    <a:pt x="1049" y="268"/>
                    <a:pt x="574" y="180"/>
                    <a:pt x="373" y="237"/>
                  </a:cubicBezTo>
                  <a:cubicBezTo>
                    <a:pt x="373" y="237"/>
                    <a:pt x="149" y="429"/>
                    <a:pt x="149" y="429"/>
                  </a:cubicBezTo>
                  <a:cubicBezTo>
                    <a:pt x="149" y="429"/>
                    <a:pt x="0" y="712"/>
                    <a:pt x="29" y="845"/>
                  </a:cubicBezTo>
                  <a:cubicBezTo>
                    <a:pt x="54" y="973"/>
                    <a:pt x="80" y="1158"/>
                    <a:pt x="149" y="1253"/>
                  </a:cubicBezTo>
                  <a:cubicBezTo>
                    <a:pt x="206" y="1365"/>
                    <a:pt x="258" y="1437"/>
                    <a:pt x="373" y="1517"/>
                  </a:cubicBezTo>
                  <a:cubicBezTo>
                    <a:pt x="497" y="1657"/>
                    <a:pt x="612" y="1710"/>
                    <a:pt x="837" y="1733"/>
                  </a:cubicBezTo>
                  <a:cubicBezTo>
                    <a:pt x="1062" y="1756"/>
                    <a:pt x="1469" y="1766"/>
                    <a:pt x="1725" y="1653"/>
                  </a:cubicBezTo>
                  <a:cubicBezTo>
                    <a:pt x="1988" y="1552"/>
                    <a:pt x="2236" y="1318"/>
                    <a:pt x="2373" y="1053"/>
                  </a:cubicBezTo>
                  <a:lnTo>
                    <a:pt x="2357" y="133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0680" y="1322280"/>
              <a:ext cx="3279960" cy="3033360"/>
            </a:xfrm>
            <a:custGeom>
              <a:avLst/>
              <a:gdLst/>
              <a:ahLst/>
              <a:rect l="l" t="t" r="r" b="b"/>
              <a:pathLst>
                <a:path w="2320" h="2011">
                  <a:moveTo>
                    <a:pt x="472" y="283"/>
                  </a:moveTo>
                  <a:cubicBezTo>
                    <a:pt x="358" y="330"/>
                    <a:pt x="136" y="67"/>
                    <a:pt x="144" y="443"/>
                  </a:cubicBezTo>
                  <a:cubicBezTo>
                    <a:pt x="104" y="619"/>
                    <a:pt x="551" y="555"/>
                    <a:pt x="552" y="611"/>
                  </a:cubicBezTo>
                  <a:cubicBezTo>
                    <a:pt x="553" y="667"/>
                    <a:pt x="0" y="459"/>
                    <a:pt x="152" y="779"/>
                  </a:cubicBezTo>
                  <a:cubicBezTo>
                    <a:pt x="208" y="1035"/>
                    <a:pt x="569" y="848"/>
                    <a:pt x="600" y="907"/>
                  </a:cubicBezTo>
                  <a:cubicBezTo>
                    <a:pt x="631" y="966"/>
                    <a:pt x="216" y="875"/>
                    <a:pt x="336" y="1131"/>
                  </a:cubicBezTo>
                  <a:cubicBezTo>
                    <a:pt x="456" y="1387"/>
                    <a:pt x="773" y="1171"/>
                    <a:pt x="808" y="1227"/>
                  </a:cubicBezTo>
                  <a:cubicBezTo>
                    <a:pt x="835" y="1267"/>
                    <a:pt x="392" y="1195"/>
                    <a:pt x="496" y="1371"/>
                  </a:cubicBezTo>
                  <a:cubicBezTo>
                    <a:pt x="600" y="1547"/>
                    <a:pt x="899" y="1406"/>
                    <a:pt x="944" y="1459"/>
                  </a:cubicBezTo>
                  <a:cubicBezTo>
                    <a:pt x="989" y="1512"/>
                    <a:pt x="759" y="1635"/>
                    <a:pt x="768" y="1691"/>
                  </a:cubicBezTo>
                  <a:cubicBezTo>
                    <a:pt x="880" y="1835"/>
                    <a:pt x="932" y="1796"/>
                    <a:pt x="1000" y="1795"/>
                  </a:cubicBezTo>
                  <a:lnTo>
                    <a:pt x="1320" y="1579"/>
                  </a:lnTo>
                  <a:cubicBezTo>
                    <a:pt x="1332" y="1612"/>
                    <a:pt x="832" y="1803"/>
                    <a:pt x="1072" y="1995"/>
                  </a:cubicBezTo>
                  <a:cubicBezTo>
                    <a:pt x="1560" y="2011"/>
                    <a:pt x="2005" y="1870"/>
                    <a:pt x="2176" y="1747"/>
                  </a:cubicBezTo>
                  <a:cubicBezTo>
                    <a:pt x="2200" y="1555"/>
                    <a:pt x="2320" y="1523"/>
                    <a:pt x="2096" y="1259"/>
                  </a:cubicBezTo>
                  <a:cubicBezTo>
                    <a:pt x="1872" y="995"/>
                    <a:pt x="1103" y="326"/>
                    <a:pt x="832" y="163"/>
                  </a:cubicBezTo>
                  <a:cubicBezTo>
                    <a:pt x="561" y="0"/>
                    <a:pt x="586" y="236"/>
                    <a:pt x="472" y="28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3560" y="1338840"/>
              <a:ext cx="2499480" cy="2063160"/>
            </a:xfrm>
            <a:custGeom>
              <a:avLst/>
              <a:gdLst/>
              <a:ahLst/>
              <a:rect l="l" t="t" r="r" b="b"/>
              <a:pathLst>
                <a:path w="1768" h="1368">
                  <a:moveTo>
                    <a:pt x="1768" y="1272"/>
                  </a:moveTo>
                  <a:cubicBezTo>
                    <a:pt x="1664" y="1072"/>
                    <a:pt x="1351" y="779"/>
                    <a:pt x="1096" y="576"/>
                  </a:cubicBezTo>
                  <a:cubicBezTo>
                    <a:pt x="841" y="373"/>
                    <a:pt x="401" y="112"/>
                    <a:pt x="240" y="56"/>
                  </a:cubicBezTo>
                  <a:cubicBezTo>
                    <a:pt x="79" y="0"/>
                    <a:pt x="0" y="119"/>
                    <a:pt x="128" y="240"/>
                  </a:cubicBezTo>
                  <a:cubicBezTo>
                    <a:pt x="256" y="361"/>
                    <a:pt x="761" y="603"/>
                    <a:pt x="1008" y="784"/>
                  </a:cubicBezTo>
                  <a:cubicBezTo>
                    <a:pt x="1255" y="965"/>
                    <a:pt x="1488" y="1288"/>
                    <a:pt x="1608" y="1328"/>
                  </a:cubicBezTo>
                  <a:cubicBezTo>
                    <a:pt x="1728" y="1320"/>
                    <a:pt x="1696" y="1368"/>
                    <a:pt x="1768" y="12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6560" y="1700640"/>
              <a:ext cx="327960" cy="2894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33360" y="2931840"/>
              <a:ext cx="237240" cy="277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76240" y="3824640"/>
              <a:ext cx="339120" cy="241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4360" y="4874400"/>
              <a:ext cx="259920" cy="1087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30880" y="5405760"/>
              <a:ext cx="237240" cy="2408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9560" y="5900400"/>
              <a:ext cx="293760" cy="4222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07360" y="6165720"/>
              <a:ext cx="361800" cy="3016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81960" y="4874400"/>
              <a:ext cx="225720" cy="3016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24280" y="2762280"/>
            <a:ext cx="1558800" cy="4079880"/>
          </a:xfrm>
          <a:custGeom>
            <a:avLst/>
            <a:gdLst/>
            <a:ahLst/>
            <a:rect l="l" t="t" r="r" b="b"/>
            <a:pathLst>
              <a:path w="1103" h="2705">
                <a:moveTo>
                  <a:pt x="72" y="2137"/>
                </a:moveTo>
                <a:cubicBezTo>
                  <a:pt x="0" y="1722"/>
                  <a:pt x="72" y="185"/>
                  <a:pt x="72" y="185"/>
                </a:cubicBezTo>
                <a:cubicBezTo>
                  <a:pt x="72" y="185"/>
                  <a:pt x="173" y="50"/>
                  <a:pt x="296" y="25"/>
                </a:cubicBezTo>
                <a:cubicBezTo>
                  <a:pt x="419" y="0"/>
                  <a:pt x="687" y="0"/>
                  <a:pt x="808" y="33"/>
                </a:cubicBezTo>
                <a:cubicBezTo>
                  <a:pt x="929" y="66"/>
                  <a:pt x="1024" y="201"/>
                  <a:pt x="1024" y="201"/>
                </a:cubicBezTo>
                <a:cubicBezTo>
                  <a:pt x="1024" y="201"/>
                  <a:pt x="1103" y="1665"/>
                  <a:pt x="1016" y="2073"/>
                </a:cubicBezTo>
                <a:cubicBezTo>
                  <a:pt x="929" y="2481"/>
                  <a:pt x="728" y="2705"/>
                  <a:pt x="512" y="2681"/>
                </a:cubicBezTo>
                <a:cubicBezTo>
                  <a:pt x="355" y="2692"/>
                  <a:pt x="144" y="2552"/>
                  <a:pt x="72" y="2137"/>
                </a:cubicBezTo>
                <a:close/>
              </a:path>
            </a:pathLst>
          </a:custGeom>
          <a:solidFill>
            <a:srgbClr val="e1e1ff"/>
          </a:solidFill>
          <a:ln w="28440">
            <a:solidFill>
              <a:srgbClr val="92aa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Le Manager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0480" y="5418000"/>
            <a:ext cx="1301760" cy="1266840"/>
          </a:xfrm>
          <a:prstGeom prst="ellipse">
            <a:avLst/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Gestion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Conflit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30480" y="3763800"/>
            <a:ext cx="1324080" cy="905040"/>
          </a:xfrm>
          <a:prstGeom prst="can">
            <a:avLst>
              <a:gd name="adj" fmla="val 25000"/>
            </a:avLst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Nego</a:t>
            </a: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a50021"/>
                </a:solidFill>
                <a:latin typeface="Arial"/>
              </a:rPr>
              <a:t>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97360" y="4608360"/>
            <a:ext cx="1380960" cy="844560"/>
          </a:xfrm>
          <a:prstGeom prst="can">
            <a:avLst>
              <a:gd name="adj" fmla="val 7666"/>
            </a:avLst>
          </a:prstGeom>
          <a:solidFill>
            <a:srgbClr val="d1d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Gestion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équ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Ré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4600" y="3005280"/>
            <a:ext cx="1288800" cy="904680"/>
          </a:xfrm>
          <a:prstGeom prst="can">
            <a:avLst>
              <a:gd name="adj" fmla="val 7666"/>
            </a:avLst>
          </a:prstGeom>
          <a:solidFill>
            <a:srgbClr val="d1d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Commun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cation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184480"/>
            <a:ext cx="1086120" cy="8920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44080" y="1292400"/>
            <a:ext cx="15303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600" spc="-1" strike="noStrike">
                <a:solidFill>
                  <a:srgbClr val="3300af"/>
                </a:solidFill>
                <a:latin typeface="Arial"/>
              </a:rPr>
              <a:t>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39040" y="2354400"/>
            <a:ext cx="1676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Plan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0" y="2354400"/>
            <a:ext cx="19569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Analys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Institution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1400" y="3497400"/>
            <a:ext cx="2421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Analy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Organisation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60600" y="5262480"/>
            <a:ext cx="17665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Gestion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2560" y="3497400"/>
            <a:ext cx="77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9440" y="5262480"/>
            <a:ext cx="1473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244520"/>
            <a:ext cx="1719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Projec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Program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14000" y="1401840"/>
            <a:ext cx="189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326520" y="5664240"/>
            <a:ext cx="1082520" cy="1211400"/>
            <a:chOff x="-326520" y="5664240"/>
            <a:chExt cx="1082520" cy="1211400"/>
          </a:xfrm>
        </p:grpSpPr>
        <p:grpSp>
          <p:nvGrpSpPr>
            <p:cNvPr id="134" name=""/>
            <p:cNvGrpSpPr/>
            <p:nvPr/>
          </p:nvGrpSpPr>
          <p:grpSpPr>
            <a:xfrm>
              <a:off x="-294480" y="5725080"/>
              <a:ext cx="1003680" cy="1137240"/>
              <a:chOff x="-294480" y="5725080"/>
              <a:chExt cx="1003680" cy="11372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-82080" y="5725080"/>
                <a:ext cx="577800" cy="1137240"/>
                <a:chOff x="-82080" y="5725080"/>
                <a:chExt cx="577800" cy="1137240"/>
              </a:xfrm>
            </p:grpSpPr>
            <p:sp>
              <p:nvSpPr>
                <p:cNvPr id="136" name=""/>
                <p:cNvSpPr/>
                <p:nvPr/>
              </p:nvSpPr>
              <p:spPr>
                <a:xfrm rot="1454400">
                  <a:off x="254880" y="57294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454400">
                  <a:off x="21960" y="632124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-294480" y="5996160"/>
                <a:ext cx="1003680" cy="603000"/>
                <a:chOff x="-294480" y="5996160"/>
                <a:chExt cx="1003680" cy="603000"/>
              </a:xfrm>
            </p:grpSpPr>
            <p:sp>
              <p:nvSpPr>
                <p:cNvPr id="139" name=""/>
                <p:cNvSpPr/>
                <p:nvPr/>
              </p:nvSpPr>
              <p:spPr>
                <a:xfrm rot="6854400">
                  <a:off x="385560" y="61988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6854400">
                  <a:off x="-128160" y="59306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-326520" y="5779080"/>
              <a:ext cx="1082520" cy="1010520"/>
              <a:chOff x="-326520" y="5779080"/>
              <a:chExt cx="1082520" cy="101052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-90360" y="5779080"/>
                <a:ext cx="603720" cy="1010520"/>
                <a:chOff x="-90360" y="5779080"/>
                <a:chExt cx="603720" cy="1010520"/>
              </a:xfrm>
            </p:grpSpPr>
            <p:sp>
              <p:nvSpPr>
                <p:cNvPr id="143" name=""/>
                <p:cNvSpPr/>
                <p:nvPr/>
              </p:nvSpPr>
              <p:spPr>
                <a:xfrm rot="19905600">
                  <a:off x="10440" y="57884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9905600">
                  <a:off x="254880" y="63140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-326520" y="5935680"/>
                <a:ext cx="1082520" cy="702360"/>
                <a:chOff x="-326520" y="5935680"/>
                <a:chExt cx="1082520" cy="702360"/>
              </a:xfrm>
            </p:grpSpPr>
            <p:sp>
              <p:nvSpPr>
                <p:cNvPr id="146" name=""/>
                <p:cNvSpPr/>
                <p:nvPr/>
              </p:nvSpPr>
              <p:spPr>
                <a:xfrm rot="3705600">
                  <a:off x="418680" y="585432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3705600">
                  <a:off x="-126000" y="61822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-315720" y="5664240"/>
              <a:ext cx="1059480" cy="1176120"/>
              <a:chOff x="-315720" y="5664240"/>
              <a:chExt cx="1059480" cy="1176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64080" y="5664240"/>
                <a:ext cx="294840" cy="1176120"/>
                <a:chOff x="64080" y="5664240"/>
                <a:chExt cx="294840" cy="1176120"/>
              </a:xfrm>
            </p:grpSpPr>
            <p:sp>
              <p:nvSpPr>
                <p:cNvPr id="150" name=""/>
                <p:cNvSpPr/>
                <p:nvPr/>
              </p:nvSpPr>
              <p:spPr>
                <a:xfrm rot="21224400">
                  <a:off x="92880" y="56700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1224400">
                  <a:off x="192960" y="629784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315720" y="6137640"/>
                <a:ext cx="1059480" cy="237240"/>
                <a:chOff x="-315720" y="6137640"/>
                <a:chExt cx="1059480" cy="237240"/>
              </a:xfrm>
            </p:grpSpPr>
            <p:sp>
              <p:nvSpPr>
                <p:cNvPr id="153" name=""/>
                <p:cNvSpPr/>
                <p:nvPr/>
              </p:nvSpPr>
              <p:spPr>
                <a:xfrm rot="5023800">
                  <a:off x="424440" y="600840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5023800">
                  <a:off x="-154440" y="60379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-241200" y="5784840"/>
              <a:ext cx="912960" cy="938160"/>
              <a:chOff x="-241200" y="5784840"/>
              <a:chExt cx="912960" cy="9381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-197640" y="5811480"/>
                <a:ext cx="818280" cy="881640"/>
                <a:chOff x="-197640" y="5811480"/>
                <a:chExt cx="818280" cy="881640"/>
              </a:xfrm>
            </p:grpSpPr>
            <p:sp>
              <p:nvSpPr>
                <p:cNvPr id="157" name=""/>
                <p:cNvSpPr/>
                <p:nvPr/>
              </p:nvSpPr>
              <p:spPr>
                <a:xfrm rot="18944400">
                  <a:off x="-57240" y="58003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944400">
                  <a:off x="322560" y="623808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-241200" y="5784840"/>
                <a:ext cx="912960" cy="938160"/>
                <a:chOff x="-241200" y="5784840"/>
                <a:chExt cx="912960" cy="938160"/>
              </a:xfrm>
            </p:grpSpPr>
            <p:sp>
              <p:nvSpPr>
                <p:cNvPr id="160" name=""/>
                <p:cNvSpPr/>
                <p:nvPr/>
              </p:nvSpPr>
              <p:spPr>
                <a:xfrm rot="2743800">
                  <a:off x="363600" y="57528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2743800">
                  <a:off x="-69480" y="62182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-316440" y="5693040"/>
              <a:ext cx="1050120" cy="1182600"/>
              <a:chOff x="-316440" y="5693040"/>
              <a:chExt cx="1050120" cy="11826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48960" y="5693040"/>
                <a:ext cx="316080" cy="1182600"/>
                <a:chOff x="48960" y="5693040"/>
                <a:chExt cx="316080" cy="1182600"/>
              </a:xfrm>
            </p:grpSpPr>
            <p:sp>
              <p:nvSpPr>
                <p:cNvPr id="164" name=""/>
                <p:cNvSpPr/>
                <p:nvPr/>
              </p:nvSpPr>
              <p:spPr>
                <a:xfrm rot="624000">
                  <a:off x="180720" y="570096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624000">
                  <a:off x="96120" y="633132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-316440" y="6100200"/>
                <a:ext cx="1050120" cy="376920"/>
                <a:chOff x="-316440" y="6100200"/>
                <a:chExt cx="1050120" cy="376920"/>
              </a:xfrm>
            </p:grpSpPr>
            <p:sp>
              <p:nvSpPr>
                <p:cNvPr id="167" name=""/>
                <p:cNvSpPr/>
                <p:nvPr/>
              </p:nvSpPr>
              <p:spPr>
                <a:xfrm rot="6024600">
                  <a:off x="411480" y="61243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6024600">
                  <a:off x="-151560" y="598680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-259920" y="5734440"/>
              <a:ext cx="943200" cy="1073880"/>
              <a:chOff x="-259920" y="5734440"/>
              <a:chExt cx="943200" cy="10738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-259920" y="5905800"/>
                <a:ext cx="943200" cy="730080"/>
                <a:chOff x="-259920" y="5905800"/>
                <a:chExt cx="943200" cy="730080"/>
              </a:xfrm>
            </p:grpSpPr>
            <p:sp>
              <p:nvSpPr>
                <p:cNvPr id="171" name=""/>
                <p:cNvSpPr/>
                <p:nvPr/>
              </p:nvSpPr>
              <p:spPr>
                <a:xfrm rot="18183600">
                  <a:off x="-100440" y="58658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183600">
                  <a:off x="366120" y="62096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-148680" y="5734440"/>
                <a:ext cx="728280" cy="1073880"/>
                <a:chOff x="-148680" y="5734440"/>
                <a:chExt cx="728280" cy="1073880"/>
              </a:xfrm>
            </p:grpSpPr>
            <p:sp>
              <p:nvSpPr>
                <p:cNvPr id="174" name=""/>
                <p:cNvSpPr/>
                <p:nvPr/>
              </p:nvSpPr>
              <p:spPr>
                <a:xfrm rot="1983000">
                  <a:off x="307080" y="572832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983000">
                  <a:off x="-13320" y="62776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114840" y="6140520"/>
              <a:ext cx="196920" cy="2401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8001360" y="3797640"/>
            <a:ext cx="924480" cy="1043280"/>
            <a:chOff x="8001360" y="3797640"/>
            <a:chExt cx="924480" cy="1043280"/>
          </a:xfrm>
        </p:grpSpPr>
        <p:grpSp>
          <p:nvGrpSpPr>
            <p:cNvPr id="178" name=""/>
            <p:cNvGrpSpPr/>
            <p:nvPr/>
          </p:nvGrpSpPr>
          <p:grpSpPr>
            <a:xfrm>
              <a:off x="8047440" y="3848400"/>
              <a:ext cx="821880" cy="981720"/>
              <a:chOff x="8047440" y="3848400"/>
              <a:chExt cx="821880" cy="9817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8215920" y="3848400"/>
                <a:ext cx="482760" cy="981720"/>
                <a:chOff x="8215920" y="3848400"/>
                <a:chExt cx="482760" cy="981720"/>
              </a:xfrm>
            </p:grpSpPr>
            <p:sp>
              <p:nvSpPr>
                <p:cNvPr id="180" name=""/>
                <p:cNvSpPr/>
                <p:nvPr/>
              </p:nvSpPr>
              <p:spPr>
                <a:xfrm rot="1454400">
                  <a:off x="8496360" y="38505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454400">
                  <a:off x="8306280" y="4362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8047440" y="4086360"/>
                <a:ext cx="821880" cy="513000"/>
                <a:chOff x="8047440" y="4086360"/>
                <a:chExt cx="821880" cy="513000"/>
              </a:xfrm>
            </p:grpSpPr>
            <p:sp>
              <p:nvSpPr>
                <p:cNvPr id="183" name=""/>
                <p:cNvSpPr/>
                <p:nvPr/>
              </p:nvSpPr>
              <p:spPr>
                <a:xfrm rot="6854400">
                  <a:off x="8599680" y="42688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6854400">
                  <a:off x="8180280" y="4036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8001360" y="3911760"/>
              <a:ext cx="924480" cy="838800"/>
              <a:chOff x="8001360" y="3911760"/>
              <a:chExt cx="924480" cy="83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215560" y="3911760"/>
                <a:ext cx="491400" cy="838800"/>
                <a:chOff x="8215560" y="3911760"/>
                <a:chExt cx="491400" cy="838800"/>
              </a:xfrm>
            </p:grpSpPr>
            <p:sp>
              <p:nvSpPr>
                <p:cNvPr id="187" name=""/>
                <p:cNvSpPr/>
                <p:nvPr/>
              </p:nvSpPr>
              <p:spPr>
                <a:xfrm rot="19905600">
                  <a:off x="8297280" y="39211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9905600">
                  <a:off x="8488440" y="4360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001360" y="4028400"/>
                <a:ext cx="924480" cy="608760"/>
                <a:chOff x="8001360" y="4028400"/>
                <a:chExt cx="924480" cy="608760"/>
              </a:xfrm>
            </p:grpSpPr>
            <p:sp>
              <p:nvSpPr>
                <p:cNvPr id="190" name=""/>
                <p:cNvSpPr/>
                <p:nvPr/>
              </p:nvSpPr>
              <p:spPr>
                <a:xfrm rot="3705600">
                  <a:off x="8638920" y="39549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3705600">
                  <a:off x="8175960" y="4245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8027280" y="3797640"/>
              <a:ext cx="871920" cy="1011600"/>
              <a:chOff x="8027280" y="3797640"/>
              <a:chExt cx="871920" cy="10116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8331840" y="3797640"/>
                <a:ext cx="258120" cy="1011600"/>
                <a:chOff x="8331840" y="3797640"/>
                <a:chExt cx="258120" cy="1011600"/>
              </a:xfrm>
            </p:grpSpPr>
            <p:sp>
              <p:nvSpPr>
                <p:cNvPr id="194" name=""/>
                <p:cNvSpPr/>
                <p:nvPr/>
              </p:nvSpPr>
              <p:spPr>
                <a:xfrm rot="21224400">
                  <a:off x="8356680" y="380232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21224400">
                  <a:off x="8452800" y="43401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8027280" y="4211280"/>
                <a:ext cx="871920" cy="190080"/>
                <a:chOff x="8027280" y="4211280"/>
                <a:chExt cx="871920" cy="190080"/>
              </a:xfrm>
            </p:grpSpPr>
            <p:sp>
              <p:nvSpPr>
                <p:cNvPr id="197" name=""/>
                <p:cNvSpPr/>
                <p:nvPr/>
              </p:nvSpPr>
              <p:spPr>
                <a:xfrm rot="5023800">
                  <a:off x="8634600" y="41097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023800">
                  <a:off x="8155440" y="41227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8076240" y="3898440"/>
              <a:ext cx="775080" cy="811440"/>
              <a:chOff x="8076240" y="3898440"/>
              <a:chExt cx="775080" cy="8114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8127000" y="3934800"/>
                <a:ext cx="668520" cy="737280"/>
                <a:chOff x="8127000" y="3934800"/>
                <a:chExt cx="668520" cy="737280"/>
              </a:xfrm>
            </p:grpSpPr>
            <p:sp>
              <p:nvSpPr>
                <p:cNvPr id="201" name=""/>
                <p:cNvSpPr/>
                <p:nvPr/>
              </p:nvSpPr>
              <p:spPr>
                <a:xfrm rot="18944400">
                  <a:off x="8240040" y="39283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8944400">
                  <a:off x="8545320" y="42980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8076240" y="3898440"/>
                <a:ext cx="775080" cy="811440"/>
                <a:chOff x="8076240" y="3898440"/>
                <a:chExt cx="775080" cy="811440"/>
              </a:xfrm>
            </p:grpSpPr>
            <p:sp>
              <p:nvSpPr>
                <p:cNvPr id="204" name=""/>
                <p:cNvSpPr/>
                <p:nvPr/>
              </p:nvSpPr>
              <p:spPr>
                <a:xfrm rot="2743800">
                  <a:off x="8590320" y="386820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2743800">
                  <a:off x="8225640" y="42753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8028720" y="3821040"/>
              <a:ext cx="861120" cy="1019880"/>
              <a:chOff x="8028720" y="3821040"/>
              <a:chExt cx="861120" cy="10198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8329680" y="3821040"/>
                <a:ext cx="255600" cy="1019880"/>
                <a:chOff x="8329680" y="3821040"/>
                <a:chExt cx="255600" cy="1019880"/>
              </a:xfrm>
            </p:grpSpPr>
            <p:sp>
              <p:nvSpPr>
                <p:cNvPr id="208" name=""/>
                <p:cNvSpPr/>
                <p:nvPr/>
              </p:nvSpPr>
              <p:spPr>
                <a:xfrm rot="624000">
                  <a:off x="8432640" y="38271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624000">
                  <a:off x="8370720" y="43700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028720" y="4170240"/>
                <a:ext cx="861120" cy="328320"/>
                <a:chOff x="8028720" y="4170240"/>
                <a:chExt cx="861120" cy="328320"/>
              </a:xfrm>
            </p:grpSpPr>
            <p:sp>
              <p:nvSpPr>
                <p:cNvPr id="211" name=""/>
                <p:cNvSpPr/>
                <p:nvPr/>
              </p:nvSpPr>
              <p:spPr>
                <a:xfrm rot="6024600">
                  <a:off x="8622000" y="42069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6024600">
                  <a:off x="8159400" y="4081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8075160" y="3855960"/>
              <a:ext cx="772200" cy="927360"/>
              <a:chOff x="8075160" y="3855960"/>
              <a:chExt cx="772200" cy="92736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8075160" y="4011480"/>
                <a:ext cx="772200" cy="615600"/>
                <a:chOff x="8075160" y="4011480"/>
                <a:chExt cx="772200" cy="615600"/>
              </a:xfrm>
            </p:grpSpPr>
            <p:sp>
              <p:nvSpPr>
                <p:cNvPr id="215" name=""/>
                <p:cNvSpPr/>
                <p:nvPr/>
              </p:nvSpPr>
              <p:spPr>
                <a:xfrm rot="18183600">
                  <a:off x="8203320" y="39823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8183600">
                  <a:off x="8582400" y="42760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8157240" y="3855960"/>
                <a:ext cx="613440" cy="927360"/>
                <a:chOff x="8157240" y="3855960"/>
                <a:chExt cx="613440" cy="927360"/>
              </a:xfrm>
            </p:grpSpPr>
            <p:sp>
              <p:nvSpPr>
                <p:cNvPr id="218" name=""/>
                <p:cNvSpPr/>
                <p:nvPr/>
              </p:nvSpPr>
              <p:spPr>
                <a:xfrm rot="1983000">
                  <a:off x="8541360" y="38487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983000">
                  <a:off x="8274960" y="43257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8382600" y="4206600"/>
              <a:ext cx="160560" cy="2080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3040" y="5161320"/>
            <a:ext cx="924480" cy="1043280"/>
            <a:chOff x="113040" y="5161320"/>
            <a:chExt cx="924480" cy="1043280"/>
          </a:xfrm>
        </p:grpSpPr>
        <p:grpSp>
          <p:nvGrpSpPr>
            <p:cNvPr id="222" name=""/>
            <p:cNvGrpSpPr/>
            <p:nvPr/>
          </p:nvGrpSpPr>
          <p:grpSpPr>
            <a:xfrm>
              <a:off x="159120" y="5212080"/>
              <a:ext cx="821880" cy="981720"/>
              <a:chOff x="159120" y="5212080"/>
              <a:chExt cx="821880" cy="9817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27600" y="5212080"/>
                <a:ext cx="482760" cy="981720"/>
                <a:chOff x="327600" y="5212080"/>
                <a:chExt cx="482760" cy="981720"/>
              </a:xfrm>
            </p:grpSpPr>
            <p:sp>
              <p:nvSpPr>
                <p:cNvPr id="224" name=""/>
                <p:cNvSpPr/>
                <p:nvPr/>
              </p:nvSpPr>
              <p:spPr>
                <a:xfrm rot="1454400">
                  <a:off x="608040" y="52142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454400">
                  <a:off x="417960" y="57265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59120" y="5450040"/>
                <a:ext cx="821880" cy="513000"/>
                <a:chOff x="159120" y="5450040"/>
                <a:chExt cx="821880" cy="513000"/>
              </a:xfrm>
            </p:grpSpPr>
            <p:sp>
              <p:nvSpPr>
                <p:cNvPr id="227" name=""/>
                <p:cNvSpPr/>
                <p:nvPr/>
              </p:nvSpPr>
              <p:spPr>
                <a:xfrm rot="6854400">
                  <a:off x="711360" y="56325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6854400">
                  <a:off x="291960" y="5400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13040" y="5275440"/>
              <a:ext cx="924480" cy="838800"/>
              <a:chOff x="113040" y="5275440"/>
              <a:chExt cx="924480" cy="838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27240" y="5275440"/>
                <a:ext cx="491400" cy="838800"/>
                <a:chOff x="327240" y="5275440"/>
                <a:chExt cx="491400" cy="838800"/>
              </a:xfrm>
            </p:grpSpPr>
            <p:sp>
              <p:nvSpPr>
                <p:cNvPr id="231" name=""/>
                <p:cNvSpPr/>
                <p:nvPr/>
              </p:nvSpPr>
              <p:spPr>
                <a:xfrm rot="19905600">
                  <a:off x="408960" y="52848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9905600">
                  <a:off x="600120" y="5724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13040" y="5392080"/>
                <a:ext cx="924480" cy="608760"/>
                <a:chOff x="113040" y="5392080"/>
                <a:chExt cx="924480" cy="608760"/>
              </a:xfrm>
            </p:grpSpPr>
            <p:sp>
              <p:nvSpPr>
                <p:cNvPr id="234" name=""/>
                <p:cNvSpPr/>
                <p:nvPr/>
              </p:nvSpPr>
              <p:spPr>
                <a:xfrm rot="3705600">
                  <a:off x="750600" y="53186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3705600">
                  <a:off x="287640" y="56095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138960" y="5161320"/>
              <a:ext cx="871920" cy="1011600"/>
              <a:chOff x="138960" y="5161320"/>
              <a:chExt cx="871920" cy="10116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443520" y="5161320"/>
                <a:ext cx="258120" cy="1011600"/>
                <a:chOff x="443520" y="5161320"/>
                <a:chExt cx="258120" cy="1011600"/>
              </a:xfrm>
            </p:grpSpPr>
            <p:sp>
              <p:nvSpPr>
                <p:cNvPr id="238" name=""/>
                <p:cNvSpPr/>
                <p:nvPr/>
              </p:nvSpPr>
              <p:spPr>
                <a:xfrm rot="21224400">
                  <a:off x="468360" y="516600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1224400">
                  <a:off x="564480" y="5703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38960" y="5574960"/>
                <a:ext cx="871920" cy="190080"/>
                <a:chOff x="138960" y="5574960"/>
                <a:chExt cx="871920" cy="190080"/>
              </a:xfrm>
            </p:grpSpPr>
            <p:sp>
              <p:nvSpPr>
                <p:cNvPr id="241" name=""/>
                <p:cNvSpPr/>
                <p:nvPr/>
              </p:nvSpPr>
              <p:spPr>
                <a:xfrm rot="5023800">
                  <a:off x="746280" y="54734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5023800">
                  <a:off x="267120" y="54864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187920" y="5262120"/>
              <a:ext cx="775080" cy="811440"/>
              <a:chOff x="187920" y="5262120"/>
              <a:chExt cx="775080" cy="8114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8680" y="5298480"/>
                <a:ext cx="668520" cy="737280"/>
                <a:chOff x="238680" y="5298480"/>
                <a:chExt cx="668520" cy="737280"/>
              </a:xfrm>
            </p:grpSpPr>
            <p:sp>
              <p:nvSpPr>
                <p:cNvPr id="245" name=""/>
                <p:cNvSpPr/>
                <p:nvPr/>
              </p:nvSpPr>
              <p:spPr>
                <a:xfrm rot="18944400">
                  <a:off x="351720" y="52920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8944400">
                  <a:off x="657000" y="56617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87920" y="5262120"/>
                <a:ext cx="775080" cy="811440"/>
                <a:chOff x="187920" y="5262120"/>
                <a:chExt cx="775080" cy="811440"/>
              </a:xfrm>
            </p:grpSpPr>
            <p:sp>
              <p:nvSpPr>
                <p:cNvPr id="248" name=""/>
                <p:cNvSpPr/>
                <p:nvPr/>
              </p:nvSpPr>
              <p:spPr>
                <a:xfrm rot="2743800">
                  <a:off x="702000" y="523188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743800">
                  <a:off x="337320" y="56390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140400" y="5184720"/>
              <a:ext cx="861120" cy="1019880"/>
              <a:chOff x="140400" y="5184720"/>
              <a:chExt cx="861120" cy="1019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41360" y="5184720"/>
                <a:ext cx="255600" cy="1019880"/>
                <a:chOff x="441360" y="5184720"/>
                <a:chExt cx="255600" cy="1019880"/>
              </a:xfrm>
            </p:grpSpPr>
            <p:sp>
              <p:nvSpPr>
                <p:cNvPr id="252" name=""/>
                <p:cNvSpPr/>
                <p:nvPr/>
              </p:nvSpPr>
              <p:spPr>
                <a:xfrm rot="624000">
                  <a:off x="544320" y="51908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624000">
                  <a:off x="482400" y="57337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40400" y="5533920"/>
                <a:ext cx="861120" cy="328320"/>
                <a:chOff x="140400" y="5533920"/>
                <a:chExt cx="861120" cy="328320"/>
              </a:xfrm>
            </p:grpSpPr>
            <p:sp>
              <p:nvSpPr>
                <p:cNvPr id="255" name=""/>
                <p:cNvSpPr/>
                <p:nvPr/>
              </p:nvSpPr>
              <p:spPr>
                <a:xfrm rot="6024600">
                  <a:off x="733680" y="55706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6024600">
                  <a:off x="271080" y="5445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186840" y="5219640"/>
              <a:ext cx="772200" cy="927360"/>
              <a:chOff x="186840" y="5219640"/>
              <a:chExt cx="772200" cy="9273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86840" y="5375160"/>
                <a:ext cx="772200" cy="615600"/>
                <a:chOff x="186840" y="5375160"/>
                <a:chExt cx="772200" cy="615600"/>
              </a:xfrm>
            </p:grpSpPr>
            <p:sp>
              <p:nvSpPr>
                <p:cNvPr id="259" name=""/>
                <p:cNvSpPr/>
                <p:nvPr/>
              </p:nvSpPr>
              <p:spPr>
                <a:xfrm rot="18183600">
                  <a:off x="315000" y="53460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183600">
                  <a:off x="694080" y="56397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68920" y="5219640"/>
                <a:ext cx="613440" cy="927360"/>
                <a:chOff x="268920" y="5219640"/>
                <a:chExt cx="613440" cy="927360"/>
              </a:xfrm>
            </p:grpSpPr>
            <p:sp>
              <p:nvSpPr>
                <p:cNvPr id="262" name=""/>
                <p:cNvSpPr/>
                <p:nvPr/>
              </p:nvSpPr>
              <p:spPr>
                <a:xfrm rot="1983000">
                  <a:off x="653040" y="52124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983000">
                  <a:off x="386640" y="56894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494280" y="5570280"/>
              <a:ext cx="160560" cy="2080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7600" y="5980320"/>
            <a:ext cx="925920" cy="1045440"/>
            <a:chOff x="417600" y="5980320"/>
            <a:chExt cx="925920" cy="1045440"/>
          </a:xfrm>
        </p:grpSpPr>
        <p:grpSp>
          <p:nvGrpSpPr>
            <p:cNvPr id="266" name=""/>
            <p:cNvGrpSpPr/>
            <p:nvPr/>
          </p:nvGrpSpPr>
          <p:grpSpPr>
            <a:xfrm>
              <a:off x="463680" y="6031080"/>
              <a:ext cx="822240" cy="983520"/>
              <a:chOff x="463680" y="6031080"/>
              <a:chExt cx="822240" cy="9835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32880" y="6031080"/>
                <a:ext cx="482760" cy="983520"/>
                <a:chOff x="632880" y="6031080"/>
                <a:chExt cx="482760" cy="983520"/>
              </a:xfrm>
            </p:grpSpPr>
            <p:sp>
              <p:nvSpPr>
                <p:cNvPr id="268" name=""/>
                <p:cNvSpPr/>
                <p:nvPr/>
              </p:nvSpPr>
              <p:spPr>
                <a:xfrm rot="1454400">
                  <a:off x="913320" y="60332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454400">
                  <a:off x="723240" y="6546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63680" y="6269760"/>
                <a:ext cx="822240" cy="513360"/>
                <a:chOff x="463680" y="6269760"/>
                <a:chExt cx="822240" cy="513360"/>
              </a:xfrm>
            </p:grpSpPr>
            <p:sp>
              <p:nvSpPr>
                <p:cNvPr id="271" name=""/>
                <p:cNvSpPr/>
                <p:nvPr/>
              </p:nvSpPr>
              <p:spPr>
                <a:xfrm rot="6854400">
                  <a:off x="1015920" y="64526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6854400">
                  <a:off x="596520" y="6220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417600" y="6095160"/>
              <a:ext cx="925920" cy="839520"/>
              <a:chOff x="417600" y="6095160"/>
              <a:chExt cx="925920" cy="8395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632160" y="6095160"/>
                <a:ext cx="491400" cy="839520"/>
                <a:chOff x="632160" y="6095160"/>
                <a:chExt cx="491400" cy="839520"/>
              </a:xfrm>
            </p:grpSpPr>
            <p:sp>
              <p:nvSpPr>
                <p:cNvPr id="275" name=""/>
                <p:cNvSpPr/>
                <p:nvPr/>
              </p:nvSpPr>
              <p:spPr>
                <a:xfrm rot="19905600">
                  <a:off x="713880" y="61048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9905600">
                  <a:off x="905040" y="6544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17600" y="6211800"/>
                <a:ext cx="925920" cy="609840"/>
                <a:chOff x="417600" y="6211800"/>
                <a:chExt cx="92592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 rot="3705600">
                  <a:off x="1056240" y="613836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705600">
                  <a:off x="592560" y="6429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443880" y="5980320"/>
              <a:ext cx="872280" cy="1013400"/>
              <a:chOff x="443880" y="5980320"/>
              <a:chExt cx="872280" cy="10134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748080" y="5980320"/>
                <a:ext cx="258840" cy="1013400"/>
                <a:chOff x="748080" y="5980320"/>
                <a:chExt cx="258840" cy="1013400"/>
              </a:xfrm>
            </p:grpSpPr>
            <p:sp>
              <p:nvSpPr>
                <p:cNvPr id="282" name=""/>
                <p:cNvSpPr/>
                <p:nvPr/>
              </p:nvSpPr>
              <p:spPr>
                <a:xfrm rot="21224400">
                  <a:off x="772920" y="59850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1224400">
                  <a:off x="869760" y="65239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43880" y="6395040"/>
                <a:ext cx="872280" cy="190080"/>
                <a:chOff x="443880" y="6395040"/>
                <a:chExt cx="872280" cy="190080"/>
              </a:xfrm>
            </p:grpSpPr>
            <p:sp>
              <p:nvSpPr>
                <p:cNvPr id="285" name=""/>
                <p:cNvSpPr/>
                <p:nvPr/>
              </p:nvSpPr>
              <p:spPr>
                <a:xfrm rot="5023800">
                  <a:off x="1050840" y="62935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5023800">
                  <a:off x="571680" y="63061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492840" y="6081480"/>
              <a:ext cx="775800" cy="812880"/>
              <a:chOff x="492840" y="6081480"/>
              <a:chExt cx="775800" cy="8128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43600" y="6118200"/>
                <a:ext cx="668520" cy="737640"/>
                <a:chOff x="543600" y="6118200"/>
                <a:chExt cx="668520" cy="737640"/>
              </a:xfrm>
            </p:grpSpPr>
            <p:sp>
              <p:nvSpPr>
                <p:cNvPr id="289" name=""/>
                <p:cNvSpPr/>
                <p:nvPr/>
              </p:nvSpPr>
              <p:spPr>
                <a:xfrm rot="18944400">
                  <a:off x="656640" y="61117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8944400">
                  <a:off x="961920" y="6481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2840" y="6081480"/>
                <a:ext cx="775800" cy="812880"/>
                <a:chOff x="492840" y="6081480"/>
                <a:chExt cx="775800" cy="812880"/>
              </a:xfrm>
            </p:grpSpPr>
            <p:sp>
              <p:nvSpPr>
                <p:cNvPr id="292" name=""/>
                <p:cNvSpPr/>
                <p:nvPr/>
              </p:nvSpPr>
              <p:spPr>
                <a:xfrm rot="2743800">
                  <a:off x="1007280" y="605088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743800">
                  <a:off x="642240" y="64591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444960" y="6004080"/>
              <a:ext cx="861480" cy="1021680"/>
              <a:chOff x="444960" y="6004080"/>
              <a:chExt cx="861480" cy="102168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746280" y="6004080"/>
                <a:ext cx="255600" cy="1021680"/>
                <a:chOff x="746280" y="6004080"/>
                <a:chExt cx="255600" cy="1021680"/>
              </a:xfrm>
            </p:grpSpPr>
            <p:sp>
              <p:nvSpPr>
                <p:cNvPr id="296" name=""/>
                <p:cNvSpPr/>
                <p:nvPr/>
              </p:nvSpPr>
              <p:spPr>
                <a:xfrm rot="624000">
                  <a:off x="848880" y="60102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624000">
                  <a:off x="786960" y="655416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4960" y="6354000"/>
                <a:ext cx="861480" cy="329040"/>
                <a:chOff x="444960" y="6354000"/>
                <a:chExt cx="861480" cy="329040"/>
              </a:xfrm>
            </p:grpSpPr>
            <p:sp>
              <p:nvSpPr>
                <p:cNvPr id="299" name=""/>
                <p:cNvSpPr/>
                <p:nvPr/>
              </p:nvSpPr>
              <p:spPr>
                <a:xfrm rot="6024600">
                  <a:off x="1038600" y="6391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6024600">
                  <a:off x="575640" y="62654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492120" y="6038640"/>
              <a:ext cx="771840" cy="929160"/>
              <a:chOff x="492120" y="6038640"/>
              <a:chExt cx="771840" cy="9291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492120" y="6194520"/>
                <a:ext cx="771840" cy="616320"/>
                <a:chOff x="492120" y="6194520"/>
                <a:chExt cx="771840" cy="616320"/>
              </a:xfrm>
            </p:grpSpPr>
            <p:sp>
              <p:nvSpPr>
                <p:cNvPr id="303" name=""/>
                <p:cNvSpPr/>
                <p:nvPr/>
              </p:nvSpPr>
              <p:spPr>
                <a:xfrm rot="18183600">
                  <a:off x="620280" y="616536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8183600">
                  <a:off x="999000" y="64594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73840" y="6038640"/>
                <a:ext cx="614160" cy="929160"/>
                <a:chOff x="573840" y="6038640"/>
                <a:chExt cx="614160" cy="929160"/>
              </a:xfrm>
            </p:grpSpPr>
            <p:sp>
              <p:nvSpPr>
                <p:cNvPr id="306" name=""/>
                <p:cNvSpPr/>
                <p:nvPr/>
              </p:nvSpPr>
              <p:spPr>
                <a:xfrm rot="1983000">
                  <a:off x="958320" y="60314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983000">
                  <a:off x="691560" y="65095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799200" y="6390000"/>
              <a:ext cx="160560" cy="2084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-57240" y="2686320"/>
            <a:ext cx="925920" cy="1045440"/>
            <a:chOff x="-57240" y="2686320"/>
            <a:chExt cx="925920" cy="1045440"/>
          </a:xfrm>
        </p:grpSpPr>
        <p:grpSp>
          <p:nvGrpSpPr>
            <p:cNvPr id="310" name=""/>
            <p:cNvGrpSpPr/>
            <p:nvPr/>
          </p:nvGrpSpPr>
          <p:grpSpPr>
            <a:xfrm>
              <a:off x="-11160" y="2737080"/>
              <a:ext cx="822240" cy="983520"/>
              <a:chOff x="-11160" y="2737080"/>
              <a:chExt cx="822240" cy="9835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58040" y="2737080"/>
                <a:ext cx="482760" cy="983520"/>
                <a:chOff x="158040" y="2737080"/>
                <a:chExt cx="482760" cy="983520"/>
              </a:xfrm>
            </p:grpSpPr>
            <p:sp>
              <p:nvSpPr>
                <p:cNvPr id="312" name=""/>
                <p:cNvSpPr/>
                <p:nvPr/>
              </p:nvSpPr>
              <p:spPr>
                <a:xfrm rot="1454400">
                  <a:off x="438480" y="27392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454400">
                  <a:off x="248400" y="3252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-11160" y="2975760"/>
                <a:ext cx="822240" cy="513360"/>
                <a:chOff x="-11160" y="2975760"/>
                <a:chExt cx="822240" cy="513360"/>
              </a:xfrm>
            </p:grpSpPr>
            <p:sp>
              <p:nvSpPr>
                <p:cNvPr id="315" name=""/>
                <p:cNvSpPr/>
                <p:nvPr/>
              </p:nvSpPr>
              <p:spPr>
                <a:xfrm rot="6854400">
                  <a:off x="541080" y="31586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6854400">
                  <a:off x="121680" y="2926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-57240" y="2801160"/>
              <a:ext cx="925920" cy="839520"/>
              <a:chOff x="-57240" y="2801160"/>
              <a:chExt cx="925920" cy="8395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57320" y="2801160"/>
                <a:ext cx="491400" cy="839520"/>
                <a:chOff x="157320" y="2801160"/>
                <a:chExt cx="491400" cy="839520"/>
              </a:xfrm>
            </p:grpSpPr>
            <p:sp>
              <p:nvSpPr>
                <p:cNvPr id="319" name=""/>
                <p:cNvSpPr/>
                <p:nvPr/>
              </p:nvSpPr>
              <p:spPr>
                <a:xfrm rot="19905600">
                  <a:off x="239040" y="28108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9905600">
                  <a:off x="430200" y="3250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-57240" y="2917800"/>
                <a:ext cx="925920" cy="609840"/>
                <a:chOff x="-57240" y="2917800"/>
                <a:chExt cx="925920" cy="609840"/>
              </a:xfrm>
            </p:grpSpPr>
            <p:sp>
              <p:nvSpPr>
                <p:cNvPr id="322" name=""/>
                <p:cNvSpPr/>
                <p:nvPr/>
              </p:nvSpPr>
              <p:spPr>
                <a:xfrm rot="3705600">
                  <a:off x="581400" y="284436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3705600">
                  <a:off x="117720" y="3135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-30960" y="2686320"/>
              <a:ext cx="872280" cy="1013400"/>
              <a:chOff x="-30960" y="2686320"/>
              <a:chExt cx="872280" cy="10134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273240" y="2686320"/>
                <a:ext cx="258840" cy="1013400"/>
                <a:chOff x="273240" y="2686320"/>
                <a:chExt cx="258840" cy="1013400"/>
              </a:xfrm>
            </p:grpSpPr>
            <p:sp>
              <p:nvSpPr>
                <p:cNvPr id="326" name=""/>
                <p:cNvSpPr/>
                <p:nvPr/>
              </p:nvSpPr>
              <p:spPr>
                <a:xfrm rot="21224400">
                  <a:off x="298080" y="26910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21224400">
                  <a:off x="394920" y="32299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-30960" y="3101040"/>
                <a:ext cx="872280" cy="190080"/>
                <a:chOff x="-30960" y="3101040"/>
                <a:chExt cx="872280" cy="190080"/>
              </a:xfrm>
            </p:grpSpPr>
            <p:sp>
              <p:nvSpPr>
                <p:cNvPr id="329" name=""/>
                <p:cNvSpPr/>
                <p:nvPr/>
              </p:nvSpPr>
              <p:spPr>
                <a:xfrm rot="5023800">
                  <a:off x="576000" y="29995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5023800">
                  <a:off x="96840" y="30121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8000" y="2787480"/>
              <a:ext cx="775800" cy="812880"/>
              <a:chOff x="18000" y="2787480"/>
              <a:chExt cx="775800" cy="81288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8760" y="2824200"/>
                <a:ext cx="668520" cy="737640"/>
                <a:chOff x="68760" y="2824200"/>
                <a:chExt cx="668520" cy="737640"/>
              </a:xfrm>
            </p:grpSpPr>
            <p:sp>
              <p:nvSpPr>
                <p:cNvPr id="333" name=""/>
                <p:cNvSpPr/>
                <p:nvPr/>
              </p:nvSpPr>
              <p:spPr>
                <a:xfrm rot="18944400">
                  <a:off x="181800" y="28177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944400">
                  <a:off x="487080" y="3187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8000" y="2787480"/>
                <a:ext cx="775800" cy="812880"/>
                <a:chOff x="18000" y="2787480"/>
                <a:chExt cx="775800" cy="812880"/>
              </a:xfrm>
            </p:grpSpPr>
            <p:sp>
              <p:nvSpPr>
                <p:cNvPr id="336" name=""/>
                <p:cNvSpPr/>
                <p:nvPr/>
              </p:nvSpPr>
              <p:spPr>
                <a:xfrm rot="2743800">
                  <a:off x="532440" y="275688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743800">
                  <a:off x="167400" y="31651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-29880" y="2710080"/>
              <a:ext cx="861480" cy="1021680"/>
              <a:chOff x="-29880" y="2710080"/>
              <a:chExt cx="861480" cy="10216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71440" y="2710080"/>
                <a:ext cx="255600" cy="1021680"/>
                <a:chOff x="271440" y="2710080"/>
                <a:chExt cx="255600" cy="1021680"/>
              </a:xfrm>
            </p:grpSpPr>
            <p:sp>
              <p:nvSpPr>
                <p:cNvPr id="340" name=""/>
                <p:cNvSpPr/>
                <p:nvPr/>
              </p:nvSpPr>
              <p:spPr>
                <a:xfrm rot="624000">
                  <a:off x="374040" y="27162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624000">
                  <a:off x="312120" y="326016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-29880" y="3060000"/>
                <a:ext cx="861480" cy="329040"/>
                <a:chOff x="-29880" y="3060000"/>
                <a:chExt cx="861480" cy="329040"/>
              </a:xfrm>
            </p:grpSpPr>
            <p:sp>
              <p:nvSpPr>
                <p:cNvPr id="343" name=""/>
                <p:cNvSpPr/>
                <p:nvPr/>
              </p:nvSpPr>
              <p:spPr>
                <a:xfrm rot="6024600">
                  <a:off x="563760" y="3097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6024600">
                  <a:off x="100800" y="29714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17280" y="2744640"/>
              <a:ext cx="771840" cy="929160"/>
              <a:chOff x="17280" y="2744640"/>
              <a:chExt cx="771840" cy="9291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7280" y="2900520"/>
                <a:ext cx="771840" cy="616320"/>
                <a:chOff x="17280" y="2900520"/>
                <a:chExt cx="771840" cy="616320"/>
              </a:xfrm>
            </p:grpSpPr>
            <p:sp>
              <p:nvSpPr>
                <p:cNvPr id="347" name=""/>
                <p:cNvSpPr/>
                <p:nvPr/>
              </p:nvSpPr>
              <p:spPr>
                <a:xfrm rot="18183600">
                  <a:off x="145440" y="287136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183600">
                  <a:off x="524160" y="31654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99000" y="2744640"/>
                <a:ext cx="614160" cy="929160"/>
                <a:chOff x="99000" y="2744640"/>
                <a:chExt cx="614160" cy="929160"/>
              </a:xfrm>
            </p:grpSpPr>
            <p:sp>
              <p:nvSpPr>
                <p:cNvPr id="350" name=""/>
                <p:cNvSpPr/>
                <p:nvPr/>
              </p:nvSpPr>
              <p:spPr>
                <a:xfrm rot="1983000">
                  <a:off x="483480" y="27374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983000">
                  <a:off x="216720" y="32155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324360" y="3096000"/>
              <a:ext cx="160560" cy="2084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166920" y="1243080"/>
            <a:ext cx="1131840" cy="1061640"/>
            <a:chOff x="3166920" y="1243080"/>
            <a:chExt cx="1131840" cy="1061640"/>
          </a:xfrm>
        </p:grpSpPr>
        <p:sp>
          <p:nvSpPr>
            <p:cNvPr id="354" name=""/>
            <p:cNvSpPr/>
            <p:nvPr/>
          </p:nvSpPr>
          <p:spPr>
            <a:xfrm>
              <a:off x="3268800" y="1351440"/>
              <a:ext cx="1029960" cy="953280"/>
            </a:xfrm>
            <a:custGeom>
              <a:avLst/>
              <a:gdLst/>
              <a:ahLst/>
              <a:rect l="l" t="t" r="r" b="b"/>
              <a:pathLst>
                <a:path w="728" h="632">
                  <a:moveTo>
                    <a:pt x="728" y="632"/>
                  </a:moveTo>
                  <a:cubicBezTo>
                    <a:pt x="675" y="564"/>
                    <a:pt x="529" y="329"/>
                    <a:pt x="408" y="224"/>
                  </a:cubicBezTo>
                  <a:cubicBezTo>
                    <a:pt x="287" y="119"/>
                    <a:pt x="85" y="47"/>
                    <a:pt x="0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66920" y="1243080"/>
              <a:ext cx="147240" cy="1447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07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863960" y="1243080"/>
            <a:ext cx="1131840" cy="1061640"/>
            <a:chOff x="4863960" y="1243080"/>
            <a:chExt cx="1131840" cy="1061640"/>
          </a:xfrm>
        </p:grpSpPr>
        <p:sp>
          <p:nvSpPr>
            <p:cNvPr id="357" name=""/>
            <p:cNvSpPr/>
            <p:nvPr/>
          </p:nvSpPr>
          <p:spPr>
            <a:xfrm flipH="1">
              <a:off x="4863600" y="1351440"/>
              <a:ext cx="1029960" cy="953280"/>
            </a:xfrm>
            <a:custGeom>
              <a:avLst/>
              <a:gdLst/>
              <a:ahLst/>
              <a:rect l="l" t="t" r="r" b="b"/>
              <a:pathLst>
                <a:path w="728" h="632">
                  <a:moveTo>
                    <a:pt x="728" y="632"/>
                  </a:moveTo>
                  <a:cubicBezTo>
                    <a:pt x="675" y="564"/>
                    <a:pt x="529" y="329"/>
                    <a:pt x="408" y="224"/>
                  </a:cubicBezTo>
                  <a:cubicBezTo>
                    <a:pt x="287" y="119"/>
                    <a:pt x="85" y="47"/>
                    <a:pt x="0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848200" y="1243080"/>
              <a:ext cx="147240" cy="1447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07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342828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Cycle de Projet</a:t>
            </a: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362320" y="304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Cycle de projet / cycle des opérat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1523880"/>
            <a:ext cx="25146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dre politiqu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gramm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434340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5943600"/>
            <a:ext cx="213372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inancement/ Engage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4419720"/>
            <a:ext cx="21333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mulation/ Instruc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895480"/>
            <a:ext cx="213336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2819520"/>
            <a:ext cx="21333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valuation &amp; Audi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91480" y="1859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4551600">
            <a:off x="4012920" y="4375440"/>
            <a:ext cx="1834560" cy="21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96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963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1523880" y="4279680"/>
            <a:ext cx="3200040" cy="20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1" y="99"/>
                </a:moveTo>
                <a:arcTo wR="10800" hR="10800" stAng="-4933651" swAng="5097695"/>
                <a:lnTo>
                  <a:pt x="10800" y="10800"/>
                </a:lnTo>
                <a:close/>
              </a:path>
              <a:path fill="none" w="21600" h="21600">
                <a:moveTo>
                  <a:pt x="12261" y="99"/>
                </a:moveTo>
                <a:arcTo wR="10800" hR="10800" stAng="-4933651" swAng="509769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450200">
            <a:off x="1352160" y="1917720"/>
            <a:ext cx="2288880" cy="18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02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020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65760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58128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3124080"/>
            <a:ext cx="22100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72520" y="3352680"/>
            <a:ext cx="1442880" cy="1447920"/>
          </a:xfrm>
          <a:prstGeom prst="diamond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3825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écision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00800" y="3048120"/>
            <a:ext cx="1218960" cy="147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6703200">
            <a:off x="6409440" y="3839760"/>
            <a:ext cx="1992960" cy="80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49528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7339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25780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2209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  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1337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ation   ex-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1066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du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0" y="3352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2362320"/>
            <a:ext cx="152388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876920" y="22860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Documents par ph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1523880"/>
            <a:ext cx="25146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dre Politique / Programm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434340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5943600"/>
            <a:ext cx="213336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nancement/ Engage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419720"/>
            <a:ext cx="213372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mulation/ Instruc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2895480"/>
            <a:ext cx="21337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4724280"/>
            <a:ext cx="190476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opéra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886200"/>
            <a:ext cx="190512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 de suivi / 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5105520"/>
            <a:ext cx="1905120" cy="9903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tude de fai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86600" y="2209680"/>
            <a:ext cx="1905120" cy="9907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tude de préfai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133720"/>
            <a:ext cx="1905120" cy="7617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1066680"/>
            <a:ext cx="190476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que 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2819520"/>
            <a:ext cx="213372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Évaluation &amp; Audi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200400"/>
            <a:ext cx="190512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960" y="1859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4551600">
            <a:off x="4622400" y="4375440"/>
            <a:ext cx="1834560" cy="21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96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963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2133720" y="4279680"/>
            <a:ext cx="3200040" cy="20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1" y="99"/>
                </a:moveTo>
                <a:arcTo wR="10800" hR="10800" stAng="-4933651" swAng="5097695"/>
                <a:lnTo>
                  <a:pt x="10800" y="10800"/>
                </a:lnTo>
                <a:close/>
              </a:path>
              <a:path fill="none" w="21600" h="21600">
                <a:moveTo>
                  <a:pt x="12261" y="99"/>
                </a:moveTo>
                <a:arcTo wR="10800" hR="10800" stAng="-4933651" swAng="509769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6450200">
            <a:off x="1962000" y="1917360"/>
            <a:ext cx="2288880" cy="18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02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020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358128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124080"/>
            <a:ext cx="22096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990720"/>
            <a:ext cx="1904760" cy="7617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ification stratég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3962520"/>
            <a:ext cx="1905120" cy="10666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de projet (CL, bud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715000"/>
            <a:ext cx="1905120" cy="8380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 de fin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1447920"/>
            <a:ext cx="2666880" cy="114300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am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66880" y="1447920"/>
            <a:ext cx="647712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Prise en compte des indicateurs socio-économ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Revue des priorités nationales et des do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Recherche d'un consensus sur les secteurs à choisir et le focus de l'aide au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590920"/>
            <a:ext cx="2666880" cy="8380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2590920"/>
            <a:ext cx="6477120" cy="8380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Sélections des interventions stratég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Choix des interventions à soumettre à des étude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429000"/>
            <a:ext cx="2666880" cy="114300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3429000"/>
            <a:ext cx="647712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Conduite de l'étude de 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Précisions sur l' idée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Préparation de la proposition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Exame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5181480"/>
            <a:ext cx="2666880" cy="83844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ise en œuv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5181480"/>
            <a:ext cx="6477120" cy="83844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Mise au concours et attribution du mar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Mobilisation et  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6019920"/>
            <a:ext cx="2666880" cy="8380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66880" y="6019920"/>
            <a:ext cx="6477120" cy="8380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Analyse des effets et de l'impact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Recommandations sur l'orientation de projets futurs dans le secteur conce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152280"/>
            <a:ext cx="693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Activités par  phase / éta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990720"/>
            <a:ext cx="2666880" cy="457200"/>
          </a:xfrm>
          <a:prstGeom prst="rect">
            <a:avLst/>
          </a:prstGeom>
          <a:solidFill>
            <a:srgbClr val="ffcc99">
              <a:alpha val="9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990720"/>
            <a:ext cx="6477120" cy="457200"/>
          </a:xfrm>
          <a:prstGeom prst="rect">
            <a:avLst/>
          </a:prstGeom>
          <a:solidFill>
            <a:srgbClr val="ffcc99">
              <a:alpha val="7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3300af"/>
                </a:solidFill>
                <a:latin typeface="Arial"/>
              </a:rPr>
              <a:t>Activités cl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4572000"/>
            <a:ext cx="2666880" cy="6094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nanc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4572000"/>
            <a:ext cx="6477120" cy="6094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écision financière de la part du donateur  et du pays partenair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p</cp:lastModifiedBy>
  <dcterms:modified xsi:type="dcterms:W3CDTF">2009-09-29T07:37:11Z</dcterms:modified>
  <cp:revision>1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